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A3E-AF56-4CB1-8E83-B71CFFCC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517-6024-4C3E-9026-F68E04ED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AC9A-EB15-4A8B-9AFA-AF01AB9D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9B0-2076-464F-9ECB-47BA3323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A907-0370-494E-93FB-4C7FF0A7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D0E5-6565-424C-8FF6-8DEE69A5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2062-EE22-4C5D-9F15-5EADC029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8A3A6-35FD-4BE6-92EC-C11E21D7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450A-1E2D-44EC-B598-207E724D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FAA4-A7A7-45CA-BCE4-C4921038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CD19-0C5F-4931-8182-AB08C20D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34A-3481-48E1-9AAD-A2E9685D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3D1E-AEEF-403D-BE2E-428D1A8D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CF048-71C8-4B17-AA5E-2467B4AA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358D-06BB-491A-8D53-1867187D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B56A-DF03-42AE-A539-3F0DC4FD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FAAE-6AD7-4FD5-B524-9790DA63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08CB0-A406-4A8A-8376-BB6B354B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FA74B-4599-43A3-8F5C-E6208026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7711-A40C-4DEC-A984-CA12B7BC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4239-F0D5-42DF-A18F-70501C57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6DF18-1A8A-4070-93BA-58D5032A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172E-1A78-4F43-929B-29CD6374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C681A-F655-4266-B1D2-7CCC0EF3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113B-F100-40AA-AA3D-7F6026CD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4628-197C-4154-B4AB-875C0CC1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86F7B-F760-4BB5-8EAA-F235D1AD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A8626-41A1-4A8B-A5AC-E0D818E3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75662-017E-420C-A5C2-331F5DC9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4A2C1-1549-48B4-8291-932D0A91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EA85B-F4DD-4143-997A-6B3CFF1F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D82FF-D81B-4777-A806-AACCEE56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E04CA-6008-4EDB-8DB0-F73EC25C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C9D-C3E8-4F8E-A37A-96EE39CE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66B06-CC83-4DE9-81FE-A53805B5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57448-821B-40FE-8237-C4A3308D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95A5-5E7B-4877-8F6D-094D0B0A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8894E-BA08-4525-B971-56E0A70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6F9C-D778-436D-846A-5A714BD4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12BB3-35E6-4D4D-9CEB-74E97F03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4F596-ADD8-40F5-A0D0-EE8081CE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EF9B5-3031-40B9-A5FD-73522926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F826E-1D98-4000-B95E-F5EC8699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44DE-3802-452D-B224-3509DA54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4E64-B477-4356-9F0C-3BAAD14C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0058-6279-49BA-AA53-97158FC1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A6F6-4B03-4F2A-8447-9F042D50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277-2DA2-44D5-A6DB-5A802B6D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8149-4DEA-4AA8-AF28-5689801E4DF8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EB02-76FF-46D0-9D7E-2EA4181A0477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D52C-53E8-4ED6-A3D6-2930BA908C9F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2B52-83E6-4D81-8EA1-EB104A517D93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Testing Tika Format Parser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is is a test document to ensure that we (naming no names) hasn't broken the Tika format parser ag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trangely it seems that if Tika is broken then the GATE document is created without </a:t>
            </a:r>
            <a:r>
              <a:rPr b="0" lang="en-GB" sz="2600" spc="-1" strike="noStrike">
                <a:solidFill>
                  <a:srgbClr val="ff0000"/>
                </a:solidFill>
                <a:latin typeface="Constantia"/>
              </a:rPr>
              <a:t>error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but with no content which is a </a:t>
            </a:r>
            <a:r>
              <a:rPr b="0" i="1" lang="en-GB" sz="2600" spc="-1" strike="noStrike">
                <a:solidFill>
                  <a:srgbClr val="000000"/>
                </a:solidFill>
                <a:latin typeface="Constantia"/>
              </a:rPr>
              <a:t>bit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f a pai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3:24:47Z</dcterms:created>
  <dc:creator>Mark A. Greenwood</dc:creator>
  <dc:description/>
  <dc:language>en-US</dc:language>
  <cp:lastModifiedBy>Mark A. Greenwood</cp:lastModifiedBy>
  <dcterms:modified xsi:type="dcterms:W3CDTF">2012-01-16T13:26:56Z</dcterms:modified>
  <cp:revision>1</cp:revision>
  <dc:subject/>
  <dc:title>Testing Tika Format Parsers</dc:title>
</cp:coreProperties>
</file>