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E907-DFA0-4CFB-BA1D-9269AECD4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7021-3364-4AE3-9A77-A1F859D76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293D-FA42-4479-B613-79A50C3D7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02F6-99FA-4BB6-9E2C-71561C23E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4E6E-B402-45DB-879C-F3BAA203B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81BF-4A70-4DDB-8469-E72BC0558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6A98-D102-4150-9F1B-A12159161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D220-D106-4E7F-8AFF-A7AE52D64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A220-E41D-4119-855D-BAA072944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4F0C-B219-4396-81F7-AE8E16BF5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8B94-8E18-4A5B-B974-1F2D25F30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2E3B-29B2-4D16-B5BB-35E5D5D79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1DE0E-7170-40F9-AE18-0E0DA5E1FD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66680" y="3498840"/>
          <a:ext cx="3048120" cy="13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498840"/>
                    <a:ext cx="30481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228600" y="533520"/>
            <a:ext cx="2361960" cy="2285640"/>
            <a:chOff x="228600" y="533520"/>
            <a:chExt cx="2361960" cy="2285640"/>
          </a:xfrm>
        </p:grpSpPr>
        <p:grpSp>
          <p:nvGrpSpPr>
            <p:cNvPr id="44" name=""/>
            <p:cNvGrpSpPr/>
            <p:nvPr/>
          </p:nvGrpSpPr>
          <p:grpSpPr>
            <a:xfrm>
              <a:off x="228600" y="533520"/>
              <a:ext cx="2361600" cy="2220120"/>
              <a:chOff x="228600" y="533520"/>
              <a:chExt cx="2361600" cy="2220120"/>
            </a:xfrm>
          </p:grpSpPr>
          <p:graphicFrame>
            <p:nvGraphicFramePr>
              <p:cNvPr id="45" name=""/>
              <p:cNvGraphicFramePr/>
              <p:nvPr/>
            </p:nvGraphicFramePr>
            <p:xfrm>
              <a:off x="228600" y="533520"/>
              <a:ext cx="1398960" cy="12333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28600" y="533520"/>
                        <a:ext cx="1398960" cy="123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7" name=""/>
              <p:cNvGraphicFramePr/>
              <p:nvPr/>
            </p:nvGraphicFramePr>
            <p:xfrm>
              <a:off x="639000" y="740880"/>
              <a:ext cx="1951200" cy="20127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8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39000" y="740880"/>
                        <a:ext cx="1951200" cy="201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9" name=""/>
            <p:cNvSpPr/>
            <p:nvPr/>
          </p:nvSpPr>
          <p:spPr>
            <a:xfrm>
              <a:off x="228600" y="533520"/>
              <a:ext cx="2361960" cy="228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0" name=""/>
          <p:cNvGraphicFramePr/>
          <p:nvPr/>
        </p:nvGraphicFramePr>
        <p:xfrm>
          <a:off x="5410080" y="4114800"/>
          <a:ext cx="1905120" cy="182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10080" y="4114800"/>
                    <a:ext cx="190512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338640" y="3733920"/>
            <a:ext cx="205740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29000" y="44496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884760" y="685800"/>
          <a:ext cx="1815840" cy="182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4760" y="685800"/>
                    <a:ext cx="18158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976320" y="3352680"/>
            <a:ext cx="327672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62320" y="3581280"/>
            <a:ext cx="213372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67440" y="3886200"/>
            <a:ext cx="18288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609480"/>
            <a:ext cx="1967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477120" y="808200"/>
          <a:ext cx="2209680" cy="1477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77120" y="808200"/>
                    <a:ext cx="220968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338880" y="685800"/>
            <a:ext cx="25002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1371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553080" y="2362320"/>
            <a:ext cx="114300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400440" y="4876920"/>
            <a:ext cx="305280" cy="228600"/>
            <a:chOff x="6400440" y="4876920"/>
            <a:chExt cx="305280" cy="228600"/>
          </a:xfrm>
        </p:grpSpPr>
        <p:sp>
          <p:nvSpPr>
            <p:cNvPr id="66" name=""/>
            <p:cNvSpPr/>
            <p:nvPr/>
          </p:nvSpPr>
          <p:spPr>
            <a:xfrm>
              <a:off x="6400800" y="4876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0572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6400440" y="51055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43828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838080"/>
            <a:ext cx="312408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2209680"/>
            <a:ext cx="214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980720" y="2209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0760" y="30492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35640" y="312408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26760" y="36576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6640" y="4572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219320" y="838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106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066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20:11:25Z</dcterms:created>
  <dc:creator>Tom Fennelly</dc:creator>
  <dc:description/>
  <dc:language>en-US</dc:language>
  <cp:lastModifiedBy>Tom Fennelly</cp:lastModifiedBy>
  <dcterms:modified xsi:type="dcterms:W3CDTF">2005-07-01T16:24:15Z</dcterms:modified>
  <cp:revision>5</cp:revision>
  <dc:subject/>
  <dc:title>PowerPoint Presentation</dc:title>
</cp:coreProperties>
</file>