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9932-ECBF-440C-8AEF-8E43711AE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E350-7EAB-482B-9E29-A69620E8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ECD3-0AEC-4F5D-9086-0A622635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F3C-16AF-4DD5-87CA-E4DA2409A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2E04-A36A-4978-860B-AD793386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EDA3-97A7-4C3D-B6FB-05AB194DC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E4CA-5E99-43E6-9C40-0FAD895F1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B19-F688-49CC-8C08-8516FB04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D8FAB-00CA-425C-ABF7-3B9F1EC05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3700-286D-4740-A26D-616F9712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D320-6F01-4FE8-96FF-BD23205F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17BA-000D-4619-A985-C3C00E16E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7CC23-45E6-46EE-B228-BAE5C87019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66680" y="3498840"/>
          <a:ext cx="3048120" cy="13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498840"/>
                    <a:ext cx="3048120" cy="13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228600" y="533520"/>
            <a:ext cx="2361960" cy="2285640"/>
            <a:chOff x="228600" y="533520"/>
            <a:chExt cx="2361960" cy="2285640"/>
          </a:xfrm>
        </p:grpSpPr>
        <p:grpSp>
          <p:nvGrpSpPr>
            <p:cNvPr id="44" name=""/>
            <p:cNvGrpSpPr/>
            <p:nvPr/>
          </p:nvGrpSpPr>
          <p:grpSpPr>
            <a:xfrm>
              <a:off x="228600" y="533520"/>
              <a:ext cx="2361600" cy="2220120"/>
              <a:chOff x="228600" y="533520"/>
              <a:chExt cx="2361600" cy="2220120"/>
            </a:xfrm>
          </p:grpSpPr>
          <p:graphicFrame>
            <p:nvGraphicFramePr>
              <p:cNvPr id="45" name=""/>
              <p:cNvGraphicFramePr/>
              <p:nvPr/>
            </p:nvGraphicFramePr>
            <p:xfrm>
              <a:off x="228600" y="533520"/>
              <a:ext cx="1398960" cy="1233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28600" y="533520"/>
                        <a:ext cx="1398960" cy="12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47" name=""/>
              <p:cNvGraphicFramePr/>
              <p:nvPr/>
            </p:nvGraphicFramePr>
            <p:xfrm>
              <a:off x="639000" y="740880"/>
              <a:ext cx="1951200" cy="201276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48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639000" y="740880"/>
                        <a:ext cx="1951200" cy="2012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49" name=""/>
            <p:cNvSpPr/>
            <p:nvPr/>
          </p:nvSpPr>
          <p:spPr>
            <a:xfrm>
              <a:off x="228600" y="533520"/>
              <a:ext cx="2361960" cy="228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50" name=""/>
          <p:cNvGraphicFramePr/>
          <p:nvPr/>
        </p:nvGraphicFramePr>
        <p:xfrm>
          <a:off x="5410080" y="4114800"/>
          <a:ext cx="1905120" cy="18255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410080" y="4114800"/>
                    <a:ext cx="1905120" cy="18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3338640" y="3733920"/>
            <a:ext cx="2057400" cy="1295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44496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884760" y="685800"/>
          <a:ext cx="1815840" cy="182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84760" y="685800"/>
                    <a:ext cx="181584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976320" y="3352680"/>
            <a:ext cx="327672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62320" y="3581280"/>
            <a:ext cx="213372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167440" y="3886200"/>
            <a:ext cx="1828800" cy="228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9880" y="609480"/>
            <a:ext cx="1967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477120" y="808200"/>
          <a:ext cx="2209680" cy="147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77120" y="808200"/>
                    <a:ext cx="2209680" cy="14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338880" y="685800"/>
            <a:ext cx="250020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13716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553080" y="2362320"/>
            <a:ext cx="11430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6400440" y="4876920"/>
            <a:ext cx="305280" cy="228600"/>
            <a:chOff x="6400440" y="4876920"/>
            <a:chExt cx="305280" cy="228600"/>
          </a:xfrm>
        </p:grpSpPr>
        <p:sp>
          <p:nvSpPr>
            <p:cNvPr id="66" name=""/>
            <p:cNvSpPr/>
            <p:nvPr/>
          </p:nvSpPr>
          <p:spPr>
            <a:xfrm>
              <a:off x="64008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705720" y="48769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6400440" y="51055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438280" y="1066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057400" y="838080"/>
            <a:ext cx="3124080" cy="3200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2209680"/>
            <a:ext cx="214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980720" y="2209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0760" y="30492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35640" y="312408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26760" y="36576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6640" y="4572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219320" y="8380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066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8T20:11:25Z</dcterms:created>
  <dc:creator>Tom Fennelly</dc:creator>
  <dc:description/>
  <dc:language>en-US</dc:language>
  <cp:lastModifiedBy>Tom Fennelly</cp:lastModifiedBy>
  <dcterms:modified xsi:type="dcterms:W3CDTF">2005-07-01T16:24:15Z</dcterms:modified>
  <cp:revision>5</cp:revision>
  <dc:subject/>
  <dc:title>PowerPoint Presentation</dc:title>
</cp:coreProperties>
</file>