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044096-3248-4249-908B-E12F0AAE93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3981D-3F5A-4DE6-AFD9-35EBD0762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E7513B-772C-4CA3-8794-15B615DCD2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183EB3-ED31-4DFB-B4E0-786AA4A5CB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AB83F-E9F3-4002-9764-5EBD94C46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E859B-4448-4689-B92E-8060CD096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CE4DC-AFD6-49D9-8D1E-C854D2F69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006CC-7FE5-426D-AFD2-B94DA3E6F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D2F12-CC91-4109-AD30-BFB6DEC58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A47B4-1276-49B0-8A94-76B56C532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FEDDD-B092-4986-86A7-6AC7718AE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3A89D-0BBA-4F2A-AD04-32EC64A72F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548C7-8DEE-450B-A13D-C36002679B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lkacon Software - The OpenCms expert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his is a test for the PowerPoint text extra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Some content her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LIDE 1: äöüÄÖÜß Lorem ipsum dolor sit amet, consectetuer adipiscing elit. Cras consequat urna quis diam. Sed convallis facilisis mauris. Quisque a nibh vel dolor viverra </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0000"/>
                </a:solidFill>
                <a:latin typeface="Arial"/>
              </a:rPr>
              <a:t>International chars: äöüÄÖÜß€</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spendisse wisi augue, vulputate ac, rutrum vel, malesuada quis, dolor. In eget ante. Fusce in metus at tortor imperdiet porttitor. Nam tellus eros, adipiscing id, aliquam in, aliquam ac, turpis. Sed in quam non tellus euismod consectetuer.</a:t>
            </a:r>
            <a:endParaRPr b="0" lang="en-US" sz="2800" spc="-1" strike="noStrike">
              <a:solidFill>
                <a:srgbClr val="000000"/>
              </a:solidFill>
              <a:latin typeface="Arial"/>
            </a:endParaRPr>
          </a:p>
        </p:txBody>
      </p:sp>
      <p:sp>
        <p:nvSpPr>
          <p:cNvPr id="45" name=""/>
          <p:cNvSpPr/>
          <p:nvPr/>
        </p:nvSpPr>
        <p:spPr>
          <a:xfrm>
            <a:off x="5489640" y="6095880"/>
            <a:ext cx="265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Some animated cont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ppt_x"/>
                                          </p:val>
                                        </p:tav>
                                        <p:tav tm="100000">
                                          <p:val>
                                            <p:strVal val="#ppt_x"/>
                                          </p:val>
                                        </p:tav>
                                      </p:tavLst>
                                    </p:anim>
                                    <p:anim calcmode="lin" valueType="num">
                                      <p:cBhvr additive="base">
                                        <p:cTn id="8"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nother slide</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IDE 2: Nam quis massa. In massa. Nunc felis. Nunc nonummy tincidunt ipsum. Pellentesque pulvinar. Nam neque urna, pretium in, commodo nec, vulputate rhoncus, erat. Nam erat lacus, blandit nec, tempor non, mollis vel, ante. Cras dignissim pharetra nibh. </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ff0000"/>
                </a:solidFill>
                <a:uFillTx/>
                <a:latin typeface="Arial"/>
              </a:rPr>
              <a:t>Some content there.</a:t>
            </a:r>
            <a:r>
              <a:rPr b="0" lang="en-GB" sz="2000" spc="-1" strike="noStrike">
                <a:solidFill>
                  <a:srgbClr val="ff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ail: test@test.or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rs: !”§$%&amp;/()=?{[]}\´`’&lt;&gt;|;:_,.-+#*’~@^°</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18n: äöüÄÖÜß éèáàúùóòíì</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abitur nisl felis, mattis porttitor, sodales vitae, posuere at, nisl. Duis justo sem, rutrum consectetuer, vestibulum ac, congue at, ante. Vestibulum ante ipsum primis in faucibus orci luctus et ultrices posuere cubilia Curae; Aenean mauris lacus, pellentesque in, ullamcorper vitae, aliquam vitae, quam. Cras gravida lorem nec pede. Nulla facilisi. Morbi hendrerit aliquam velit. Nulla id est. Nullam mattis facilisis arcu.</a:t>
            </a:r>
            <a:endParaRPr b="0" lang="en-US" sz="2000" spc="-1" strike="noStrike">
              <a:solidFill>
                <a:srgbClr val="000000"/>
              </a:solidFill>
              <a:latin typeface="Arial"/>
            </a:endParaRPr>
          </a:p>
        </p:txBody>
      </p:sp>
      <p:sp>
        <p:nvSpPr>
          <p:cNvPr id="48" name=""/>
          <p:cNvSpPr/>
          <p:nvPr/>
        </p:nvSpPr>
        <p:spPr>
          <a:xfrm>
            <a:off x="3889440" y="5867280"/>
            <a:ext cx="358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me content on a second shee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mph" presetID="8">
                                  <p:stCondLst>
                                    <p:cond delay="0"/>
                                  </p:stCondLst>
                                  <p:childTnLst>
                                    <p:animRot by="21600000">
                                      <p:cBhvr>
                                        <p:cTn id="14" dur="2000" fill="hold"/>
                                        <p:tgtEl>
                                          <p:spTgt spid="48"/>
                                        </p:tgtEl>
                                        <p:attrNameLst>
                                          <p:attrName>r</p:attrName>
                                        </p:attrNameLst>
                                      </p:cBhvr>
                                    </p:animRot>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4" presetSubtype="2">
                                  <p:stCondLst>
                                    <p:cond delay="0"/>
                                  </p:stCondLst>
                                  <p:childTnLst>
                                    <p:anim calcmode="lin" valueType="num" to="1.5">
                                      <p:cBhvr additive="repl">
                                        <p:cTn id="18" dur="2000" fill="hold"/>
                                        <p:tgtEl>
                                          <p:spTgt spid="48"/>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content on the third sheet.</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LIDE 3: Morbi enim augue, iaculis sit amet, bibendum vitae, ornare vel, ligula. Vivamus a lacus. Nulla facilisi. Phasellus vitae eros. Pellentesque habitant morbi tristique senectus et netus et malesuada fames ac turpis egestas. Quisque dapibus arcu quis justo. Vestibulum vel leo. Nullam vel elit a nulla semper volutpat. Maecenas lectus libero, pellentesque sed, facilisis ac, ornare a, urna. Duis libero ligula, lobortis vitae, tincidunt sit amet, egestas non, risu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as consequat, mi ac interdum pulvinar, quam libero sagittis leo, pharetra cursus lectus nulla vitae mauris. Cras eu nibh. Cras turpis. Mauris luc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 EN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lexander Kandzior</dc:creator>
  <dc:description>This is the comment</dc:description>
  <cp:keywords>Key1 Key2</cp:keywords>
  <dc:language>en-US</dc:language>
  <cp:lastModifiedBy>Alexander Kandzior</cp:lastModifiedBy>
  <dcterms:modified xsi:type="dcterms:W3CDTF">2005-03-27T19:45:00Z</dcterms:modified>
  <cp:revision>13</cp:revision>
  <dc:subject>This is the subject</dc:subject>
  <dc:title>Alkacon Software - The OpenCms exper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