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0AB15-189D-40F1-9497-31769C085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E8598-8510-4C1E-9B13-D8E0E42D3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21817-1FE0-44EB-997B-64CD04EF1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B213D-3BCA-46A9-B33B-33B88AE8C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2ED25-304F-4EE3-BFC8-3811A3B2D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B75B7-4B26-4C16-AF1D-F660A285D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0CFD4-A573-40AD-99EC-881A5C2B5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3DE5C-F199-4614-BF33-76A8F0866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6162B-9D35-46A6-9D8B-5576ACDDB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46EE2-1750-4541-8614-C23AA33F2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DD089-C310-45B9-8C54-F3698559E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FA544-7539-49C2-ABC5-EB132EEA6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030D1-8D01-41D2-B00A-A0747811EE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5000" y="1042920"/>
            <a:ext cx="1403640" cy="439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clipse workben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ntaining plugi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76360" y="1773360"/>
            <a:ext cx="2887560" cy="5554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urier New"/>
              </a:rPr>
              <a:t>org.eclipse.ve.examples.customwidg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plugin contribu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urier New"/>
              </a:rPr>
              <a:t>customwidgetplugin.j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" name=""/>
          <p:cNvCxnSpPr>
            <a:stCxn id="41" idx="2"/>
            <a:endCxn id="42" idx="1"/>
          </p:cNvCxnSpPr>
          <p:nvPr/>
        </p:nvCxnSpPr>
        <p:spPr>
          <a:xfrm>
            <a:off x="1466640" y="1482840"/>
            <a:ext cx="10080" cy="568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585800" y="2994120"/>
            <a:ext cx="2440080" cy="21272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598840" y="2328840"/>
            <a:ext cx="0" cy="56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55640" y="2565360"/>
            <a:ext cx="2462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Test.Java openWith Visual Edi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32400" y="949320"/>
            <a:ext cx="0" cy="4495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72720" y="549360"/>
            <a:ext cx="11484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eclipse.exe JV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plugin si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788000" y="549360"/>
            <a:ext cx="1684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isual Editor target JV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untime si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210200" y="3452760"/>
            <a:ext cx="69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944960" y="2840040"/>
            <a:ext cx="1427400" cy="12762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Target VM inclu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urier New"/>
              </a:rPr>
              <a:t>customwidgets.j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based on the build pat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f the Java proj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2T14:32:03Z</dcterms:created>
  <dc:creator>IBM_USER</dc:creator>
  <dc:description/>
  <dc:language>en-US</dc:language>
  <cp:lastModifiedBy>Gili Mendel</cp:lastModifiedBy>
  <dcterms:modified xsi:type="dcterms:W3CDTF">2005-03-22T18:31:52Z</dcterms:modified>
  <cp:revision>4</cp:revision>
  <dc:subject/>
  <dc:title>Slide 1</dc:title>
</cp:coreProperties>
</file>