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048-B84D-4C46-AD7B-400CD891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C08-DC6E-4C91-A081-A45236B2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B1A-E490-46F7-B026-31408943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05B-52D7-449E-90BA-DC93CD58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B2D-C8AA-430D-BE48-CF3BCE94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E91-AFF7-4260-9C57-F9D7B486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565-2E5D-4045-BC88-7D0C19DF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376-B344-474D-BA1A-2D9EC178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696-EA2B-48C0-8F83-6FD6A443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B21-8B0A-4C93-B114-9FAE8450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526-1776-427F-92D0-5D26E00C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E20-7E3A-4E19-B0EE-B6F23656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6367-39FF-4468-9A3E-3FFFA0697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Calibri"/>
              </a:rPr>
              <a:t>ArchiCop – Develo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Generate solution files for selection of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MSBuild the selection of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Sanity check for selection of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Show projects &amp; edges with det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Show graph for selection of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Show summary (e.g. chart for selection of proj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Calibri"/>
              </a:rPr>
              <a:t>ArchiCop - Archit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Define a graph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Excel, Xml, Source,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Create a graph from graph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Cluster a grap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Filter a grap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Comapare two g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3"/>
          <p:cNvSpPr/>
          <p:nvPr/>
        </p:nvSpPr>
        <p:spPr>
          <a:xfrm>
            <a:off x="611280" y="836640"/>
            <a:ext cx="7848360" cy="647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5"/>
          <p:cNvSpPr/>
          <p:nvPr/>
        </p:nvSpPr>
        <p:spPr>
          <a:xfrm>
            <a:off x="611280" y="1557360"/>
            <a:ext cx="7848360" cy="3887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55640" y="1162080"/>
            <a:ext cx="863640" cy="2509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7f7f7f"/>
                </a:solidFill>
                <a:latin typeface="Calibri"/>
              </a:rPr>
              <a:t>Toolbar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692360" y="1162080"/>
            <a:ext cx="863640" cy="2509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7f7f7f"/>
                </a:solidFill>
                <a:latin typeface="Calibri"/>
              </a:rPr>
              <a:t>Toolba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627280" y="1162080"/>
            <a:ext cx="865080" cy="2509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7f7f7f"/>
                </a:solidFill>
                <a:latin typeface="Calibri"/>
              </a:rPr>
              <a:t>Toolba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300720" y="836640"/>
            <a:ext cx="719280" cy="212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7f7f7f"/>
                </a:solidFill>
                <a:uFillTx/>
                <a:latin typeface="Calibri"/>
              </a:rPr>
              <a:t>Sett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6985080" y="836640"/>
            <a:ext cx="718920" cy="212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7f7f7f"/>
                </a:solidFill>
                <a:uFillTx/>
                <a:latin typeface="Calibri"/>
              </a:rPr>
              <a:t>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7667640" y="836640"/>
            <a:ext cx="720720" cy="212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7f7f7f"/>
                </a:solidFill>
                <a:uFillTx/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3203640" y="1557360"/>
            <a:ext cx="2520720" cy="210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7f7f7f"/>
                </a:solidFill>
                <a:latin typeface="Calibri"/>
              </a:rPr>
              <a:t>Menubar Action &gt; Navbar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ounded Rectangle 20"/>
          <p:cNvSpPr/>
          <p:nvPr/>
        </p:nvSpPr>
        <p:spPr>
          <a:xfrm>
            <a:off x="755640" y="1811160"/>
            <a:ext cx="7488360" cy="34894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Calibri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6192720" y="727200"/>
            <a:ext cx="2195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ounded Rectangle 3"/>
          <p:cNvSpPr/>
          <p:nvPr/>
        </p:nvSpPr>
        <p:spPr>
          <a:xfrm>
            <a:off x="611280" y="836640"/>
            <a:ext cx="7848360" cy="647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55640" y="1162080"/>
            <a:ext cx="863640" cy="2509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7f7f7f"/>
                </a:solidFill>
                <a:latin typeface="Calibri"/>
              </a:rPr>
              <a:t>Toolbar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92360" y="1162080"/>
            <a:ext cx="863640" cy="2509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7f7f7f"/>
                </a:solidFill>
                <a:latin typeface="Calibri"/>
              </a:rPr>
              <a:t>Toolba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627280" y="1162080"/>
            <a:ext cx="865080" cy="2509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7f7f7f"/>
                </a:solidFill>
                <a:latin typeface="Calibri"/>
              </a:rPr>
              <a:t>Toolba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300720" y="836640"/>
            <a:ext cx="719280" cy="212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7f7f7f"/>
                </a:solidFill>
                <a:uFillTx/>
                <a:latin typeface="Calibri"/>
              </a:rPr>
              <a:t>Sett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985080" y="836640"/>
            <a:ext cx="718920" cy="212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7f7f7f"/>
                </a:solidFill>
                <a:uFillTx/>
                <a:latin typeface="Calibri"/>
              </a:rPr>
              <a:t>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7667640" y="836640"/>
            <a:ext cx="720720" cy="212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7f7f7f"/>
                </a:solidFill>
                <a:uFillTx/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647640" y="1057320"/>
            <a:ext cx="2987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ounded Rectangle 19"/>
          <p:cNvSpPr/>
          <p:nvPr/>
        </p:nvSpPr>
        <p:spPr>
          <a:xfrm>
            <a:off x="611280" y="1557360"/>
            <a:ext cx="7848360" cy="3887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ounded Rectangle 22"/>
          <p:cNvSpPr/>
          <p:nvPr/>
        </p:nvSpPr>
        <p:spPr>
          <a:xfrm>
            <a:off x="755640" y="1811160"/>
            <a:ext cx="7488360" cy="34894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Calibri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3203640" y="1557360"/>
            <a:ext cx="2232000" cy="210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7f7f7f"/>
                </a:solidFill>
                <a:latin typeface="Calibri"/>
              </a:rPr>
              <a:t>Toolbar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ounded Rectangle 3"/>
          <p:cNvSpPr/>
          <p:nvPr/>
        </p:nvSpPr>
        <p:spPr>
          <a:xfrm>
            <a:off x="611280" y="836640"/>
            <a:ext cx="7848360" cy="647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611280" y="1557360"/>
            <a:ext cx="1944720" cy="19429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2629080" y="1557360"/>
            <a:ext cx="5830560" cy="3887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611280" y="3573360"/>
            <a:ext cx="1944720" cy="1871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55640" y="1162080"/>
            <a:ext cx="863640" cy="2509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7f7f7f"/>
                </a:solidFill>
                <a:latin typeface="Calibri"/>
              </a:rPr>
              <a:t>Toolbar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692360" y="1162080"/>
            <a:ext cx="863640" cy="2509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7f7f7f"/>
                </a:solidFill>
                <a:latin typeface="Calibri"/>
              </a:rPr>
              <a:t>Toolba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2627280" y="1162080"/>
            <a:ext cx="865080" cy="2509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7f7f7f"/>
                </a:solidFill>
                <a:latin typeface="Calibri"/>
              </a:rPr>
              <a:t>Toolba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6300720" y="836640"/>
            <a:ext cx="719280" cy="212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7f7f7f"/>
                </a:solidFill>
                <a:uFillTx/>
                <a:latin typeface="Calibri"/>
              </a:rPr>
              <a:t>Sett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985080" y="836640"/>
            <a:ext cx="718920" cy="212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7f7f7f"/>
                </a:solidFill>
                <a:uFillTx/>
                <a:latin typeface="Calibri"/>
              </a:rPr>
              <a:t>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7667640" y="836640"/>
            <a:ext cx="720720" cy="212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7f7f7f"/>
                </a:solidFill>
                <a:uFillTx/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826920" y="3649680"/>
            <a:ext cx="1513080" cy="210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7f7f7f"/>
                </a:solidFill>
                <a:latin typeface="Calibri"/>
              </a:rPr>
              <a:t>Summary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826920" y="1557360"/>
            <a:ext cx="1513080" cy="210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7f7f7f"/>
                </a:solidFill>
                <a:latin typeface="Calibri"/>
              </a:rPr>
              <a:t>Toolbar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3203640" y="1557360"/>
            <a:ext cx="2232000" cy="210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7f7f7f"/>
                </a:solidFill>
                <a:latin typeface="Calibri"/>
              </a:rPr>
              <a:t>Toolbar Action &gt; Navbar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861840" y="1811160"/>
            <a:ext cx="1300320" cy="211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7f7f7f"/>
                </a:solidFill>
                <a:uFillTx/>
                <a:latin typeface="Calibri"/>
              </a:rPr>
              <a:t>Navbar ac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861840" y="2081160"/>
            <a:ext cx="1300320" cy="212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7f7f7f"/>
                </a:solidFill>
                <a:uFillTx/>
                <a:latin typeface="Calibri"/>
              </a:rPr>
              <a:t>Navbar action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861840" y="2352600"/>
            <a:ext cx="1300320" cy="212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7f7f7f"/>
                </a:solidFill>
                <a:uFillTx/>
                <a:latin typeface="Calibri"/>
              </a:rPr>
              <a:t>Navbar acti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20"/>
          <p:cNvSpPr/>
          <p:nvPr/>
        </p:nvSpPr>
        <p:spPr>
          <a:xfrm>
            <a:off x="2843280" y="1811160"/>
            <a:ext cx="5400720" cy="34894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Calibri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647640" y="1057320"/>
            <a:ext cx="2987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541440" y="404640"/>
            <a:ext cx="998388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MainWindowViewMod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ObservableCollection&lt;MenubarCommandViewModel&gt; MenubarCommands { get; set; 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ObservableCollection&lt;ToolbarCommandViewModel&gt; ToolbarCommands { get; set; 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WorkspaceViewModel MainContentPane { get; set; 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CommandViewModel : ViewModelBas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Command Command { get; set; 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SingleWorkspaceViewModel : WorkspaceViewMod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TripleWorkspaceViewModel : WorkspaceViewMod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WorkspaceViewModel ToolbarPane { get; set; 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WorkspaceViewModel SummaryPane { get; set; 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WorkspaceViewModel MainContentPane { get; set; 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WorkspaceViewModel : ViewModelBase, INotifyPropertyChange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event PropertyChangedEventHandler PropertyChanged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ViewModelBas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DisplayText { get; set; }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ToolbarCommandViewModel : CommandViewMod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ImageSource { get; set; 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MenubarCommandViewModel : CommandViewMod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07:05:51Z</dcterms:created>
  <dc:creator>Bakopanos, Costas {DPTI~Rotkreuz-Tro}</dc:creator>
  <dc:description/>
  <dc:language>en-US</dc:language>
  <cp:lastModifiedBy>Bakopanos, Costas {DPTI~Rotkreuz-Tro}</cp:lastModifiedBy>
  <dcterms:modified xsi:type="dcterms:W3CDTF">2013-06-12T12:36:47Z</dcterms:modified>
  <cp:revision>12</cp:revision>
  <dc:subject/>
  <dc:title>PowerPoint Presentation</dc:title>
</cp:coreProperties>
</file>