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42EB-4833-4327-92AB-8E7418159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71F0-E311-49A8-B6DA-F45D3A42E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935-39A1-412C-A988-1D48133A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B25-F727-40F5-99D7-B227055E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A44-6988-4ACF-9FE8-259FAA19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F39-BF1C-43E7-9C96-F06EA256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31C-ADAE-4DD4-B93C-38BC365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E84-14D9-4E80-99EF-EFF343E1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E83-C2BA-4336-A42F-16B94352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65D-4EDF-49C8-84C1-9ACA77AB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15B-ACA7-4B0F-9EE9-35BD45EB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AF9-40C8-4A17-9160-671E80E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2CE-8166-438D-BF0A-F89BFB8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A72-C4C8-4513-8247-92D9259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FCCF-A484-4847-9D64-917040119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Feedboo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Feedbook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ocial networ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A little about Scr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.NET Technology used (WPF, LINQ …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Web F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Pod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Feedbook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Feed Disco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Twitter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Podcast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Multiple Feed Reading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Blog to C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Twitter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Buzz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Media P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ocial networ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Twi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ogle Buz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ogle Side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ogle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Feed link scr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Image scr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Youtube Scr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.NET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XLINQ, LINQ, LINQ to CrystalM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Extended Background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HTML to XA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DataBinding Observable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Asynchronous Collection Mod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eb F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SS (0.90, 0.91, 1.0, … 2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Atom 1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Exten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eb4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b4e3"/>
                </a:solidFill>
                <a:latin typeface="Calibri"/>
              </a:rPr>
              <a:t>Dublin 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eb4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b4e3"/>
                </a:solidFill>
                <a:latin typeface="Calibri"/>
              </a:rPr>
              <a:t>Synd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eb4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b4e3"/>
                </a:solidFill>
                <a:latin typeface="Calibri"/>
              </a:rPr>
              <a:t>Portable Cont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eb4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b4e3"/>
                </a:solidFill>
                <a:latin typeface="Calibri"/>
              </a:rPr>
              <a:t>Activity Strea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eb4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b4e3"/>
                </a:solidFill>
                <a:latin typeface="Calibri"/>
              </a:rPr>
              <a:t>Google Buz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dca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I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Audi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8:08:17Z</dcterms:created>
  <dc:creator>Faraz Masood</dc:creator>
  <dc:description/>
  <dc:language>en-US</dc:language>
  <cp:lastModifiedBy>Faraz Masood</cp:lastModifiedBy>
  <dcterms:modified xsi:type="dcterms:W3CDTF">2010-06-22T11:28:03Z</dcterms:modified>
  <cp:revision>21</cp:revision>
  <dc:subject/>
  <dc:title>Feedbook!</dc:title>
</cp:coreProperties>
</file>