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media/image6.pct" ContentType="image/x-pict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B01-F902-47A0-ADAA-5D78B01F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101-0509-4B2A-A477-D56EEFC3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C29-1752-41EA-80D1-9AAB9268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D64-8638-41F3-8F7F-E240973D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844-8FFE-42BA-B21C-8D179D03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4E8-1E4A-4BBD-9BFE-0DEA85F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4E3-DE4B-4B0E-9805-EC4AB04D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6891-E31A-4D00-8849-C0A0AA1D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F951-61B0-477C-B268-19BF6143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682F-6FC2-4F1B-9B81-48A46A3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488-DBD8-4B93-A212-85A22D5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F68-BC42-4F6F-A34B-D02C607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55F7-DF5B-47DA-B02A-45101CD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369-B7B7-4225-BF2D-C498ED3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900-8D7A-4AAA-9AF7-186ABD1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E216-4D6C-4187-ABF5-A312DF93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08ED-46FB-4C5A-B092-1B0F420A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4F2-E7DF-4CCF-9015-0ECB616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687-49CD-436B-804B-200A855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674-64CF-47B2-BA49-24A6D77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F3A-4B30-4045-A79E-FAF3E322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6A1-75A7-41DD-947E-6D4744F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3C3-6F99-49B1-8E99-F70CEA8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572-30EE-4CD6-8672-5E391D6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6D16DEF-D2A1-4571-B1DF-7FC651C51693}" type="slidenum"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1928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81B4B88-8C1F-4A0C-AD47-5FBAC1661C06}" type="slidenum">
              <a:rPr b="0" lang="en-US" sz="15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ct"/><Relationship Id="rId9" Type="http://schemas.openxmlformats.org/officeDocument/2006/relationships/image" Target="../media/image4.png"/><Relationship Id="rId10" Type="http://schemas.openxmlformats.org/officeDocument/2006/relationships/image" Target="../media/image5.pct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35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72720"/>
                <a:tab algn="l" pos="1008072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Arial"/>
              </a:rPr>
              <a:t>Gui specificatio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860904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73800" bIns="0" anchor="t">
            <a:normAutofit/>
          </a:bodyPr>
          <a:p>
            <a:pPr marL="430200" indent="-324000"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Modular canvas using DHTML, AJAX and SilverLight if need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IDE like IGoogle style with mini working are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ife cycle similar to wiz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Use Case guest user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Form Filling(consistency contro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Use Case registered us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6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uthentication (in middle of the scree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6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Creation or Editing of previous project(w.f. edito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6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ublishing and Form Filling(consistency contro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715680"/>
            <a:ext cx="85726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72720"/>
                <a:tab algn="l" pos="1008072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Arial"/>
              </a:rPr>
              <a:t>Main Page Area Subdivis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120960" bIns="0" anchor="t">
            <a:normAutofit/>
          </a:bodyPr>
          <a:p>
            <a:pPr marL="716040" indent="-609840">
              <a:spcBef>
                <a:spcPts val="774"/>
              </a:spcBef>
              <a:spcAft>
                <a:spcPts val="1137"/>
              </a:spcAft>
              <a:buClr>
                <a:srgbClr val="000000"/>
              </a:buClr>
              <a:buFont typeface="Times"/>
              <a:buChar char="•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Main page organized in 4 widge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609840">
              <a:spcBef>
                <a:spcPts val="774"/>
              </a:spcBef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ink to workflow editor and logo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609840">
              <a:spcBef>
                <a:spcPts val="774"/>
              </a:spcBef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ink to the form list to be filled by the user</a:t>
            </a:r>
            <a:br>
              <a:rPr sz="3100"/>
            </a:b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(Pop u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609840">
              <a:spcBef>
                <a:spcPts val="774"/>
              </a:spcBef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Visualization of favourite form results and link to other forms’ stat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609840">
              <a:spcBef>
                <a:spcPts val="774"/>
              </a:spcBef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74"/>
              </a:spcBef>
              <a:spcAft>
                <a:spcPts val="1137"/>
              </a:spcAft>
              <a:buNone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19160" y="84240"/>
            <a:ext cx="9793080" cy="7273800"/>
            <a:chOff x="119160" y="84240"/>
            <a:chExt cx="9793080" cy="72738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52360" y="252360"/>
              <a:ext cx="274320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68120" y="2184480"/>
              <a:ext cx="386424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71400" y="2687760"/>
              <a:ext cx="151308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52600" y="3695760"/>
              <a:ext cx="1258920" cy="2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96760" y="3695760"/>
              <a:ext cx="5374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HELP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52600" y="2771640"/>
              <a:ext cx="1258920" cy="5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16240" y="2835360"/>
              <a:ext cx="12920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s to fill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op-up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400" y="3276720"/>
              <a:ext cx="1596960" cy="92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3192480" y="1092240"/>
              <a:ext cx="5461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444840" y="176364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2600" y="1344600"/>
              <a:ext cx="8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7480" y="1492200"/>
              <a:ext cx="8730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68120" y="4871880"/>
              <a:ext cx="3864240" cy="24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6600" y="5627520"/>
              <a:ext cx="1342800" cy="100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6600" y="5711760"/>
              <a:ext cx="13428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Selection form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1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36600" y="6719040"/>
              <a:ext cx="14270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4200480" y="4282920"/>
              <a:ext cx="571176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95520" y="4116240"/>
              <a:ext cx="0" cy="14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5460840" y="84240"/>
              <a:ext cx="436752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3360600" y="1344240"/>
              <a:ext cx="201636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23680" y="4535640"/>
              <a:ext cx="12081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2200" y="317520"/>
              <a:ext cx="13759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selectio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560" y="5040360"/>
              <a:ext cx="7891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63640" y="5459400"/>
              <a:ext cx="210024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160" y="6719760"/>
              <a:ext cx="1711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Users profile (??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679400" y="5627520"/>
            <a:ext cx="2184480" cy="1455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79400" y="5627520"/>
                      <a:ext cx="218448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420840" y="957240"/>
              <a:ext cx="671400" cy="16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840" y="1176480"/>
              <a:ext cx="671400" cy="16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840" y="1427040"/>
              <a:ext cx="671400" cy="16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84480" y="1260360"/>
              <a:ext cx="2523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5320" y="587520"/>
              <a:ext cx="13759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Authenticatio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35880" y="235260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7520" y="1008000"/>
              <a:ext cx="12607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5080" y="1008000"/>
              <a:ext cx="1343160" cy="14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list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1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 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2240" y="5375160"/>
              <a:ext cx="7891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70720" y="755640"/>
              <a:ext cx="6213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40600" y="1092240"/>
              <a:ext cx="2436840" cy="12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27480" y="839880"/>
              <a:ext cx="7891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review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56360" y="2940120"/>
              <a:ext cx="210024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+ CS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+ WORKFLOW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+ FIELD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+ XML(XSD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+ DINAMIC CONTROL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56360" y="2940120"/>
              <a:ext cx="201636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35880" y="35272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84720" y="6719760"/>
              <a:ext cx="5543640" cy="419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82160" y="923760"/>
              <a:ext cx="5374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user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03760" y="1157400"/>
              <a:ext cx="6213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assw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2440" y="1407960"/>
              <a:ext cx="7891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600" y="839880"/>
              <a:ext cx="2184480" cy="83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325080" y="6804000"/>
              <a:ext cx="419040" cy="252360"/>
            </a:xfrm>
            <a:prstGeom prst="rightArrow">
              <a:avLst>
                <a:gd name="adj1" fmla="val 50000"/>
                <a:gd name="adj2" fmla="val 415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15000">
              <a:off x="4368600" y="6803640"/>
              <a:ext cx="419040" cy="252360"/>
            </a:xfrm>
            <a:prstGeom prst="rightArrow">
              <a:avLst>
                <a:gd name="adj1" fmla="val 50000"/>
                <a:gd name="adj2" fmla="val 415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9"/>
            <a:stretch/>
          </p:blipFill>
          <p:spPr>
            <a:xfrm>
              <a:off x="6943680" y="6804000"/>
              <a:ext cx="5335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73640" y="6804000"/>
              <a:ext cx="8956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Verdana"/>
                </a:rPr>
                <a:t>Pag 1/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5800" y="2184480"/>
              <a:ext cx="7052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opup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0"/>
            <a:stretch/>
          </p:blipFill>
          <p:spPr>
            <a:xfrm>
              <a:off x="7210440" y="1133640"/>
              <a:ext cx="2367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1"/>
            <a:stretch/>
          </p:blipFill>
          <p:spPr>
            <a:xfrm>
              <a:off x="4395960" y="4913280"/>
              <a:ext cx="52639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71400" y="3276720"/>
              <a:ext cx="19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STATS for a 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favourite form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Link to the other statistiscs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1400" y="2687760"/>
              <a:ext cx="15969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 Workflow editor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- Logout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10080720" cy="6933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it-IT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21840" y="4648320"/>
            <a:ext cx="823896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orm page made of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ss sent by theme edit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XSD sent by Workflow edi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ndered object sent by Fie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namic consistency contr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98520" y="228600"/>
            <a:ext cx="7540200" cy="4446360"/>
            <a:chOff x="1298520" y="228600"/>
            <a:chExt cx="7540200" cy="44463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298520" y="228600"/>
              <a:ext cx="754020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97560" y="593280"/>
              <a:ext cx="12081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Verdana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63640" y="3873960"/>
              <a:ext cx="552960" cy="364680"/>
            </a:xfrm>
            <a:prstGeom prst="rightArrow">
              <a:avLst>
                <a:gd name="adj1" fmla="val 50000"/>
                <a:gd name="adj2" fmla="val 379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15000">
              <a:off x="1519920" y="3873240"/>
              <a:ext cx="553320" cy="364680"/>
            </a:xfrm>
            <a:prstGeom prst="rightArrow">
              <a:avLst>
                <a:gd name="adj1" fmla="val 50000"/>
                <a:gd name="adj2" fmla="val 379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4919760" y="3873960"/>
              <a:ext cx="704160" cy="48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911400" y="3873960"/>
              <a:ext cx="8956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Verdana"/>
                </a:rPr>
                <a:t>Pag 1/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1555920" y="1139760"/>
              <a:ext cx="6949440" cy="273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715680"/>
            <a:ext cx="85726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72720"/>
                <a:tab algn="l" pos="1008072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9362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80640" bIns="0" anchor="t">
            <a:normAutofit/>
          </a:bodyPr>
          <a:p>
            <a:pPr marL="430200" indent="-324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Internal state or comunication with serv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Has a user an internal profil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Which method should be used to build statistics and if the single answers are visibl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Shall we handle the selection of users who will receieve the forms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35:30Z</dcterms:created>
  <dc:creator/>
  <dc:description/>
  <dc:language>en-US</dc:language>
  <cp:lastModifiedBy>jkjkjb biui</cp:lastModifiedBy>
  <cp:lastPrinted>2009-04-22T19:24:48Z</cp:lastPrinted>
  <dcterms:modified xsi:type="dcterms:W3CDTF">2009-03-11T14:58:17Z</dcterms:modified>
  <cp:revision>35</cp:revision>
  <dc:subject/>
  <dc:title>Gui specifications</dc:title>
</cp:coreProperties>
</file>