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AC1BE-4659-4E36-BF56-F2A177E6F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58C3E-2C34-41A0-BA49-97B2559A6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AF35F-5C8F-4D15-86C3-04BFB869E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78789-2A57-450A-816C-C0B1C7522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248EF-25BE-4233-AD46-6A597A08D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2DEA1-75AA-4882-92DD-C08756448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FA6FD-EB26-4050-9D18-D6E39F1F5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3FFCD-BB65-4C06-8AEE-72258E2DF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305A8-E75E-45E6-9073-419D0CCB6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575EA-1A7E-4A7D-AA56-6B4B439E1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E2344-7758-4820-8EA3-ABF362924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9D890-BE4C-414D-9282-7DC1662FE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F775A-DC3F-4559-B136-85C4613691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Ski Path Finder</a:t>
            </a:r>
            <a:br>
              <a:rPr sz="4400"/>
            </a:b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Progress Rep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4920" y="20574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evaganthan Veluppillai, Jiri Kadle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52280" y="2781360"/>
            <a:ext cx="4419720" cy="33145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4780080" y="3565440"/>
            <a:ext cx="4287600" cy="321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1. Int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urpose of the t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Reduce skiing ri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ross country ski path route plan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echnical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apWindow 4 plug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edGraph libr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ajor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raw ski path on th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raw graph of elevation prof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ompare ski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523880" y="0"/>
            <a:ext cx="5461200" cy="64771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28600" y="3808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low Ch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84872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Draw ski path on the ma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886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We used the MapWindow map eve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apMouseD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apMouseM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267080" y="1523880"/>
            <a:ext cx="4562640" cy="41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Draw Grap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191120" y="1700280"/>
            <a:ext cx="4743360" cy="375912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-360" y="1600200"/>
            <a:ext cx="3886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edGraph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rray of dis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rray of elev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rray of sl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Analyze Ski Pa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533520" y="1447920"/>
          <a:ext cx="5333760" cy="2173320"/>
        </p:xfrm>
        <a:graphic>
          <a:graphicData uri="http://schemas.openxmlformats.org/drawingml/2006/table">
            <a:tbl>
              <a:tblPr/>
              <a:tblGrid>
                <a:gridCol w="2955960"/>
                <a:gridCol w="2377800"/>
              </a:tblGrid>
              <a:tr h="700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03030"/>
                          </a:solidFill>
                          <a:latin typeface="Verdana"/>
                        </a:rPr>
                        <a:t>Average Slope of Section (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03030"/>
                          </a:solidFill>
                          <a:latin typeface="Verdana"/>
                        </a:rPr>
                        <a:t>Risk Catego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03030"/>
                          </a:solidFill>
                          <a:latin typeface="Verdana"/>
                        </a:rPr>
                        <a:t>0 -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03030"/>
                          </a:solidFill>
                          <a:latin typeface="Verdana"/>
                        </a:rPr>
                        <a:t>Norm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03030"/>
                          </a:solidFill>
                          <a:latin typeface="Verdana"/>
                        </a:rPr>
                        <a:t>5 - 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03030"/>
                          </a:solidFill>
                          <a:latin typeface="Verdana"/>
                        </a:rPr>
                        <a:t>Mode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03030"/>
                          </a:solidFill>
                          <a:latin typeface="Verdana"/>
                        </a:rPr>
                        <a:t>10 - 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03030"/>
                          </a:solidFill>
                          <a:latin typeface="Verdana"/>
                        </a:rPr>
                        <a:t>Hig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03030"/>
                          </a:solidFill>
                          <a:latin typeface="Verdana"/>
                        </a:rPr>
                        <a:t>20 or high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03030"/>
                          </a:solidFill>
                          <a:latin typeface="Verdana"/>
                        </a:rPr>
                        <a:t>Very Hig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" name=""/>
          <p:cNvSpPr/>
          <p:nvPr/>
        </p:nvSpPr>
        <p:spPr>
          <a:xfrm>
            <a:off x="457200" y="914400"/>
            <a:ext cx="601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Ski path risk level catego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57200" y="4267080"/>
            <a:ext cx="6324480" cy="22305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457200" y="3809880"/>
            <a:ext cx="601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Ski Path Risk Levels - 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510552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Remaining task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ultiple ski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alidation and te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User manu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Ic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0" y="2971800"/>
            <a:ext cx="38862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Limit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3429000"/>
            <a:ext cx="82296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 cannot erase ski path line while draw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nly certain raster files are suppor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Big DEM files take long time to op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Linux and Mac OS operating systems are not suppor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o glob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nly slope steepness is conside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ocks, vegetation, weather conditions are not conside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33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Codeplex websi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525600" y="846000"/>
            <a:ext cx="8091360" cy="51642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457200" y="6172200"/>
            <a:ext cx="822960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http://jiriteva.codeplex.co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6T03:26:08Z</dcterms:created>
  <dc:creator>Jiří Kadlec</dc:creator>
  <dc:description/>
  <dc:language>en-US</dc:language>
  <cp:lastModifiedBy>Jiří Kadlec</cp:lastModifiedBy>
  <dcterms:modified xsi:type="dcterms:W3CDTF">2010-01-26T04:32:36Z</dcterms:modified>
  <cp:revision>3</cp:revision>
  <dc:subject/>
  <dc:title>Ski Path Finder Progress Report</dc:title>
</cp:coreProperties>
</file>