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6C9-9180-4764-8AAB-5CDB0DBA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016E-138E-4902-B5F2-A8CB4E13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92A7-B2B6-4B7B-A780-151A03C2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D2B2-2F97-4899-B610-AFF1623D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6C6D-1FD6-41C3-B5CF-D94A625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92A-B976-4FF3-82B2-D90814E7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B8FD-D2D7-4F8F-9533-541FA7A2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D71-2E86-4E35-82C5-99188DE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318-ED0E-4902-88D1-4E4A8E9C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1213-5D26-4020-A17B-76CB14EC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6E3-BCE8-49EF-8884-774025EA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B8B-8080-49E2-A385-CD746247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055-72BB-4C0C-923B-47416CDF6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93080" y="981000"/>
            <a:ext cx="1942920" cy="468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981000"/>
            <a:ext cx="6337440" cy="4680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2133720"/>
            <a:ext cx="1295280" cy="574560"/>
          </a:xfrm>
          <a:prstGeom prst="roundRect">
            <a:avLst>
              <a:gd name="adj" fmla="val 16667"/>
            </a:avLst>
          </a:prstGeom>
          <a:solidFill>
            <a:srgbClr val="e6f5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o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197000"/>
            <a:ext cx="129564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87640" y="306864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e6f5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3068640"/>
            <a:ext cx="129564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32000" y="189000"/>
            <a:ext cx="1295640" cy="574560"/>
          </a:xfrm>
          <a:prstGeom prst="roundRect">
            <a:avLst>
              <a:gd name="adj" fmla="val 16667"/>
            </a:avLst>
          </a:prstGeom>
          <a:solidFill>
            <a:srgbClr val="f8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4427640" y="1484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2446920" y="2313720"/>
            <a:ext cx="433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3860640"/>
            <a:ext cx="0" cy="208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765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70828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429264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3645000"/>
            <a:ext cx="433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451640" y="3068640"/>
            <a:ext cx="1440000" cy="574560"/>
          </a:xfrm>
          <a:prstGeom prst="roundRect">
            <a:avLst>
              <a:gd name="adj" fmla="val 16667"/>
            </a:avLst>
          </a:prstGeom>
          <a:solidFill>
            <a:srgbClr val="a4d7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126560" y="3250440"/>
            <a:ext cx="433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3357720"/>
            <a:ext cx="266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48000" y="51577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5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348000" y="2421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123640" y="335772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5950080"/>
            <a:ext cx="1585800" cy="574560"/>
          </a:xfrm>
          <a:prstGeom prst="roundRect">
            <a:avLst>
              <a:gd name="adj" fmla="val 16667"/>
            </a:avLst>
          </a:prstGeom>
          <a:solidFill>
            <a:srgbClr val="f8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03640" y="213372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03640" y="119700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Net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197000"/>
            <a:ext cx="1440000" cy="574560"/>
          </a:xfrm>
          <a:prstGeom prst="roundRect">
            <a:avLst>
              <a:gd name="adj" fmla="val 16667"/>
            </a:avLst>
          </a:prstGeom>
          <a:solidFill>
            <a:srgbClr val="a4d7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Http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2133720"/>
            <a:ext cx="1440000" cy="574560"/>
          </a:xfrm>
          <a:prstGeom prst="roundRect">
            <a:avLst>
              <a:gd name="adj" fmla="val 16667"/>
            </a:avLst>
          </a:prstGeom>
          <a:solidFill>
            <a:srgbClr val="a4d7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03640" y="400536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ql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400536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WindowsEventLo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gingProvid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501336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Net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gingProvi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4869000"/>
            <a:ext cx="1584360" cy="57456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580000" y="4581360"/>
            <a:ext cx="433440" cy="216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96000" y="4797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4427640" y="1773000"/>
            <a:ext cx="5760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400000">
            <a:off x="7126560" y="2313720"/>
            <a:ext cx="433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5400000">
            <a:off x="7126560" y="1377000"/>
            <a:ext cx="4334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242100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88000" y="148428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981000"/>
            <a:ext cx="20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ttingEdge.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5877000"/>
            <a:ext cx="144360" cy="144360"/>
          </a:xfrm>
          <a:prstGeom prst="roundRect">
            <a:avLst>
              <a:gd name="adj" fmla="val 16667"/>
            </a:avLst>
          </a:prstGeom>
          <a:solidFill>
            <a:srgbClr val="f8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609444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c8e7a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310440"/>
            <a:ext cx="142920" cy="142920"/>
          </a:xfrm>
          <a:prstGeom prst="roundRect">
            <a:avLst>
              <a:gd name="adj" fmla="val 16667"/>
            </a:avLst>
          </a:prstGeom>
          <a:solidFill>
            <a:srgbClr val="e6f5d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6526080"/>
            <a:ext cx="144360" cy="142920"/>
          </a:xfrm>
          <a:prstGeom prst="roundRect">
            <a:avLst>
              <a:gd name="adj" fmla="val 16667"/>
            </a:avLst>
          </a:prstGeom>
          <a:solidFill>
            <a:srgbClr val="a4d7f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5877000"/>
            <a:ext cx="2519280" cy="8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d by application 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compon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ramework interface or abstract base c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NET Framework cla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54920" y="5300640"/>
            <a:ext cx="17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NET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1773360"/>
            <a:ext cx="287280" cy="287280"/>
          </a:xfrm>
          <a:prstGeom prst="diamond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06064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08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43:26Z</dcterms:created>
  <dc:creator>Steven</dc:creator>
  <dc:description/>
  <dc:language>en-US</dc:language>
  <cp:lastModifiedBy>Steven</cp:lastModifiedBy>
  <dcterms:modified xsi:type="dcterms:W3CDTF">2008-12-12T15:44:36Z</dcterms:modified>
  <cp:revision>4</cp:revision>
  <dc:subject/>
  <dc:title>Dia 1</dc:title>
</cp:coreProperties>
</file>