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A44B-5492-43F7-91DF-E23DC3CB7F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EBBA-3A6C-479F-A499-36681089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CA7-E66E-4679-86C8-FF36E3FF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FD9-A7DF-46CD-8CF0-7CB9AADA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460-5A6A-4337-88DF-05209437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005-C504-4521-8E38-796CA764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295-4728-48EB-96DD-91A70A3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C9A-CABB-499D-B31A-F5AFD85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531-CC8C-4BB9-BB29-C2AEEB5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98E-24E3-4E1F-A5F9-0DC6FD8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6E8-1696-42AB-A7E4-B8FDB58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A12-24A7-4E74-9D93-AF9A25F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CD1-F7ED-41B2-9F49-480FBD6E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189-1DBF-4658-811B-DDB322E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332-F18B-4A01-B2E5-8DFE79C344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2"/>
          <p:cNvGrpSpPr/>
          <p:nvPr/>
        </p:nvGrpSpPr>
        <p:grpSpPr>
          <a:xfrm>
            <a:off x="6240600" y="1063800"/>
            <a:ext cx="1368360" cy="4464000"/>
            <a:chOff x="6240600" y="1063800"/>
            <a:chExt cx="1368360" cy="4464000"/>
          </a:xfrm>
        </p:grpSpPr>
        <p:sp>
          <p:nvSpPr>
            <p:cNvPr id="49" name="AutoShape 3"/>
            <p:cNvSpPr/>
            <p:nvPr/>
          </p:nvSpPr>
          <p:spPr>
            <a:xfrm>
              <a:off x="6454800" y="3799080"/>
              <a:ext cx="91764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454800" y="3007080"/>
              <a:ext cx="91764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WP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>
              <a:off x="6454800" y="2214720"/>
              <a:ext cx="917640" cy="63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Win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0"/>
            <p:cNvSpPr/>
            <p:nvPr/>
          </p:nvSpPr>
          <p:spPr>
            <a:xfrm>
              <a:off x="6240600" y="1063800"/>
              <a:ext cx="1368360" cy="446400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4464000"/>
                <a:gd name="textAreaBottom" fmla="*/ 4397400 h 4464000"/>
              </a:gdLst>
              <a:ahLst/>
              <a:rect l="textAreaLeft" t="textAreaTop" r="textAreaRight" b="textAreaBottom"/>
              <a:pathLst>
                <a:path w="21600" h="70453">
                  <a:moveTo>
                    <a:pt x="3600" y="0"/>
                  </a:moveTo>
                  <a:arcTo wR="3600" hR="3600" stAng="16200000" swAng="-5400000"/>
                  <a:lnTo>
                    <a:pt x="0" y="66853"/>
                  </a:lnTo>
                  <a:arcTo wR="3600" hR="3600" stAng="10800000" swAng="-5400000"/>
                  <a:lnTo>
                    <a:pt x="18000" y="70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Platform specific 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4"/>
            <p:cNvSpPr/>
            <p:nvPr/>
          </p:nvSpPr>
          <p:spPr>
            <a:xfrm>
              <a:off x="6454800" y="4591080"/>
              <a:ext cx="917640" cy="63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Silverlig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5"/>
            <p:cNvSpPr/>
            <p:nvPr/>
          </p:nvSpPr>
          <p:spPr>
            <a:xfrm>
              <a:off x="6454800" y="1422720"/>
              <a:ext cx="91764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Comp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38"/>
          <p:cNvGrpSpPr/>
          <p:nvPr/>
        </p:nvGrpSpPr>
        <p:grpSpPr>
          <a:xfrm>
            <a:off x="4656240" y="1855800"/>
            <a:ext cx="1368360" cy="2087640"/>
            <a:chOff x="4656240" y="1855800"/>
            <a:chExt cx="1368360" cy="2087640"/>
          </a:xfrm>
        </p:grpSpPr>
        <p:sp>
          <p:nvSpPr>
            <p:cNvPr id="56" name="AutoShape 33"/>
            <p:cNvSpPr/>
            <p:nvPr/>
          </p:nvSpPr>
          <p:spPr>
            <a:xfrm>
              <a:off x="4656240" y="1855800"/>
              <a:ext cx="1368360" cy="2087640"/>
            </a:xfrm>
            <a:custGeom>
              <a:avLst/>
              <a:gdLst>
                <a:gd name="textAreaLeft" fmla="*/ 66600 w 1368360"/>
                <a:gd name="textAreaRight" fmla="*/ 1301760 w 1368360"/>
                <a:gd name="textAreaTop" fmla="*/ 66600 h 2087640"/>
                <a:gd name="textAreaBottom" fmla="*/ 2021040 h 2087640"/>
              </a:gdLst>
              <a:ahLst/>
              <a:rect l="textAreaLeft" t="textAreaTop" r="textAreaRight" b="textAreaBottom"/>
              <a:pathLst>
                <a:path w="21600" h="32951">
                  <a:moveTo>
                    <a:pt x="3600" y="0"/>
                  </a:moveTo>
                  <a:arcTo wR="3600" hR="3600" stAng="16200000" swAng="-5400000"/>
                  <a:lnTo>
                    <a:pt x="0" y="29351"/>
                  </a:lnTo>
                  <a:arcTo wR="3600" hR="3600" stAng="10800000" swAng="-5400000"/>
                  <a:lnTo>
                    <a:pt x="18000" y="329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More specific 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34"/>
            <p:cNvSpPr/>
            <p:nvPr/>
          </p:nvSpPr>
          <p:spPr>
            <a:xfrm>
              <a:off x="4871880" y="2214720"/>
              <a:ext cx="91764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35"/>
            <p:cNvSpPr/>
            <p:nvPr/>
          </p:nvSpPr>
          <p:spPr>
            <a:xfrm>
              <a:off x="4870440" y="3006720"/>
              <a:ext cx="917640" cy="63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Wind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39"/>
          <p:cNvGrpSpPr/>
          <p:nvPr/>
        </p:nvGrpSpPr>
        <p:grpSpPr>
          <a:xfrm>
            <a:off x="3071880" y="2214720"/>
            <a:ext cx="1368360" cy="1295280"/>
            <a:chOff x="3071880" y="2214720"/>
            <a:chExt cx="1368360" cy="1295280"/>
          </a:xfrm>
        </p:grpSpPr>
        <p:sp>
          <p:nvSpPr>
            <p:cNvPr id="60" name="AutoShape 9"/>
            <p:cNvSpPr/>
            <p:nvPr/>
          </p:nvSpPr>
          <p:spPr>
            <a:xfrm>
              <a:off x="3287520" y="2573640"/>
              <a:ext cx="9363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d41a"/>
                </a:gs>
                <a:gs pos="100000">
                  <a:srgbClr val="32a114"/>
                </a:gs>
              </a:gsLst>
              <a:lin ang="5400000"/>
            </a:gradFill>
            <a:ln w="12600">
              <a:solidFill>
                <a:srgbClr val="2b8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UI"/>
                </a:rPr>
                <a:t>BruTile.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6"/>
            <p:cNvSpPr/>
            <p:nvPr/>
          </p:nvSpPr>
          <p:spPr>
            <a:xfrm>
              <a:off x="3071880" y="2214720"/>
              <a:ext cx="136836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eneric 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26"/>
          <p:cNvSpPr/>
          <p:nvPr/>
        </p:nvSpPr>
        <p:spPr>
          <a:xfrm>
            <a:off x="1714680" y="3286080"/>
            <a:ext cx="934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2d41a"/>
              </a:gs>
              <a:gs pos="100000">
                <a:srgbClr val="32a114"/>
              </a:gs>
            </a:gsLst>
            <a:lin ang="5400000"/>
          </a:gradFill>
          <a:ln w="12600">
            <a:solidFill>
              <a:srgbClr val="2b8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UI"/>
              </a:rPr>
              <a:t>Bru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1714680" y="2214720"/>
            <a:ext cx="93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2d41a"/>
              </a:gs>
              <a:gs pos="100000">
                <a:srgbClr val="32a114"/>
              </a:gs>
            </a:gsLst>
            <a:lin ang="5400000"/>
          </a:gradFill>
          <a:ln w="12600">
            <a:solidFill>
              <a:srgbClr val="2b8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UI"/>
              </a:rPr>
              <a:t>Sharp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7"/>
          <p:cNvSpPr/>
          <p:nvPr/>
        </p:nvSpPr>
        <p:spPr>
          <a:xfrm>
            <a:off x="1487520" y="1855800"/>
            <a:ext cx="1368360" cy="23590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2359080"/>
              <a:gd name="textAreaBottom" fmla="*/ 2292480 h 2359080"/>
            </a:gdLst>
            <a:ahLst/>
            <a:rect l="textAreaLeft" t="textAreaTop" r="textAreaRight" b="textAreaBottom"/>
            <a:pathLst>
              <a:path w="21600" h="37235">
                <a:moveTo>
                  <a:pt x="3600" y="0"/>
                </a:moveTo>
                <a:arcTo wR="3600" hR="3600" stAng="16200000" swAng="-5400000"/>
                <a:lnTo>
                  <a:pt x="0" y="33635"/>
                </a:lnTo>
                <a:arcTo wR="3600" hR="3600" stAng="10800000" swAng="-5400000"/>
                <a:lnTo>
                  <a:pt x="18000" y="37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r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2"/>
          <p:cNvSpPr/>
          <p:nvPr/>
        </p:nvSpPr>
        <p:spPr>
          <a:xfrm flipH="1">
            <a:off x="5880240" y="1711440"/>
            <a:ext cx="574560" cy="64764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3"/>
          <p:cNvSpPr/>
          <p:nvPr/>
        </p:nvSpPr>
        <p:spPr>
          <a:xfrm flipH="1">
            <a:off x="5880240" y="2503440"/>
            <a:ext cx="574560" cy="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4"/>
          <p:cNvSpPr/>
          <p:nvPr/>
        </p:nvSpPr>
        <p:spPr>
          <a:xfrm flipH="1">
            <a:off x="5880240" y="3295800"/>
            <a:ext cx="574560" cy="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5"/>
          <p:cNvSpPr/>
          <p:nvPr/>
        </p:nvSpPr>
        <p:spPr>
          <a:xfrm flipH="1" flipV="1">
            <a:off x="5880240" y="3438360"/>
            <a:ext cx="574560" cy="64944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6"/>
          <p:cNvSpPr/>
          <p:nvPr/>
        </p:nvSpPr>
        <p:spPr>
          <a:xfrm flipH="1" flipV="1">
            <a:off x="5880240" y="3654000"/>
            <a:ext cx="574560" cy="129708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7"/>
          <p:cNvSpPr/>
          <p:nvPr/>
        </p:nvSpPr>
        <p:spPr>
          <a:xfrm flipH="1">
            <a:off x="4295880" y="2575080"/>
            <a:ext cx="574560" cy="21564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8"/>
          <p:cNvSpPr/>
          <p:nvPr/>
        </p:nvSpPr>
        <p:spPr>
          <a:xfrm flipH="1" flipV="1">
            <a:off x="4295880" y="2935080"/>
            <a:ext cx="576000" cy="36036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0"/>
          <p:cNvSpPr/>
          <p:nvPr/>
        </p:nvSpPr>
        <p:spPr>
          <a:xfrm flipH="1" flipV="1">
            <a:off x="2711160" y="2503440"/>
            <a:ext cx="576360" cy="28728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 flipH="1">
            <a:off x="2711160" y="3006720"/>
            <a:ext cx="576360" cy="28908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2176560" y="2857680"/>
            <a:ext cx="0" cy="428400"/>
          </a:xfrm>
          <a:prstGeom prst="line">
            <a:avLst/>
          </a:prstGeom>
          <a:ln w="19080">
            <a:solidFill>
              <a:srgbClr val="10340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30"/>
          <p:cNvSpPr/>
          <p:nvPr/>
        </p:nvSpPr>
        <p:spPr>
          <a:xfrm>
            <a:off x="4429080" y="4286160"/>
            <a:ext cx="1571760" cy="571680"/>
          </a:xfrm>
          <a:prstGeom prst="borderCallout1">
            <a:avLst>
              <a:gd name="adj1" fmla="val 18750"/>
              <a:gd name="adj2" fmla="val -8333"/>
              <a:gd name="adj3" fmla="val -113666"/>
              <a:gd name="adj4" fmla="val 29601"/>
            </a:avLst>
          </a:prstGeom>
          <a:solidFill>
            <a:srgbClr val="daedef"/>
          </a:solidFill>
          <a:ln w="1260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depends 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WindowsBase.d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PresentationCore.dll PresentationFramework.d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Callout 1 31"/>
          <p:cNvSpPr/>
          <p:nvPr/>
        </p:nvSpPr>
        <p:spPr>
          <a:xfrm>
            <a:off x="4429080" y="1071720"/>
            <a:ext cx="1571760" cy="500040"/>
          </a:xfrm>
          <a:prstGeom prst="borderCallout1">
            <a:avLst>
              <a:gd name="adj1" fmla="val 18750"/>
              <a:gd name="adj2" fmla="val -8333"/>
              <a:gd name="adj3" fmla="val 234902"/>
              <a:gd name="adj4" fmla="val 29328"/>
            </a:avLst>
          </a:prstGeom>
          <a:solidFill>
            <a:srgbClr val="daedef"/>
          </a:solidFill>
          <a:ln w="1260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depends 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System.Windows.Forms.d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4597a0"/>
                </a:solidFill>
                <a:latin typeface="Arial"/>
              </a:rPr>
              <a:t>System.Drawing.d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11"/>
          <p:cNvSpPr/>
          <p:nvPr/>
        </p:nvSpPr>
        <p:spPr>
          <a:xfrm>
            <a:off x="1643040" y="1071720"/>
            <a:ext cx="5715000" cy="464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Magnetic Disk 9"/>
          <p:cNvSpPr/>
          <p:nvPr/>
        </p:nvSpPr>
        <p:spPr>
          <a:xfrm>
            <a:off x="3786120" y="3286080"/>
            <a:ext cx="1336680" cy="1660680"/>
          </a:xfrm>
          <a:prstGeom prst="flowChartMagneticDisk">
            <a:avLst/>
          </a:prstGeom>
          <a:gradFill rotWithShape="0">
            <a:gsLst>
              <a:gs pos="0">
                <a:srgbClr val="42d41a"/>
              </a:gs>
              <a:gs pos="100000">
                <a:srgbClr val="32a114"/>
              </a:gs>
            </a:gsLst>
            <a:lin ang="5400000"/>
          </a:gradFill>
          <a:ln w="12600">
            <a:solidFill>
              <a:srgbClr val="2b891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U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UI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"/>
          <p:cNvSpPr/>
          <p:nvPr/>
        </p:nvSpPr>
        <p:spPr>
          <a:xfrm>
            <a:off x="2214720" y="1643040"/>
            <a:ext cx="1645920" cy="1646280"/>
          </a:xfrm>
          <a:custGeom>
            <a:avLst/>
            <a:gdLst>
              <a:gd name="textAreaLeft" fmla="*/ 80280 w 1645920"/>
              <a:gd name="textAreaRight" fmla="*/ 1565640 w 1645920"/>
              <a:gd name="textAreaTop" fmla="*/ 80280 h 1646280"/>
              <a:gd name="textAreaBottom" fmla="*/ 1566000 h 164628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2d41a"/>
              </a:gs>
              <a:gs pos="100000">
                <a:srgbClr val="32a114"/>
              </a:gs>
            </a:gsLst>
            <a:lin ang="5400000"/>
          </a:gradFill>
          <a:ln w="12600">
            <a:solidFill>
              <a:srgbClr val="2b891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UI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3"/>
          <p:cNvSpPr/>
          <p:nvPr/>
        </p:nvSpPr>
        <p:spPr>
          <a:xfrm>
            <a:off x="5072040" y="1643040"/>
            <a:ext cx="1646280" cy="164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2d41a"/>
              </a:gs>
              <a:gs pos="100000">
                <a:srgbClr val="32a114"/>
              </a:gs>
            </a:gsLst>
            <a:lin ang="5400000"/>
          </a:gradFill>
          <a:ln w="12600">
            <a:solidFill>
              <a:srgbClr val="2b891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UI"/>
              </a:rPr>
              <a:t>F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ight Arrow 17" descr=""/>
          <p:cNvPicPr/>
          <p:nvPr/>
        </p:nvPicPr>
        <p:blipFill>
          <a:blip r:embed="rId1"/>
          <a:stretch/>
        </p:blipFill>
        <p:spPr>
          <a:xfrm>
            <a:off x="3565440" y="1809720"/>
            <a:ext cx="207324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Right Arrow 18" descr=""/>
          <p:cNvPicPr/>
          <p:nvPr/>
        </p:nvPicPr>
        <p:blipFill>
          <a:blip r:embed="rId2"/>
          <a:stretch/>
        </p:blipFill>
        <p:spPr>
          <a:xfrm>
            <a:off x="3316320" y="2451240"/>
            <a:ext cx="2060640" cy="792000"/>
          </a:xfrm>
          <a:prstGeom prst="rect">
            <a:avLst/>
          </a:prstGeom>
          <a:ln w="0">
            <a:noFill/>
          </a:ln>
        </p:spPr>
      </p:pic>
      <p:sp>
        <p:nvSpPr>
          <p:cNvPr id="83" name="Bent Arrow 8"/>
          <p:cNvSpPr/>
          <p:nvPr/>
        </p:nvSpPr>
        <p:spPr>
          <a:xfrm flipH="1" flipV="1" rot="5400000">
            <a:off x="2427840" y="2857320"/>
            <a:ext cx="1428480" cy="1428840"/>
          </a:xfrm>
          <a:custGeom>
            <a:avLst/>
            <a:gdLst/>
            <a:ahLst/>
            <a:rect l="l" t="t" r="r" b="b"/>
            <a:pathLst>
              <a:path w="1428759" h="1428760">
                <a:moveTo>
                  <a:pt x="0" y="1428760"/>
                </a:moveTo>
                <a:lnTo>
                  <a:pt x="0" y="812650"/>
                </a:lnTo>
                <a:lnTo>
                  <a:pt x="0" y="812650"/>
                </a:lnTo>
                <a:arcTo wR="634055" hR="634055" stAng="-10799995" swAng="5400000"/>
                <a:lnTo>
                  <a:pt x="1071569" y="178595"/>
                </a:lnTo>
                <a:lnTo>
                  <a:pt x="1071569" y="0"/>
                </a:lnTo>
                <a:lnTo>
                  <a:pt x="1428759" y="357190"/>
                </a:lnTo>
                <a:lnTo>
                  <a:pt x="1071569" y="714380"/>
                </a:lnTo>
                <a:lnTo>
                  <a:pt x="1071569" y="535785"/>
                </a:lnTo>
                <a:lnTo>
                  <a:pt x="634055" y="535785"/>
                </a:lnTo>
                <a:lnTo>
                  <a:pt x="634055" y="535785"/>
                </a:lnTo>
                <a:arcTo wR="276865" hR="276865" stAng="-5400000" swAng="-5400000"/>
                <a:lnTo>
                  <a:pt x="357190" y="142876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92d05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Bent Arrow 10"/>
          <p:cNvSpPr/>
          <p:nvPr/>
        </p:nvSpPr>
        <p:spPr>
          <a:xfrm flipH="1" flipV="1">
            <a:off x="5000040" y="3000240"/>
            <a:ext cx="1571400" cy="1500480"/>
          </a:xfrm>
          <a:custGeom>
            <a:avLst/>
            <a:gdLst/>
            <a:ahLst/>
            <a:rect l="l" t="t" r="r" b="b"/>
            <a:pathLst>
              <a:path w="1571636" h="1500199">
                <a:moveTo>
                  <a:pt x="0" y="1500199"/>
                </a:moveTo>
                <a:lnTo>
                  <a:pt x="0" y="837216"/>
                </a:lnTo>
                <a:lnTo>
                  <a:pt x="0" y="837216"/>
                </a:lnTo>
                <a:arcTo wR="658242" hR="658242" stAng="-10799995" swAng="5400000"/>
                <a:lnTo>
                  <a:pt x="1196586" y="178974"/>
                </a:lnTo>
                <a:lnTo>
                  <a:pt x="1196586" y="0"/>
                </a:lnTo>
                <a:lnTo>
                  <a:pt x="1571636" y="366499"/>
                </a:lnTo>
                <a:lnTo>
                  <a:pt x="1196586" y="732997"/>
                </a:lnTo>
                <a:lnTo>
                  <a:pt x="1196586" y="554023"/>
                </a:lnTo>
                <a:lnTo>
                  <a:pt x="658242" y="554023"/>
                </a:lnTo>
                <a:lnTo>
                  <a:pt x="658242" y="554023"/>
                </a:lnTo>
                <a:arcTo wR="283193" hR="283193" stAng="-5400000" swAng="-5400000"/>
                <a:lnTo>
                  <a:pt x="375050" y="1500199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92d05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extBox 12" descr=""/>
          <p:cNvPicPr/>
          <p:nvPr/>
        </p:nvPicPr>
        <p:blipFill>
          <a:blip r:embed="rId3"/>
          <a:stretch/>
        </p:blipFill>
        <p:spPr>
          <a:xfrm>
            <a:off x="5291280" y="3913200"/>
            <a:ext cx="1049040" cy="377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3" descr=""/>
          <p:cNvPicPr/>
          <p:nvPr/>
        </p:nvPicPr>
        <p:blipFill>
          <a:blip r:embed="rId4"/>
          <a:stretch/>
        </p:blipFill>
        <p:spPr>
          <a:xfrm>
            <a:off x="2816280" y="3852720"/>
            <a:ext cx="1298520" cy="4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4:09:19Z</dcterms:created>
  <dc:creator> </dc:creator>
  <dc:description/>
  <dc:language>en-US</dc:language>
  <cp:lastModifiedBy>Paul den Dulk</cp:lastModifiedBy>
  <dcterms:modified xsi:type="dcterms:W3CDTF">2010-02-07T20:22:46Z</dcterms:modified>
  <cp:revision>37</cp:revision>
  <dc:subject/>
  <dc:title>Slide 1</dc:title>
</cp:coreProperties>
</file>