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5F3A-6A7A-4C71-A768-A97BC703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9F2-34AA-4DFA-882C-3AFC204A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ACE-7B20-48D1-A4B1-BD7F0302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76E-75B8-41B8-9239-20DDA54E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5B0-3B5A-43A7-9726-9FDEFE38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7378-9642-4621-92A9-330404AC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263-2A6D-4E3E-A71C-AFA6DACD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9D7-64D7-40B0-BE50-149A8E12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AE0-DCB9-4CDA-AC08-8F3F2ACB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B12-45F8-4348-8D2E-F71E3AF6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A3C-5FFB-4543-8B3D-34E7888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E7DC-87B0-4A09-88D8-4A0ED71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CB05-5034-4FCB-978E-776845CF0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2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 ei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6:30Z</dcterms:modified>
  <cp:revision>2</cp:revision>
  <dc:subject>Testing file 2</dc:subject>
  <dc:title>Another sample PPT file</dc:title>
</cp:coreProperties>
</file>