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63EF2-211F-4591-8BE7-A1B1ED3E3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45C6A-B032-46D5-936B-6A61A7F11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5FAEA-A4B5-4ED1-B38D-B9B889AA3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DF43F-3BF8-4ED9-A611-FB988834C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AF0F7-40C4-4BA6-A90D-2063C2BC1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3D603-3B99-4F67-A6D1-7049AECBB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73978-7E8F-4D74-916C-223A8C59B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721C8-DB1E-47EA-A596-51B6093E7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B9FA4-F81C-4E70-9525-3E1581AB4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899A1-870C-4043-9F4F-52BF23EE2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E10D8-39E9-4759-A362-417F3B246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E8582-7713-4A56-AAE8-DFB25C2A2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FE054-38C6-43CA-A8B5-50DC9CFC7E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ample PowerPoin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This is the 1</a:t>
            </a:r>
            <a:r>
              <a:rPr b="0" lang="en-GB" sz="3200" spc="-1" strike="noStrike" baseline="30000">
                <a:solidFill>
                  <a:srgbClr val="898989"/>
                </a:solidFill>
                <a:latin typeface="Calibri"/>
              </a:rPr>
              <a:t>st</a:t>
            </a: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 fi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Not much too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44:44Z</dcterms:created>
  <dc:creator>Nick Burch</dc:creator>
  <dc:description/>
  <dc:language>en-US</dc:language>
  <cp:lastModifiedBy>Nick Burch</cp:lastModifiedBy>
  <dcterms:modified xsi:type="dcterms:W3CDTF">2008-04-11T12:45:36Z</dcterms:modified>
  <cp:revision>1</cp:revision>
  <dc:subject>Testing file 1</dc:subject>
  <dc:title>Sample PPT file</dc:title>
</cp:coreProperties>
</file>