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931-7CAE-4AE4-9B6F-D7E67AC5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76F-8284-4012-8454-457EA50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41E-AA07-4445-B728-C6EF4E7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398-7A5C-4353-B1C5-67B431B4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9DE10-5B42-4D14-88B3-5F7C90FA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8CA0-B91A-4C1C-A401-DFC9AD27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58F43-C16F-4D1F-A5C2-B2951272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CD6C-272F-4E1C-9244-EF2C3289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E13A9-5DCF-441D-8B1D-2C214E4B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1627-5EF9-4D20-8C8A-28ED75FC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7F3D-BDF5-4094-8DEC-F2A69A6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E12-05F0-46C0-887D-80EA043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85855-34CE-462C-8677-F31E6D7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247F3-16DD-4203-8C9B-7A3E1BA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D7AFC-CA85-4249-BC4C-604B9F3D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133B-8B70-4FF2-9E08-743272DF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E1A73-2339-4B2A-934C-9721078E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05C-3067-4CC3-B6FB-ABB720A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796-7C11-41B4-9A6D-B115A21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C6E-3EE5-4939-9B95-F300106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8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7F9-13E4-4A7E-9BF5-1862E5B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B93-ACE5-4DD8-8546-FB65F980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C07-76ED-4212-B7FD-A7119B2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D45-E17C-42A4-8222-4E888F2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E90-0CA0-4665-83E7-84C5E15D76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F411-9563-481B-A85F-E22942A1FB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00080" y="5094000"/>
            <a:ext cx="7686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n experiment with the ASP.NET MVC Framewor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09520" y="3606480"/>
            <a:ext cx="757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rbel"/>
              </a:rPr>
              <a:t>Construction of  the </a:t>
            </a:r>
            <a:r>
              <a:rPr b="1" lang="en-GB" sz="3800" spc="-1" strike="noStrike">
                <a:solidFill>
                  <a:srgbClr val="ff0000"/>
                </a:solidFill>
                <a:latin typeface="Segoe Print"/>
              </a:rPr>
              <a:t>Connections</a:t>
            </a:r>
            <a:r>
              <a:rPr b="0" lang="en-GB" sz="4000" spc="-1" strike="noStrike">
                <a:solidFill>
                  <a:srgbClr val="000000"/>
                </a:solidFill>
                <a:latin typeface="Corbel"/>
              </a:rPr>
              <a:t> recruitment agency websit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Integration with online Team Foundation Server for source code reposito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Source Control Explor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71560" y="2643120"/>
            <a:ext cx="7534080" cy="3333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5668920" y="642960"/>
            <a:ext cx="2724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Integration with online Team Foundation Server for Work Item project manag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Team Explor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57160" y="2666880"/>
            <a:ext cx="541332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6929280" y="2071800"/>
            <a:ext cx="1463760" cy="402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5668920" y="642960"/>
            <a:ext cx="2724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reates documentation help file from com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Sandcastle Documentation Compil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12397" t="19873" r="1966" b="40460"/>
          <a:stretch/>
        </p:blipFill>
        <p:spPr>
          <a:xfrm>
            <a:off x="500040" y="2143080"/>
            <a:ext cx="756144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rcRect l="12397" t="9457" r="13776" b="16836"/>
          <a:stretch/>
        </p:blipFill>
        <p:spPr>
          <a:xfrm>
            <a:off x="3071880" y="2982960"/>
            <a:ext cx="5683320" cy="3546360"/>
          </a:xfrm>
          <a:prstGeom prst="rect">
            <a:avLst/>
          </a:prstGeom>
          <a:ln w="0">
            <a:noFill/>
          </a:ln>
        </p:spPr>
      </p:pic>
      <p:sp>
        <p:nvSpPr>
          <p:cNvPr id="135" name="Arc 5"/>
          <p:cNvSpPr/>
          <p:nvPr/>
        </p:nvSpPr>
        <p:spPr>
          <a:xfrm>
            <a:off x="1857240" y="3857760"/>
            <a:ext cx="1857600" cy="1428480"/>
          </a:xfrm>
          <a:custGeom>
            <a:avLst/>
            <a:gdLst>
              <a:gd name="textAreaLeft" fmla="*/ 0 w 1857600"/>
              <a:gd name="textAreaRight" fmla="*/ 1001880 w 1857600"/>
              <a:gd name="textAreaTop" fmla="*/ 704160 h 1428480"/>
              <a:gd name="textAreaBottom" fmla="*/ 1428840 h 1428480"/>
            </a:gdLst>
            <a:ahLst/>
            <a:rect l="textAreaLeft" t="textAreaTop" r="textAreaRight" b="textAreaBottom"/>
            <a:pathLst>
              <a:path stroke="0" w="1857388" h="1428760">
                <a:moveTo>
                  <a:pt x="1001726" y="1426548"/>
                </a:moveTo>
                <a:lnTo>
                  <a:pt x="1001726" y="1426548"/>
                </a:lnTo>
                <a:arcTo wR="928694" hR="714380" stAng="5048691" swAng="5789161"/>
                <a:lnTo>
                  <a:pt x="928694" y="714380"/>
                </a:lnTo>
                <a:close/>
              </a:path>
              <a:path fill="none" w="1857388" h="1428760">
                <a:moveTo>
                  <a:pt x="1001726" y="1426548"/>
                </a:moveTo>
                <a:lnTo>
                  <a:pt x="1001726" y="1426548"/>
                </a:lnTo>
                <a:arcTo wR="928694" hR="714380" stAng="5048691" swAng="5789161"/>
              </a:path>
            </a:pathLst>
          </a:custGeom>
          <a:noFill/>
          <a:ln w="50760">
            <a:solidFill>
              <a:srgbClr val="4f81bd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MySql</a:t>
            </a: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WorkBen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MySql-to-MSSQ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Microsoft Visual Studio 2008 I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Sandcastle Documentation Compil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Segoe Print"/>
              </a:rPr>
              <a:t>Connection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recruitment agency websit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MySql</a:t>
            </a:r>
            <a:r>
              <a:rPr b="1" lang="en-GB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WorkBench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grates database design, creation and mainten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3340" t="11027" r="1845" b="7082"/>
          <a:stretch/>
        </p:blipFill>
        <p:spPr>
          <a:xfrm>
            <a:off x="755640" y="2550960"/>
            <a:ext cx="75614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MySql-to-MSSQL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grate MySQL databases to Microsoft SQL server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16913" t="6581" r="43963" b="44106"/>
          <a:stretch/>
        </p:blipFill>
        <p:spPr>
          <a:xfrm>
            <a:off x="289080" y="2244600"/>
            <a:ext cx="3600360" cy="284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rcRect l="16860" t="6746" r="44217" b="44432"/>
          <a:stretch/>
        </p:blipFill>
        <p:spPr>
          <a:xfrm>
            <a:off x="1657440" y="2498760"/>
            <a:ext cx="3887640" cy="305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rcRect l="16884" t="6765" r="44037" b="44253"/>
          <a:stretch/>
        </p:blipFill>
        <p:spPr>
          <a:xfrm>
            <a:off x="3241800" y="2747880"/>
            <a:ext cx="38876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rcRect l="16704" t="6411" r="43857" b="44432"/>
          <a:stretch/>
        </p:blipFill>
        <p:spPr>
          <a:xfrm>
            <a:off x="4968720" y="3000240"/>
            <a:ext cx="38894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SP.NET MVC Framewor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Server Explor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Query Gen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LINQ to SQ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Source Control Explor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eam Explor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Microsoft Visual Studio 2008 IDE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Debugging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Picture 4" descr="Untitled-1.png"/>
          <p:cNvPicPr/>
          <p:nvPr/>
        </p:nvPicPr>
        <p:blipFill>
          <a:blip r:embed="rId1"/>
          <a:stretch/>
        </p:blipFill>
        <p:spPr>
          <a:xfrm>
            <a:off x="928800" y="1515960"/>
            <a:ext cx="7286400" cy="4988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1429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Integration with SQL Serv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reate and modify data visual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reate and modify tables visual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Server Explor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192320"/>
            <a:ext cx="2000160" cy="533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857160" y="2500200"/>
            <a:ext cx="5072040" cy="119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rcRect l="0" t="0" r="0" b="15437"/>
          <a:stretch/>
        </p:blipFill>
        <p:spPr>
          <a:xfrm>
            <a:off x="857160" y="4214880"/>
            <a:ext cx="50911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Query Generato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utomatic SQL generation from GUI sele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57160" y="2087640"/>
            <a:ext cx="7429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utomatic data entity cre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rbel"/>
              </a:rPr>
              <a:t>LINQ to SQL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1680" y="2351160"/>
            <a:ext cx="8024760" cy="3506760"/>
          </a:xfrm>
          <a:prstGeom prst="rect">
            <a:avLst/>
          </a:prstGeom>
          <a:ln w="0">
            <a:noFill/>
          </a:ln>
        </p:spPr>
      </p:pic>
      <p:sp>
        <p:nvSpPr>
          <p:cNvPr id="119" name="Arc 7"/>
          <p:cNvSpPr/>
          <p:nvPr/>
        </p:nvSpPr>
        <p:spPr>
          <a:xfrm flipH="1">
            <a:off x="2428920" y="3071880"/>
            <a:ext cx="1928880" cy="1000080"/>
          </a:xfrm>
          <a:custGeom>
            <a:avLst/>
            <a:gdLst>
              <a:gd name="textAreaLeft" fmla="*/ 360 w 1928880"/>
              <a:gd name="textAreaRight" fmla="*/ 1929600 w 1928880"/>
              <a:gd name="textAreaTop" fmla="*/ 0 h 1000080"/>
              <a:gd name="textAreaBottom" fmla="*/ 500040 h 1000080"/>
            </a:gdLst>
            <a:ahLst/>
            <a:rect l="textAreaLeft" t="textAreaTop" r="textAreaRight" b="textAreaBottom"/>
            <a:pathLst>
              <a:path stroke="0" w="1928826" h="1000132">
                <a:moveTo>
                  <a:pt x="301" y="487570"/>
                </a:moveTo>
                <a:lnTo>
                  <a:pt x="301" y="487570"/>
                </a:lnTo>
                <a:arcTo wR="964413" hR="500066" stAng="-10755445" swAng="10755456"/>
                <a:lnTo>
                  <a:pt x="964413" y="500066"/>
                </a:lnTo>
                <a:close/>
              </a:path>
              <a:path fill="none" w="1928826" h="1000132">
                <a:moveTo>
                  <a:pt x="301" y="487570"/>
                </a:moveTo>
                <a:lnTo>
                  <a:pt x="301" y="487570"/>
                </a:lnTo>
                <a:arcTo wR="964413" hR="500066" stAng="-10755445" swAng="10755456"/>
              </a:path>
            </a:pathLst>
          </a:custGeom>
          <a:noFill/>
          <a:ln w="50760">
            <a:solidFill>
              <a:srgbClr val="4f81bd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2500200" y="3357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81bd"/>
                </a:solidFill>
                <a:latin typeface="Corbel"/>
              </a:rPr>
              <a:t>Dra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000680" y="35719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81bd"/>
                </a:solidFill>
                <a:latin typeface="Corbel"/>
              </a:rPr>
              <a:t>Dro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7:45:05Z</dcterms:created>
  <dc:creator>Sheridan</dc:creator>
  <dc:description/>
  <dc:language>en-US</dc:language>
  <cp:lastModifiedBy>Sheridan</cp:lastModifiedBy>
  <dcterms:modified xsi:type="dcterms:W3CDTF">2009-12-16T19:14:47Z</dcterms:modified>
  <cp:revision>12</cp:revision>
  <dc:subject/>
  <dc:title>Connections  recruitment agency website</dc:title>
</cp:coreProperties>
</file>