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736-7001-4B41-A6B0-5F28D915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5680-C330-4058-B25B-2E6EB71C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AA8-CF02-46DB-A411-BD4E66D1F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a FitNesse demo fit in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B0D1-1FEE-412F-AC13-5F63D267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668-2CAF-4636-B72B-6BCC06F6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90280"/>
            <a:ext cx="8153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9028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59028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599840"/>
            <a:ext cx="262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0600" y="1599840"/>
            <a:ext cx="262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90280"/>
            <a:ext cx="262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590280"/>
            <a:ext cx="262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0600" y="3590280"/>
            <a:ext cx="2625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9028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59028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599840"/>
            <a:ext cx="397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90280"/>
            <a:ext cx="8153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10" descr="4726-8"/>
          <p:cNvPicPr/>
          <p:nvPr/>
        </p:nvPicPr>
        <p:blipFill>
          <a:blip r:embed="rId2"/>
          <a:stretch/>
        </p:blipFill>
        <p:spPr>
          <a:xfrm>
            <a:off x="1752480" y="5486400"/>
            <a:ext cx="6858000" cy="1106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" descr="FCSAmerica stacked logo color"/>
          <p:cNvPicPr/>
          <p:nvPr/>
        </p:nvPicPr>
        <p:blipFill>
          <a:blip r:embed="rId3"/>
          <a:stretch/>
        </p:blipFill>
        <p:spPr>
          <a:xfrm>
            <a:off x="380880" y="5562720"/>
            <a:ext cx="137160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deplex.com/rt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Remote Test Runner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unit test tool for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unit test tool-les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Data Driven Test Demo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ig file – many data sources Excel, MS Access, CSV, OLEDB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fig stuff need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ating a Data-Driven tes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Context.DataRo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Unit Testing Demo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Class level method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Method level method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ording Inpu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ording Asser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ependent Asser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Test Class Code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rivate static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MultiAssertTestClassHelper _testClassHelper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ClassInitialize()]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 static void MyClassInitialize(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TestContext testContext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testClassHelper =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MultiAssertTestClassHelper(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DataDrivenSample", testContext.TestDir)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ClassCleanup()]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ublic static void MyClassCleanup(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testClassHelper.Dispose();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Test Method Code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89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lang="en-US" sz="1200" spc="-1" strike="noStrike">
                <a:solidFill>
                  <a:srgbClr val="2b91af"/>
                </a:solidFill>
                <a:latin typeface="Courier New"/>
              </a:rPr>
              <a:t>TestMethod]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public void MyTestMethod(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Setup function helper boundary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using (var functionHelper = _testClassHelper.GetFunctionHelper(TestContext)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Add input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Help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ddInput(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Input1", TestContext.DataRow["Input1"]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ddInput(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Input2", TestContext.DataRow["Input2"])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--snip—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32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583200"/>
                </a:solidFill>
                <a:latin typeface="Courier New"/>
              </a:rPr>
              <a:t>// Add Asserts (Outputs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Help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eEqual&lt;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double&gt;(TestContext.DataRow[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Output1"], sum, "Sum test", "Output1”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eEqual&lt;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double&gt;(TestContext.DataRow[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Output2"], difference,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Difference test", "Output2”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AreEqual&lt;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double&gt;(TestContext.DataRow[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Output3"], dividend,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a31515"/>
                </a:solidFill>
                <a:latin typeface="Courier New"/>
              </a:rPr>
              <a:t>"Division test", "Output3")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TFS Support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stom build task for data file copying in automated build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Gotchas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de access security for DLLs across the networ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spo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icrosoft .NET Framework Confi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STest’s name match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 feedback for MSTest progres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cel/Timeout = PID kill (no output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Technology Summary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CF between Click-Once app and serv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-Driven unit tes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STest conso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Future Enhancement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story retention ru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est queu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 progress feedbac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ends on testing platfor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mail notification of fail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Resources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codeplex.com/rt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Jeremy Nova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vakj@fcsamerica.co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Intro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arget us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usiness owners and QA engine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olved solution for complex logi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Solu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tup and dem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Target Users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 owners, B analysts, Test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derstand the business dat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n’t have Visual Studio (MSTest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have Excel skil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Target Users also create…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 Scenari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Farm Credit examp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financial indicators (credit score, assets, loan amount, etc.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creative business owne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complex test scenari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Why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lution evolu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it test the possibiliti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tNesse – Pretty good but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bugging is har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dundant test dat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code coverage metric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mote Test Runne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Solution Requirements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setup (developer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ru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change input data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ple: Excel documents from SharePoint or network sha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ss and method level test selec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A Solution - Requirements Cont’d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port on inputs and individual asser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inues after failed asser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 run his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un results and data snapsho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tests fails from a nightly buil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st retention (fut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Solution – Pieces and Parts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mote Test Runn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ent - Click-Once applic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rver - WCF service with Visual Studio (MSTest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nit Test support 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s inputs and asser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enerates XML report for RTR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3200"/>
                </a:solidFill>
                <a:latin typeface="Verdana"/>
              </a:rPr>
              <a:t>Remote Test Runner Demos</a:t>
            </a:r>
            <a:endParaRPr b="1" lang="en-US" sz="3200" spc="-1" strike="noStrike">
              <a:solidFill>
                <a:srgbClr val="58320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ding proje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 method sel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 His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ou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9:00:14Z</dcterms:created>
  <dc:creator>novakj</dc:creator>
  <dc:description/>
  <dc:language>en-US</dc:language>
  <cp:lastModifiedBy>novakj</cp:lastModifiedBy>
  <dcterms:modified xsi:type="dcterms:W3CDTF">2009-03-13T15:29:09Z</dcterms:modified>
  <cp:revision>574</cp:revision>
  <dc:subject/>
  <dc:title>Remote Test Runner</dc:title>
</cp:coreProperties>
</file>