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E1C-C0B8-4CE6-8C1F-C073E463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EB35-D176-430B-97E8-1CE15F33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76A-A825-43EF-9675-D3BCC70C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2ADC-7CC0-4363-AD0B-26B53020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12C8-7766-4A38-BE76-DC4CF67E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F735-45D3-401B-AD16-1838CE5F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40D-5AA5-4AB0-80D8-B7FD4AAC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3BEB-A917-47CE-8E52-3A6E5FBE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8F8-5763-4037-A47B-4D4037E1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222C-9DE0-4940-80F6-2FC2850F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169-227A-455B-9576-987E16E9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4CF-BB80-450E-8660-55DB5C75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20ED-E51B-43A4-9027-1139A2DCA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92760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duplicated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ion 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1192320"/>
          <a:ext cx="7620120" cy="55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92320"/>
                    <a:ext cx="762012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8-01-31T17:52:31Z</dcterms:modified>
  <cp:revision>2</cp:revision>
  <dc:subject/>
  <dc:title>Dimension aggregation</dc:title>
</cp:coreProperties>
</file>