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7CDE-3626-4AB6-91FF-3DEECC619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DD38-6C14-436D-AEDA-8E73411FB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BE14-3BBF-4B4C-97B3-EF1B6088E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0216-0729-475F-ABEC-0D9643FF9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FC53-D411-4CE5-839D-898B0AE96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AE18-0F49-4E8A-850E-E0E6BBA8C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56D1-A144-45CD-B13E-AC25DE19E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710C-0517-4639-AE49-AA04A6465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16CC-4549-484F-B8BB-581A55C7B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D92E-E09A-47FB-AAD9-C9900A8AA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AE07-B809-4625-99EA-307233AA2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0CD8-139F-4F67-ACB5-CE40A7175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B45F9-F6F6-4629-A2D3-E17EB5CE23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ime Factors K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33520" y="3048120"/>
            <a:ext cx="1600200" cy="16002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79320" y="3200400"/>
            <a:ext cx="6102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ject Mentor, In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62120" y="6048360"/>
            <a:ext cx="1371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itness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971640" y="5334120"/>
            <a:ext cx="933480" cy="9334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6858000" y="64915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Copyright </a:t>
            </a:r>
            <a:r>
              <a:rPr b="0" lang="en-US" sz="9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 2005  by Object Mentor, In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All copies must retain this page unchang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2209680" y="5765760"/>
            <a:ext cx="2514600" cy="8636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4869000" y="5715000"/>
            <a:ext cx="1295280" cy="5875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944960" y="6058080"/>
            <a:ext cx="1532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junit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55840" y="3657600"/>
            <a:ext cx="2666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objectmentor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log.objectmentor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2514600"/>
            <a:ext cx="8001000" cy="0"/>
          </a:xfrm>
          <a:prstGeom prst="line">
            <a:avLst/>
          </a:prstGeom>
          <a:ln cap="rnd" w="381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irst tes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04920" y="1295280"/>
            <a:ext cx="403848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ackage primeFactors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mport junit.framework.TestCase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class PrimeFactorsTest extends TestCase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rivate List&lt;Integer&gt; list(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return new ArrayList&lt;Integer&gt;(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void testOne() throws Exception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ssertEquals(list(),PrimeFactors.generate(1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724280" y="121932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800600" y="1295280"/>
            <a:ext cx="403848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ackage primeFactors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class PrimeFactors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static List&lt;Integer&gt; generate(int n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return new ArrayList&lt;Integer&gt;(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514600" y="3581280"/>
            <a:ext cx="4419720" cy="30492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04920" y="2438280"/>
            <a:ext cx="152280" cy="533520"/>
          </a:xfrm>
          <a:custGeom>
            <a:avLst/>
            <a:gdLst>
              <a:gd name="textAreaLeft" fmla="*/ 20160 w 152280"/>
              <a:gd name="textAreaRight" fmla="*/ 132120 w 152280"/>
              <a:gd name="textAreaTop" fmla="*/ 93240 h 533520"/>
              <a:gd name="textAreaBottom" fmla="*/ 387000 h 533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econd 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econd tes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04920" y="1295280"/>
            <a:ext cx="4038480" cy="27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ackage primeFactors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mport junit.framework.TestCase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class PrimeFactorsTest extends TestCase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rivate List&lt;Integer&gt; list(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return new ArrayList&lt;Integer&gt;(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void testOne() throws Exception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ssertEquals(list(),PrimeFactors.generate(1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void testTwo() throws Exception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ssertEquals(list(</a:t>
            </a:r>
            <a:r>
              <a:rPr b="0" lang="en-US" sz="900" spc="-1" strike="noStrike">
                <a:solidFill>
                  <a:srgbClr val="ff0000"/>
                </a:solidFill>
                <a:latin typeface="Courier New"/>
              </a:rPr>
              <a:t>2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),PrimeFactors.generate(2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121932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800600" y="1295280"/>
            <a:ext cx="403848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ackage primeFactors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class PrimeFactors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static List&lt;Integer&gt; generate(int n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return new ArrayList&lt;Integer&gt;(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860480" y="3670200"/>
            <a:ext cx="152640" cy="15264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econd tes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4920" y="1295280"/>
            <a:ext cx="4038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ackage primeFactors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mport junit.framework.TestCase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class PrimeFactorsTest extends TestCase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rivate List&lt;Integer&gt; list(</a:t>
            </a: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int... ints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List&lt;Integer&gt; list =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new ArrayList&lt;Integer&gt;(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for (int i : ints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      </a:t>
            </a: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list.add(i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list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void testOne() throws Exception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ssertEquals(list(),PrimeFactors.generate(1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void testTwo() throws Exception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ssertEquals(list(2),PrimeFactors.generate(2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724280" y="121932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800600" y="1295280"/>
            <a:ext cx="403848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ackage primeFactors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class PrimeFactors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static List&lt;Integer&gt; generate(int n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return new ArrayList&lt;Integer&gt;(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359160" y="2320920"/>
            <a:ext cx="647640" cy="82440"/>
          </a:xfrm>
          <a:prstGeom prst="leftArrow">
            <a:avLst>
              <a:gd name="adj1" fmla="val 50000"/>
              <a:gd name="adj2" fmla="val 19639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943440" y="2244600"/>
            <a:ext cx="617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Bradley Hand ITC"/>
              </a:rPr>
              <a:t>vararg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14600" y="4173480"/>
            <a:ext cx="4419720" cy="304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expected:&lt;[2]&gt; but was:&lt;[]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econd tes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04920" y="1295280"/>
            <a:ext cx="4038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ackage primeFactors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mport junit.framework.TestCase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class PrimeFactorsTest extends TestCase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rivate List&lt;Integer&gt; list(int... ints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List&lt;Integer&gt; list = new ArrayList&lt;Integer&gt;(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or (int i : ints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list.add(i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return lis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void testOne() throws Exception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ssertEquals(list(),PrimeFactors.generate(1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void testTwo() throws Exception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ssertEquals(list(2),PrimeFactors.generate(2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724280" y="121932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800600" y="1295280"/>
            <a:ext cx="403848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ackage primeFactors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class PrimeFactors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static List&lt;Integer&gt; generate(int n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List&lt;Integer&gt; primes =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new ArrayList&lt;Integer&gt;(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if (n &gt; 1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      </a:t>
            </a: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primes.add(2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primes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514600" y="4216320"/>
            <a:ext cx="4419720" cy="30492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econd tes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04920" y="1295280"/>
            <a:ext cx="4038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ackage primeFactors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import static primeFactors.PrimeFactors.generate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mport junit.framework.TestCase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class PrimeFactorsTest extends TestCase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rivate List&lt;Integer&gt; list(int... ints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List&lt;Integer&gt; list = new ArrayList&lt;Integer&gt;(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or (int i : ints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list.add(i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return lis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void testOne() throws Exception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ssertEquals(list(),generate(1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void testTwo() throws Exception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ssertEquals(list(2),generate(2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724280" y="121932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800600" y="1295280"/>
            <a:ext cx="403848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ackage primeFactors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class PrimeFactors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static List&lt;Integer&gt; generate(int n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List&lt;Integer&gt; primes = new ArrayList&lt;Integer&gt;(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f (n &gt; 1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rimes.add(2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return primes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514600" y="4280040"/>
            <a:ext cx="4419720" cy="30456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389320" y="3532320"/>
            <a:ext cx="88920" cy="161640"/>
          </a:xfrm>
          <a:prstGeom prst="upArrow">
            <a:avLst>
              <a:gd name="adj1" fmla="val 50000"/>
              <a:gd name="adj2" fmla="val 45445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371680" y="4075200"/>
            <a:ext cx="88920" cy="162000"/>
          </a:xfrm>
          <a:prstGeom prst="upArrow">
            <a:avLst>
              <a:gd name="adj1" fmla="val 50000"/>
              <a:gd name="adj2" fmla="val 4554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hird 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hird tes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04920" y="1295280"/>
            <a:ext cx="403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ackage primeFactors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mport static primeFactors.PrimeFactors.generate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mport junit.framework.TestCase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class PrimeFactorsTest extends TestCase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rivate List&lt;Integer&gt; list(int... ints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List&lt;Integer&gt; list = new ArrayList&lt;Integer&gt;(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or (int i : ints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list.add(i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return lis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void testOne() throws Exception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ssertEquals(list(),generate(1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void testTwo() throws Exception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ssertEquals(list(2),generate(2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public void testThree() throws Exception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assertEquals(list(3),generate(3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724280" y="121932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800600" y="1295280"/>
            <a:ext cx="403848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ackage primeFactors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class PrimeFactors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static List&lt;Integer&gt; generate(int n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List&lt;Integer&gt; primes = new ArrayList&lt;Integer&gt;(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f (n &gt; 1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rimes.add(2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return primes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514600" y="4753080"/>
            <a:ext cx="4419720" cy="304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expected:&lt;[3]&gt; but was:&lt;[2]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hird tes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04920" y="1295280"/>
            <a:ext cx="403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ackage primeFactors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mport static primeFactors.PrimeFactors.generate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mport junit.framework.TestCase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class PrimeFactorsTest extends TestCase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rivate List&lt;Integer&gt; list(int... ints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List&lt;Integer&gt; list = new ArrayList&lt;Integer&gt;(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or (int i : ints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list.add(i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return lis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void testOne() throws Exception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ssertEquals(list(),generate(1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void testTwo() throws Exception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ssertEquals(list(2),generate(2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void testThree() throws Exception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ssertEquals(list(3),generate(3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724280" y="121932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800600" y="1295280"/>
            <a:ext cx="403848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ackage primeFactors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class PrimeFactors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static List&lt;Integer&gt; generate(int n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List&lt;Integer&gt; primes = new ArrayList&lt;Integer&gt;(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f (n &gt; 1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rimes.add(</a:t>
            </a: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n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return primes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514600" y="4753080"/>
            <a:ext cx="4419720" cy="30456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356520" y="2460600"/>
            <a:ext cx="398160" cy="88920"/>
          </a:xfrm>
          <a:prstGeom prst="leftArrow">
            <a:avLst>
              <a:gd name="adj1" fmla="val 50000"/>
              <a:gd name="adj2" fmla="val 111943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ourth 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ting Prime Factor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47120" y="2017800"/>
            <a:ext cx="8490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 quite short, this kata is fascinating in the way it shows how ‘if’ stat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come ‘while’ statements as the number of test cases increase.  It’s also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nderful example of how algorithms sometimes become simpler as they bec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gener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stumbled upon this little kata one evening when my son was in 7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rade.  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d just discovered that all numbers can be broken down into a product of pri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was interested in exploring this further.  So I wrote a little ruby program, test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, and was stunned by how the algorithm evolv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have done this particular kata in Java 5.0.  This should give you a feel for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wer and convenience of some of the new featu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ourth tes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04920" y="1295280"/>
            <a:ext cx="40384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ackage primeFactors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mport static primeFactors.PrimeFactors.generate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mport junit.framework.TestCase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class PrimeFactorsTest extends TestCase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rivate List&lt;Integer&gt; list(int... ints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List&lt;Integer&gt; list = new ArrayList&lt;Integer&gt;(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or (int i : ints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list.add(i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return lis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void testOne() throws Exception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ssertEquals(list(),generate(1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void testTwo() throws Exception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ssertEquals(list(2),generate(2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void testThree() throws Exception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ssertEquals(list(3),generate(3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public void testFour() throws Exception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assertEquals(list(2,2),generate(4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724280" y="121932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00600" y="1295280"/>
            <a:ext cx="403848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ackage primeFactors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class PrimeFactors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static List&lt;Integer&gt; generate(int n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List&lt;Integer&gt; primes = new ArrayList&lt;Integer&gt;(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f (n &gt; 1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rimes.add(n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return primes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14600" y="5245200"/>
            <a:ext cx="4419720" cy="304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expected:&lt;[2, 2]&gt; but was:&lt;[4]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ourth tes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1295280"/>
            <a:ext cx="40384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ackage primeFactors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mport static primeFactors.PrimeFactors.generate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mport junit.framework.TestCase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class PrimeFactorsTest extends TestCase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rivate List&lt;Integer&gt; list(int... ints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List&lt;Integer&gt; list = new ArrayList&lt;Integer&gt;(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or (int i : ints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list.add(i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return lis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void testOne() throws Exception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ssertEquals(list(),generate(1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void testTwo() throws Exception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ssertEquals(list(2),generate(2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void testThree() throws Exception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ssertEquals(list(3),generate(3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void testFour() throws Exception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ssertEquals(list(2,2),generate(4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24280" y="121932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800600" y="1295280"/>
            <a:ext cx="40384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ackage primeFactors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class PrimeFactors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static List&lt;Integer&gt; generate(int n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List&lt;Integer&gt; primes = new ArrayList&lt;Integer&gt;(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f (n &gt; 1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      </a:t>
            </a: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if (n%2 == 0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        </a:t>
            </a: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primes.add(2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        </a:t>
            </a: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n /= 2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      </a:t>
            </a: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if (n &gt; 1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rimes.add(n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return primes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14600" y="5245200"/>
            <a:ext cx="4419720" cy="30456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ifth 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ifth tes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04920" y="1295280"/>
            <a:ext cx="40384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ackage primeFactors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mport static primeFactors.PrimeFactors.generate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mport junit.framework.TestCase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class PrimeFactorsTest extends TestCase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rivate List&lt;Integer&gt; list(int... ints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List&lt;Integer&gt; list = new ArrayList&lt;Integer&gt;(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or (int i : ints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list.add(i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return lis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void testOne() throws Exception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ssertEquals(list(),generate(1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void testTwo() throws Exception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ssertEquals(list(2),generate(2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void testThree() throws Exception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ssertEquals(list(3),generate(3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void testFour() throws Exception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ssertEquals(list(2,2),generate(4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public void testSix() throws Exception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assertEquals(list(2,3),generate(6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724280" y="121932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295280"/>
            <a:ext cx="40384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ackage primeFactors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class PrimeFactors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static List&lt;Integer&gt; generate(int n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List&lt;Integer&gt; primes = new ArrayList&lt;Integer&gt;(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f (n &gt; 1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      </a:t>
            </a: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if (n%2 == 0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        </a:t>
            </a: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primes.add(2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        </a:t>
            </a: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n /= 2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      </a:t>
            </a: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if (n &gt; 1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rimes.add(n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return primes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514600" y="5840280"/>
            <a:ext cx="4419720" cy="30492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ixth 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ixth tes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04920" y="1295280"/>
            <a:ext cx="40384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ackage primeFactors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mport static primeFactors.PrimeFactors.generate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mport junit.framework.TestCase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class PrimeFactorsTest extends TestCase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rivate List&lt;Integer&gt; list(int... ints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List&lt;Integer&gt; list = new ArrayList&lt;Integer&gt;(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or (int i : ints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list.add(i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return lis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void testOne() throws Exception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ssertEquals(list(),generate(1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void testTwo() throws Exception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ssertEquals(list(2),generate(2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void testThree() throws Exception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ssertEquals(list(3),generate(3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void testFour() throws Exception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ssertEquals(list(2,2),generate(4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void testSix() throws Exception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ssertEquals(list(2,3),generate(6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public void testEight() throws Exception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assertEquals(list(2,2,2),generate(8));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724280" y="121932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800600" y="1295280"/>
            <a:ext cx="40384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ackage primeFactors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class PrimeFactors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static List&lt;Integer&gt; generate(int n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List&lt;Integer&gt; primes = new ArrayList&lt;Integer&gt;(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f (n &gt; 1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f (n%2 == 0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rimes.add(2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n /= 2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f (n &gt; 1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rimes.add(n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return primes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514600" y="6357960"/>
            <a:ext cx="4419720" cy="304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expected:&lt;[2, 2, 2]&gt; but was:&lt;[2, 4]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ixth tes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04920" y="1295280"/>
            <a:ext cx="40384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ackage primeFactors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mport static primeFactors.PrimeFactors.generate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mport junit.framework.TestCase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class PrimeFactorsTest extends TestCase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rivate List&lt;Integer&gt; list(int... ints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List&lt;Integer&gt; list = new ArrayList&lt;Integer&gt;(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or (int i : ints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list.add(i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return lis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void testOne() throws Exception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ssertEquals(list(),generate(1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void testTwo() throws Exception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ssertEquals(list(2),generate(2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void testThree() throws Exception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ssertEquals(list(3),generate(3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void testFour() throws Exception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ssertEquals(list(2,2),generate(4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void testSix() throws Exception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ssertEquals(list(2,3),generate(6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void testEight() throws Exception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ssertEquals(list(2,2,2),generate(8));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724280" y="121932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00600" y="1295280"/>
            <a:ext cx="40384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ackage primeFactors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class PrimeFactors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static List&lt;Integer&gt; generate(int n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List&lt;Integer&gt; primes = new ArrayList&lt;Integer&gt;(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f (n &gt; 1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while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(n%2 == 0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rimes.add(2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n /= 2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f (n &gt; 1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rimes.add(n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return primes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514600" y="6357960"/>
            <a:ext cx="4419720" cy="30492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599160" y="2460600"/>
            <a:ext cx="414360" cy="88920"/>
          </a:xfrm>
          <a:prstGeom prst="leftArrow">
            <a:avLst>
              <a:gd name="adj1" fmla="val 50000"/>
              <a:gd name="adj2" fmla="val 116498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681960" y="2479680"/>
            <a:ext cx="617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ff"/>
                </a:solidFill>
                <a:latin typeface="Bradley Hand ITC"/>
              </a:rPr>
              <a:t>! ! 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eventh 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eventh tes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04920" y="874800"/>
            <a:ext cx="4038480" cy="55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ackage primeFactors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mport static primeFactors.PrimeFactors.generate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mport junit.framework.TestCase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class PrimeFactorsTest extends TestCase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rivate List&lt;Integer&gt; list(int... ints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List&lt;Integer&gt; list = new ArrayList&lt;Integer&gt;(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or (int i : ints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list.add(i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return lis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void testOne() throws Exception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ssertEquals(list(),generate(1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void testTwo() throws Exception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ssertEquals(list(2),generate(2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void testThree() throws Exception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ssertEquals(list(3),generate(3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void testFour() throws Exception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ssertEquals(list(2,2),generate(4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void testSix() throws Exception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ssertEquals(list(2,3),generate(6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void testEight() throws Exception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ssertEquals(list(2,2,2),generate(8));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public void testNine() throws Exception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assertEquals(list(3,3),generate(9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724280" y="121932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00600" y="1295280"/>
            <a:ext cx="40384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ackage primeFactors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class PrimeFactors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static List&lt;Integer&gt; generate(int n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List&lt;Integer&gt; primes = new ArrayList&lt;Integer&gt;(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f (n &gt; 1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while (n%2 == 0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rimes.add(2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n /= 2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f (n &gt; 1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rimes.add(n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return primes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514600" y="6357960"/>
            <a:ext cx="4419720" cy="304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expected:&lt;[3, 3]&gt; but was:&lt;[9]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eventh tes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04920" y="874800"/>
            <a:ext cx="4038480" cy="55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ackage primeFactors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mport static primeFactors.PrimeFactors.generate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mport junit.framework.TestCase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class PrimeFactorsTest extends TestCase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rivate List&lt;Integer&gt; list(int... ints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List&lt;Integer&gt; list = new ArrayList&lt;Integer&gt;(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or (int i : ints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list.add(i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return lis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void testOne() throws Exception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ssertEquals(list(),generate(1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void testTwo() throws Exception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ssertEquals(list(2),generate(2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void testThree() throws Exception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ssertEquals(list(3),generate(3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void testFour() throws Exception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ssertEquals(list(2,2),generate(4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void testSix() throws Exception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ssertEquals(list(2,3),generate(6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void testEight() throws Exception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ssertEquals(list(2,2,2),generate(8));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void testNine() throws Exception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ssertEquals(list(3,3),generate(9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724280" y="121932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00600" y="1295280"/>
            <a:ext cx="4038480" cy="27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ackage primeFactors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class PrimeFactors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static List&lt;Integer&gt; generate(int n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List&lt;Integer&gt; primes = new ArrayList&lt;Integer&gt;(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f (n &gt; 1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int candidate = 2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while (n%</a:t>
            </a: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candidate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== 0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rimes.add(</a:t>
            </a: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candidate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n /= </a:t>
            </a: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candidate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f (n &gt; 1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rimes.add(n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return primes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514600" y="6357960"/>
            <a:ext cx="4419720" cy="304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expected:&lt;[3, 3]&gt; but was:&lt;[9]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Requirement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3657600" y="1295280"/>
          <a:ext cx="1523880" cy="123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7600" y="1295280"/>
                    <a:ext cx="1523880" cy="123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520" y="22856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a class named “PrimeFactors” that has one static method: gener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enerate method takes an integer argument and returns a List&lt;Integer&gt;.  That list contains the prime factors in numerical sequ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eventh tes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04920" y="874800"/>
            <a:ext cx="4038480" cy="55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ackage primeFactors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mport static primeFactors.PrimeFactors.generate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mport junit.framework.TestCase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class PrimeFactorsTest extends TestCase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rivate List&lt;Integer&gt; list(int... ints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List&lt;Integer&gt; list = new ArrayList&lt;Integer&gt;(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or (int i : ints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list.add(i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return lis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void testOne() throws Exception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ssertEquals(list(),generate(1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void testTwo() throws Exception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ssertEquals(list(2),generate(2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void testThree() throws Exception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ssertEquals(list(3),generate(3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void testFour() throws Exception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ssertEquals(list(2,2),generate(4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void testSix() throws Exception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ssertEquals(list(2,3),generate(6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void testEight() throws Exception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ssertEquals(list(2,2,2),generate(8));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void testNine() throws Exception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ssertEquals(list(3,3),generate(9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21932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800600" y="1295280"/>
            <a:ext cx="4038480" cy="27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ackage primeFactors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class PrimeFactors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static List&lt;Integer&gt; generate(int n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List&lt;Integer&gt; primes = new ArrayList&lt;Integer&gt;(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f (n &gt; 1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t candidate = 2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while (n % candidate == 0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rimes.add(candidate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n /= candidate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if (n &gt; 1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      </a:t>
            </a: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primes.add(n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return primes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514600" y="6357960"/>
            <a:ext cx="4419720" cy="304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expected:&lt;[3, 3]&gt; but was:&lt;[9]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970520" y="3067200"/>
            <a:ext cx="176040" cy="353880"/>
          </a:xfrm>
          <a:custGeom>
            <a:avLst/>
            <a:gdLst>
              <a:gd name="textAreaLeft" fmla="*/ 23400 w 176040"/>
              <a:gd name="textAreaRight" fmla="*/ 152640 w 176040"/>
              <a:gd name="textAreaTop" fmla="*/ 61920 h 353880"/>
              <a:gd name="textAreaBottom" fmla="*/ 256680 h 35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eventh tes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04920" y="874800"/>
            <a:ext cx="4038480" cy="55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ackage primeFactors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mport static primeFactors.PrimeFactors.generate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mport junit.framework.TestCase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class PrimeFactorsTest extends TestCase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rivate List&lt;Integer&gt; list(int... ints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List&lt;Integer&gt; list = new ArrayList&lt;Integer&gt;(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or (int i : ints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list.add(i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return lis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void testOne() throws Exception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ssertEquals(list(),generate(1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void testTwo() throws Exception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ssertEquals(list(2),generate(2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void testThree() throws Exception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ssertEquals(list(3),generate(3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void testFour() throws Exception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ssertEquals(list(2,2),generate(4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void testSix() throws Exception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ssertEquals(list(2,3),generate(6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void testEight() throws Exception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ssertEquals(list(2,2,2),generate(8));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void testNine() throws Exception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ssertEquals(list(3,3),generate(9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724280" y="121932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800600" y="1295280"/>
            <a:ext cx="4038480" cy="27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ackage primeFactors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class PrimeFactors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static List&lt;Integer&gt; generate(int n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List&lt;Integer&gt; primes = new ArrayList&lt;Integer&gt;(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int candidate = 2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f (n &gt; 1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while (n % candidate == 0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rimes.add(candidate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n /= candidate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f (n &gt; 1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rimes.add(n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return primes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514600" y="6357960"/>
            <a:ext cx="4419720" cy="304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expected:&lt;[3, 3]&gt; but was:&lt;[9]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4867200" y="2305080"/>
            <a:ext cx="162000" cy="309600"/>
          </a:xfrm>
          <a:custGeom>
            <a:avLst/>
            <a:gdLst>
              <a:gd name="textAreaLeft" fmla="*/ 21600 w 162000"/>
              <a:gd name="textAreaRight" fmla="*/ 140400 w 162000"/>
              <a:gd name="textAreaTop" fmla="*/ 54000 h 309600"/>
              <a:gd name="textAreaBottom" fmla="*/ 224640 h 309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eventh tes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04920" y="874800"/>
            <a:ext cx="4038480" cy="55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ackage primeFactors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mport static primeFactors.PrimeFactors.generate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mport junit.framework.TestCase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class PrimeFactorsTest extends TestCase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rivate List&lt;Integer&gt; list(int... ints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List&lt;Integer&gt; list = new ArrayList&lt;Integer&gt;(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or (int i : ints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list.add(i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return lis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void testOne() throws Exception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ssertEquals(list(),generate(1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void testTwo() throws Exception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ssertEquals(list(2),generate(2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void testThree() throws Exception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ssertEquals(list(3),generate(3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void testFour() throws Exception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ssertEquals(list(2,2),generate(4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void testSix() throws Exception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ssertEquals(list(2,3),generate(6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void testEight() throws Exception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ssertEquals(list(2,2,2),generate(8));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void testNine() throws Exception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ssertEquals(list(3,3),generate(9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121932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800600" y="1295280"/>
            <a:ext cx="4038480" cy="27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ackage primeFactors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class PrimeFactors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static List&lt;Integer&gt; generate(int n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List&lt;Integer&gt; primes = new ArrayList&lt;Integer&gt;(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int candidate = 2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f (n &gt; 1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while (n % candidate == 0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rimes.add(candidate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n /= candidate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f (n &gt; 1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rimes.add(n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return primes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6357960"/>
            <a:ext cx="4419720" cy="304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expected:&lt;[3, 3]&gt; but was:&lt;[9]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4867200" y="2305080"/>
            <a:ext cx="162000" cy="309600"/>
          </a:xfrm>
          <a:custGeom>
            <a:avLst/>
            <a:gdLst>
              <a:gd name="textAreaLeft" fmla="*/ 21600 w 162000"/>
              <a:gd name="textAreaRight" fmla="*/ 140400 w 162000"/>
              <a:gd name="textAreaTop" fmla="*/ 54000 h 309600"/>
              <a:gd name="textAreaBottom" fmla="*/ 224640 h 309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eventh tes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874800"/>
            <a:ext cx="4038480" cy="55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ackage primeFactors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mport static primeFactors.PrimeFactors.generate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mport junit.framework.TestCase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class PrimeFactorsTest extends TestCase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rivate List&lt;Integer&gt; list(int... ints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List&lt;Integer&gt; list = new ArrayList&lt;Integer&gt;(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or (int i : ints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list.add(i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return lis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void testOne() throws Exception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ssertEquals(list(),generate(1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void testTwo() throws Exception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ssertEquals(list(2),generate(2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void testThree() throws Exception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ssertEquals(list(3),generate(3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void testFour() throws Exception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ssertEquals(list(2,2),generate(4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void testSix() throws Exception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ssertEquals(list(2,3),generate(6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void testEight() throws Exception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ssertEquals(list(2,2,2),generate(8));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void testNine() throws Exception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ssertEquals(list(3,3),generate(9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724280" y="121932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800600" y="1295280"/>
            <a:ext cx="40384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ackage primeFactors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class PrimeFactors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static List&lt;Integer&gt; generate(int n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List&lt;Integer&gt; primes = new ArrayList&lt;Integer&gt;(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t candidate = 2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while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(n &gt; 1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while (n % candidate == 0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rimes.add(candidate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n /= candidate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      </a:t>
            </a: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candidate++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f (n &gt; 1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rimes.add(n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return primes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514600" y="6357960"/>
            <a:ext cx="4419720" cy="30492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599160" y="2460600"/>
            <a:ext cx="414360" cy="88920"/>
          </a:xfrm>
          <a:prstGeom prst="leftArrow">
            <a:avLst>
              <a:gd name="adj1" fmla="val 50000"/>
              <a:gd name="adj2" fmla="val 116498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967440" y="2400480"/>
            <a:ext cx="617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ff"/>
                </a:solidFill>
                <a:latin typeface="Bradley Hand ITC"/>
              </a:rPr>
              <a:t>! ! 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eventh tes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04920" y="874800"/>
            <a:ext cx="4038480" cy="55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ackage primeFactors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mport static primeFactors.PrimeFactors.generate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mport junit.framework.TestCase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class PrimeFactorsTest extends TestCase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rivate List&lt;Integer&gt; list(int... ints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List&lt;Integer&gt; list = new ArrayList&lt;Integer&gt;(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or (int i : ints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list.add(i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return lis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void testOne() throws Exception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ssertEquals(list(),generate(1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void testTwo() throws Exception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ssertEquals(list(2),generate(2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void testThree() throws Exception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ssertEquals(list(3),generate(3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void testFour() throws Exception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ssertEquals(list(2,2),generate(4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void testSix() throws Exception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ssertEquals(list(2,3),generate(6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void testEight() throws Exception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ssertEquals(list(2,2,2),generate(8));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void testNine() throws Exception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ssertEquals(list(3,3),generate(9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724280" y="121932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800600" y="1295280"/>
            <a:ext cx="40384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ackage primeFactors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class PrimeFactors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static List&lt;Integer&gt; generate(int n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List&lt;Integer&gt; primes = new ArrayList&lt;Integer&gt;(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t candidate = 2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while (n &gt; 1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while (n % candidate == 0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rimes.add(candidate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n /= candidate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andidate++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return primes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514600" y="6357960"/>
            <a:ext cx="4419720" cy="30492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162400" y="3268800"/>
            <a:ext cx="1622520" cy="158760"/>
          </a:xfrm>
          <a:custGeom>
            <a:avLst/>
            <a:gdLst/>
            <a:ahLst/>
            <a:rect l="l" t="t" r="r" b="b"/>
            <a:pathLst>
              <a:path w="1022" h="100">
                <a:moveTo>
                  <a:pt x="0" y="73"/>
                </a:moveTo>
                <a:cubicBezTo>
                  <a:pt x="209" y="75"/>
                  <a:pt x="418" y="78"/>
                  <a:pt x="627" y="78"/>
                </a:cubicBezTo>
                <a:cubicBezTo>
                  <a:pt x="777" y="78"/>
                  <a:pt x="738" y="100"/>
                  <a:pt x="794" y="64"/>
                </a:cubicBezTo>
                <a:cubicBezTo>
                  <a:pt x="790" y="35"/>
                  <a:pt x="781" y="13"/>
                  <a:pt x="752" y="3"/>
                </a:cubicBezTo>
                <a:cubicBezTo>
                  <a:pt x="741" y="5"/>
                  <a:pt x="727" y="0"/>
                  <a:pt x="720" y="8"/>
                </a:cubicBezTo>
                <a:cubicBezTo>
                  <a:pt x="708" y="20"/>
                  <a:pt x="750" y="43"/>
                  <a:pt x="757" y="45"/>
                </a:cubicBezTo>
                <a:cubicBezTo>
                  <a:pt x="824" y="93"/>
                  <a:pt x="770" y="58"/>
                  <a:pt x="966" y="50"/>
                </a:cubicBezTo>
                <a:cubicBezTo>
                  <a:pt x="968" y="50"/>
                  <a:pt x="1022" y="48"/>
                  <a:pt x="1022" y="36"/>
                </a:cubicBezTo>
              </a:path>
            </a:pathLst>
          </a:cu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eventh tes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04920" y="874800"/>
            <a:ext cx="4038480" cy="55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ackage primeFactors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mport static primeFactors.PrimeFactors.generate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mport junit.framework.TestCase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class PrimeFactorsTest extends TestCase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rivate List&lt;Integer&gt; list(int... ints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List&lt;Integer&gt; list = new ArrayList&lt;Integer&gt;(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or (int i : ints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list.add(i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return lis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void testOne() throws Exception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ssertEquals(list(),generate(1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void testTwo() throws Exception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ssertEquals(list(2),generate(2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void testThree() throws Exception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ssertEquals(list(3),generate(3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void testFour() throws Exception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ssertEquals(list(2,2),generate(4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void testSix() throws Exception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ssertEquals(list(2,3),generate(6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void testEight() throws Exception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ssertEquals(list(2,2,2),generate(8));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void testNine() throws Exception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ssertEquals(list(3,3),generate(9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724280" y="121932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800600" y="1295280"/>
            <a:ext cx="4038480" cy="24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ackage primeFactors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class PrimeFactors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static List&lt;Integer&gt; generate(int n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List&lt;Integer&gt; primes = new ArrayList&lt;Integer&gt;(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t candidate = 2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while (n &gt; 1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for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(; n%candidate == 0; n/=candid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rimes.add(candidate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andidate++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return primes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514600" y="6357960"/>
            <a:ext cx="4419720" cy="30492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59280" y="2600280"/>
            <a:ext cx="258840" cy="88920"/>
          </a:xfrm>
          <a:prstGeom prst="rightArrow">
            <a:avLst>
              <a:gd name="adj1" fmla="val 50000"/>
              <a:gd name="adj2" fmla="val 72773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eventh tes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04920" y="874800"/>
            <a:ext cx="4038480" cy="55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ackage primeFactors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mport static primeFactors.PrimeFactors.generate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mport junit.framework.TestCase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class PrimeFactorsTest extends TestCase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rivate List&lt;Integer&gt; list(int... ints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List&lt;Integer&gt; list = new ArrayList&lt;Integer&gt;(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or (int i : ints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list.add(i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return lis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void testOne() throws Exception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ssertEquals(list(),generate(1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void testTwo() throws Exception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ssertEquals(list(2),generate(2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void testThree() throws Exception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ssertEquals(list(3),generate(3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void testFour() throws Exception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ssertEquals(list(2,2),generate(4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void testSix() throws Exception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ssertEquals(list(2,3),generate(6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void testEight() throws Exception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ssertEquals(list(2,2,2),generate(8));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void testNine() throws Exception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ssertEquals(list(3,3),generate(9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724280" y="121932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800600" y="1295280"/>
            <a:ext cx="403848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ackage primeFactors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class PrimeFactors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static List&lt;Integer&gt; generate(int n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List&lt;Integer&gt; primes = new ArrayList&lt;Integer&gt;(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or (int candidate = 2; n &gt; 1; candidate++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or (; n%candidate == 0; n/=candid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rimes.add(candidate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return primes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514600" y="6357960"/>
            <a:ext cx="4419720" cy="30492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367240" y="3873600"/>
            <a:ext cx="2276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Bradley Hand ITC"/>
              </a:rPr>
              <a:t>The algorith is three lines of code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gi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a project named PrimeFac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a package named primeFac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a unit test named PrimeFactors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11280" y="4495680"/>
            <a:ext cx="38383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package primeFactors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mport junit.framework.TestCase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public class PrimeFactorsTest extends TestCase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5715000"/>
            <a:ext cx="441972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o tests found in primeFactors.PrimeFactorsT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irst tes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1295280"/>
            <a:ext cx="403848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ackage primeFactors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mport junit.framework.TestCase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class PrimeFactorsTest extends TestCase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void testOne() throws Exception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ssertEquals(</a:t>
            </a:r>
            <a:r>
              <a:rPr b="0" lang="en-US" sz="900" spc="-1" strike="noStrike">
                <a:solidFill>
                  <a:srgbClr val="ff0000"/>
                </a:solidFill>
                <a:latin typeface="Courier New"/>
              </a:rPr>
              <a:t>list()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900" spc="-1" strike="noStrike">
                <a:solidFill>
                  <a:srgbClr val="ff0000"/>
                </a:solidFill>
                <a:latin typeface="Courier New"/>
              </a:rPr>
              <a:t>PrimeFactors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.generate(1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21932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800600" y="1295280"/>
            <a:ext cx="4038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irst tes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4920" y="1295280"/>
            <a:ext cx="403848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ackage primeFactors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mport junit.framework.TestCase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mport java.util.Lis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class PrimeFactorsTest extends TestCase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void testOne() throws Exception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ssertEquals(list(),</a:t>
            </a:r>
            <a:r>
              <a:rPr b="0" lang="en-US" sz="900" spc="-1" strike="noStrike">
                <a:solidFill>
                  <a:srgbClr val="ff0000"/>
                </a:solidFill>
                <a:latin typeface="Courier New"/>
              </a:rPr>
              <a:t>PrimeFactors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.generate(1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rivate List&lt;Integer&gt; list(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return null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24280" y="121932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800600" y="1295280"/>
            <a:ext cx="4038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irst tes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04920" y="1295280"/>
            <a:ext cx="403848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ackage primeFactors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mport junit.framework.TestCase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mport java.util.Lis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class PrimeFactorsTest extends TestCase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void testOne() throws Exception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ssertEquals(list(),PrimeFactors</a:t>
            </a:r>
            <a:r>
              <a:rPr b="0" lang="en-US" sz="900" spc="-1" strike="noStrike">
                <a:solidFill>
                  <a:srgbClr val="ff0000"/>
                </a:solidFill>
                <a:latin typeface="Courier New"/>
              </a:rPr>
              <a:t>.generate(1)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rivate List&lt;Integer&gt; list(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return null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724280" y="121932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800600" y="129528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ackage primeFactors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class PrimeFactors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irst tes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04920" y="1295280"/>
            <a:ext cx="403848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ackage primeFactors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mport junit.framework.TestCase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mport java.util.Lis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class PrimeFactorsTest extends TestCase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void testOne() throws Exception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ssertEquals(list(),PrimeFactors.generate(1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rivate List&lt;Integer&gt; list(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return null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724280" y="121932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800600" y="1295280"/>
            <a:ext cx="403848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ackage primeFactors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import java.util.*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class PrimeFactors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public static List&lt;Integer&gt; generate(int n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return new ArrayList&lt;Integer&gt;(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3276720"/>
            <a:ext cx="4419720" cy="304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expected:&lt;null&gt; but was:&lt;[]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irst tes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04920" y="1295280"/>
            <a:ext cx="403848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ackage primeFactors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mport junit.framework.TestCase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class PrimeFactorsTest extends TestCase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void testOne() throws Exception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ssertEquals(list(),PrimeFactors.generate(1)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rivate List&lt;Integer&gt; list(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new ArrayList&lt;Integer&gt;()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724280" y="121932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800600" y="1295280"/>
            <a:ext cx="403848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ackage primeFactors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class PrimeFactors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static List&lt;Integer&gt; generate(int n) {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return new ArrayList&lt;Integer&gt;()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429000"/>
            <a:ext cx="4419720" cy="30492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2T14:35:57Z</dcterms:created>
  <dc:creator>Robert C. Martin</dc:creator>
  <dc:description/>
  <dc:language>en-US</dc:language>
  <cp:lastModifiedBy>Robert C. Martin</cp:lastModifiedBy>
  <dcterms:modified xsi:type="dcterms:W3CDTF">2005-06-24T17:16:20Z</dcterms:modified>
  <cp:revision>31</cp:revision>
  <dc:subject/>
  <dc:title>Bowling Game Kata</dc:title>
</cp:coreProperties>
</file>