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1EB1-520B-47D4-A762-FB03B4796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906E-B6B5-486A-A33F-970A5C1E6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7948-8919-4182-8635-81D627D12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E773-7643-49AB-B3D9-7338325B0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A3FE-AC02-4C4B-A127-46099F14C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3463-4BFF-4F2C-9990-515DE2BAF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33E47-D1B6-4937-85DF-FDD669420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82E1-3AEE-4EB2-AF3B-F005C8C43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87A7-F417-4A60-BA8A-C568BD7E7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076A-21C0-427B-9A06-5E5BC6E30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B528-8124-4240-85A6-CF592501E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2323-580D-4A6C-AF81-C4224B735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C33B-D441-4625-9351-C1B074496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4C93-1BE6-415A-B3AE-605B4F3A9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18CC-7D06-4595-A789-EE94B19AE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43B9-8D55-41EB-831A-233094467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7DA1-10DF-4B5F-A9F2-6D13C8EBD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D128-DC3D-4EC5-B159-734981494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41369-378D-4230-B352-F474F31C5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95A5-4029-4C87-9B4B-BAC4D9666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80BD-0B16-4F13-9637-4ED679B41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F22F-64CD-49AC-88BF-E30DA74DB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936E-BFA1-49FE-BB41-0E785723A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412B-6422-470C-AA15-4C83330E2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E2B0-E402-45F8-BB40-8D47C5D8D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E118-9C97-41B8-8402-ED2E25D15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5FE6-B94A-4F85-8365-9FA401A7B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186F-2EA2-457F-BC15-74C194304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4DDB-1E1E-446F-BAE8-E9B87721E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8CEE-12F4-4E4D-A6D9-624C9E18C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CF62-23AF-4487-9B54-9D775B485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D15E-D5F8-44EC-969D-57A8EF79F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A3CB-1E2B-4DDA-B9BA-53845B52E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9F83-590D-49D6-9C9B-D19363ACC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0DC6-6D38-4B67-86F9-4E05031A8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942C-81D2-42AD-A7CF-42064AA76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391FC-025C-4F6B-BC4D-F60DA5128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D481-4041-4296-AE89-891AF2B15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F983-B531-436A-9CB3-87A6E37B7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0502-D209-477B-AC92-BCDE74C31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D3E4-02A2-48DA-8DFD-50A724199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467C3-76E4-4859-97BD-797461B41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B7CD-DC0B-4FD2-B5FC-C2221ACE0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64DD-163C-4797-B685-C32D0ACC1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E7F42-5599-454C-9B43-709F401DF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60795-7FC7-4504-8CFF-11D8E8BA9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EA40-E4B9-4E0C-A160-F0CD318F4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94EC-4A24-42D0-8F86-9C961A200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6E58-F769-4794-8BE7-FBF5A0309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97F9-0386-4CC5-B80A-D3F1C737F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3FD4-3A7F-4B49-B830-6DC9B243F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D7EA-D00E-4F87-87A0-92394AA39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8904-0A4A-4B5A-B0A9-B40251786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BCAB-2DC7-4B29-B70A-7E33B3343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9F74-2DFB-47CA-B06F-722D8C608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853B-ED9A-4BF2-94A5-2E38EF21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12B8-C0DF-4643-BCCE-DF9ADF711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156F-7D07-4434-B07B-244F5530C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4E94-CF31-4E3B-8C7A-28137A2D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7011-08AD-4048-9FAC-072DB08F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2894-55AD-4386-9DC2-C4306CA5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CDE1-AF71-4FCD-A05C-542AECFA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15A9-A8B6-4B9C-9D68-2A199384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8D2F-8E05-4045-9C3E-D12CD405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EFF6-36E2-42F8-9694-E817FD75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3AE9-631F-45BD-B6C7-C071C970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D038-B117-4E8A-89F5-316B6512E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owling Game K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omaLogoMedium"/>
          <p:cNvPicPr/>
          <p:nvPr/>
        </p:nvPicPr>
        <p:blipFill>
          <a:blip r:embed="rId1"/>
          <a:stretch/>
        </p:blipFill>
        <p:spPr>
          <a:xfrm>
            <a:off x="533520" y="304812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679320" y="3200400"/>
            <a:ext cx="6102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 Mentor, Inc.</a:t>
            </a:r>
            <a:endParaRPr b="0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762120" y="604836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tnesse.org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3" name="Picture 7" descr="FitNesseLogo"/>
          <p:cNvPicPr/>
          <p:nvPr/>
        </p:nvPicPr>
        <p:blipFill>
          <a:blip r:embed="rId2"/>
          <a:stretch/>
        </p:blipFill>
        <p:spPr>
          <a:xfrm>
            <a:off x="971640" y="5334120"/>
            <a:ext cx="933480" cy="933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6858000" y="64915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Copyright </a:t>
            </a: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 2005  by Object Mentor, Inc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All copies must retain this page unchanged.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5" name="Picture 9" descr="XPlogo"/>
          <p:cNvPicPr/>
          <p:nvPr/>
        </p:nvPicPr>
        <p:blipFill>
          <a:blip r:embed="rId3"/>
          <a:stretch/>
        </p:blipFill>
        <p:spPr>
          <a:xfrm>
            <a:off x="2209680" y="5765760"/>
            <a:ext cx="2514600" cy="863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JUlogo"/>
          <p:cNvPicPr/>
          <p:nvPr/>
        </p:nvPicPr>
        <p:blipFill>
          <a:blip r:embed="rId4"/>
          <a:stretch/>
        </p:blipFill>
        <p:spPr>
          <a:xfrm>
            <a:off x="4869000" y="5715000"/>
            <a:ext cx="1295280" cy="5875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1"/>
          <p:cNvSpPr/>
          <p:nvPr/>
        </p:nvSpPr>
        <p:spPr>
          <a:xfrm>
            <a:off x="4944960" y="6058080"/>
            <a:ext cx="153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junit.org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2355840" y="3657600"/>
            <a:ext cx="26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ww.objectmentor.com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log.objectmentor.com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" name="Line 13"/>
          <p:cNvSpPr/>
          <p:nvPr/>
        </p:nvSpPr>
        <p:spPr>
          <a:xfrm>
            <a:off x="685800" y="2514600"/>
            <a:ext cx="8001000" cy="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gi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project named Bowling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unit test named BowlingGame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19120" y="3422520"/>
            <a:ext cx="3762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ublic class BowlingGameTest extends TestCase {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gi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project named Bowling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unit test named BowlingGame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19120" y="3422520"/>
            <a:ext cx="3762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ublic class BowlingGameTest extends TestCase {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522360" y="4303800"/>
            <a:ext cx="65876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 this program and verify that you get the following error: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o tests found in BowlingGameTest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04920" y="1295280"/>
            <a:ext cx="40384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BowlingGameTest extends TestCa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GutterGam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Game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g = new 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Game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" name="Line 6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4800600" y="1295280"/>
            <a:ext cx="4038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04920" y="1295280"/>
            <a:ext cx="40384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BowlingGameTest extends TestCa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GutterGam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ame g = new Gam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800600" y="1295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Gam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04920" y="1295280"/>
            <a:ext cx="40384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BowlingGameTest extends TestCa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GutterGam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ame g = new Gam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9" name="Line 4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4800600" y="1295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Gam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2438280" y="2514600"/>
            <a:ext cx="4419720" cy="304920"/>
          </a:xfrm>
          <a:prstGeom prst="rect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304920" y="1295280"/>
            <a:ext cx="4038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BowlingGameTest extends TestCa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GutterGam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ame g = new Gam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=0; i&lt;20; i++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roll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4800600" y="12952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Gam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304920" y="1295280"/>
            <a:ext cx="4038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BowlingGameTest extends TestCa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GutterGam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ame g = new Gam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=0; i&lt;20; i++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4800600" y="1295280"/>
            <a:ext cx="4038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Gam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roll(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04920" y="1295280"/>
            <a:ext cx="403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BowlingGameTest extends TestCa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GutterGam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ame g = new Gam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=0; i&lt;20; i++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0, g.</a:t>
            </a:r>
            <a:r>
              <a:rPr b="0" lang="en-US" sz="900" spc="-1" strike="noStrike">
                <a:solidFill>
                  <a:srgbClr val="ff0000"/>
                </a:solidFill>
                <a:latin typeface="Courier New"/>
              </a:rPr>
              <a:t>score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" name="Line 4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800600" y="1295280"/>
            <a:ext cx="4038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Gam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roll(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04920" y="1295280"/>
            <a:ext cx="403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BowlingGameTest extends TestCa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GutterGam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ame g = new Gam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=0; i&lt;20; i++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" name="Line 4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800600" y="1295280"/>
            <a:ext cx="4038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Gam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roll(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int score(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438280" y="2819520"/>
            <a:ext cx="44197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xpected:&lt;0&gt; but was:&lt;-1&gt;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rst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920" y="1295280"/>
            <a:ext cx="403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BowlingGameTest extends TestCa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GutterGam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ame g = new Gam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=0; i&lt;20; i++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" name="Line 4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4800600" y="1295280"/>
            <a:ext cx="4038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Gam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roll(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int score(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2438280" y="2819520"/>
            <a:ext cx="4419720" cy="304560"/>
          </a:xfrm>
          <a:prstGeom prst="rect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ring Bowl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12"/>
          <p:cNvGraphicFramePr/>
          <p:nvPr/>
        </p:nvGraphicFramePr>
        <p:xfrm>
          <a:off x="2209680" y="1295280"/>
          <a:ext cx="4724640" cy="4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95280"/>
                    <a:ext cx="472464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Text Box 14"/>
          <p:cNvSpPr/>
          <p:nvPr/>
        </p:nvSpPr>
        <p:spPr>
          <a:xfrm>
            <a:off x="446400" y="2017800"/>
            <a:ext cx="8226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ame consists of 10 frames as shown above.  In each frame the player ha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opportunities to knock down 10 pins.  The score for the frame is the total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pins knocked down, plus bonuses for strikes and spares.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pare is when the player knocks down all 10 pins in two tries.  The bonus fo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rame is the number of pins knocked down by the next roll.  So in frame 3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ve, the score is 10 (the total number knocked down) plus a bonus of 5 (th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pins knocked down on the next roll.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rike is when the player knocks down all 10 pins on his first try.  The bonu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at frame is the value of the next two balls rolled.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tenth frame a player who rolls a spare or strike is allowed to roll the extra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ls to complete the frame.  However no more than three balls can be rolled in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th frame.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cond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04920" y="1295280"/>
            <a:ext cx="403848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BowlingGameTest extends TestCa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GutterGam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ame g = new Gam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= 0; i &lt; 20; i++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AllOnes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ame g = new Gam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= 0; i &lt; 20; i++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1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2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4800600" y="1295280"/>
            <a:ext cx="4038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Gam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roll(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int score(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cond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04920" y="1295280"/>
            <a:ext cx="403848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BowlingGameTest extends TestCa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GutterGam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ame g = new Gam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= 0; i &lt; 20; i++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AllOnes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ame g = new Gam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= 0; i &lt; 20; i++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1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2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4800600" y="1295280"/>
            <a:ext cx="4038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Gam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roll(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int score(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2" name="Freeform 6"/>
          <p:cNvSpPr/>
          <p:nvPr/>
        </p:nvSpPr>
        <p:spPr>
          <a:xfrm>
            <a:off x="371520" y="2514600"/>
            <a:ext cx="3416400" cy="1069920"/>
          </a:xfrm>
          <a:custGeom>
            <a:avLst/>
            <a:gdLst/>
            <a:ahLst/>
            <a:rect l="l" t="t" r="r" b="b"/>
            <a:pathLst>
              <a:path w="2152" h="674">
                <a:moveTo>
                  <a:pt x="500" y="88"/>
                </a:moveTo>
                <a:cubicBezTo>
                  <a:pt x="463" y="87"/>
                  <a:pt x="425" y="87"/>
                  <a:pt x="388" y="84"/>
                </a:cubicBezTo>
                <a:cubicBezTo>
                  <a:pt x="372" y="83"/>
                  <a:pt x="357" y="77"/>
                  <a:pt x="342" y="74"/>
                </a:cubicBezTo>
                <a:cubicBezTo>
                  <a:pt x="336" y="73"/>
                  <a:pt x="323" y="70"/>
                  <a:pt x="323" y="70"/>
                </a:cubicBezTo>
                <a:cubicBezTo>
                  <a:pt x="245" y="73"/>
                  <a:pt x="180" y="82"/>
                  <a:pt x="105" y="88"/>
                </a:cubicBezTo>
                <a:cubicBezTo>
                  <a:pt x="82" y="106"/>
                  <a:pt x="62" y="125"/>
                  <a:pt x="45" y="149"/>
                </a:cubicBezTo>
                <a:cubicBezTo>
                  <a:pt x="33" y="182"/>
                  <a:pt x="21" y="212"/>
                  <a:pt x="12" y="246"/>
                </a:cubicBezTo>
                <a:cubicBezTo>
                  <a:pt x="12" y="261"/>
                  <a:pt x="0" y="523"/>
                  <a:pt x="59" y="576"/>
                </a:cubicBezTo>
                <a:cubicBezTo>
                  <a:pt x="102" y="667"/>
                  <a:pt x="212" y="657"/>
                  <a:pt x="296" y="674"/>
                </a:cubicBezTo>
                <a:cubicBezTo>
                  <a:pt x="509" y="663"/>
                  <a:pt x="550" y="663"/>
                  <a:pt x="853" y="660"/>
                </a:cubicBezTo>
                <a:cubicBezTo>
                  <a:pt x="960" y="663"/>
                  <a:pt x="1062" y="662"/>
                  <a:pt x="1169" y="655"/>
                </a:cubicBezTo>
                <a:cubicBezTo>
                  <a:pt x="1220" y="646"/>
                  <a:pt x="1266" y="636"/>
                  <a:pt x="1317" y="632"/>
                </a:cubicBezTo>
                <a:cubicBezTo>
                  <a:pt x="1417" y="606"/>
                  <a:pt x="1520" y="597"/>
                  <a:pt x="1624" y="590"/>
                </a:cubicBezTo>
                <a:cubicBezTo>
                  <a:pt x="1654" y="583"/>
                  <a:pt x="1681" y="575"/>
                  <a:pt x="1712" y="571"/>
                </a:cubicBezTo>
                <a:cubicBezTo>
                  <a:pt x="1747" y="561"/>
                  <a:pt x="1784" y="551"/>
                  <a:pt x="1819" y="543"/>
                </a:cubicBezTo>
                <a:cubicBezTo>
                  <a:pt x="1845" y="526"/>
                  <a:pt x="1875" y="519"/>
                  <a:pt x="1903" y="506"/>
                </a:cubicBezTo>
                <a:cubicBezTo>
                  <a:pt x="1989" y="465"/>
                  <a:pt x="2051" y="437"/>
                  <a:pt x="2116" y="367"/>
                </a:cubicBezTo>
                <a:cubicBezTo>
                  <a:pt x="2128" y="334"/>
                  <a:pt x="2142" y="304"/>
                  <a:pt x="2149" y="269"/>
                </a:cubicBezTo>
                <a:cubicBezTo>
                  <a:pt x="2147" y="235"/>
                  <a:pt x="2152" y="161"/>
                  <a:pt x="2121" y="130"/>
                </a:cubicBezTo>
                <a:cubicBezTo>
                  <a:pt x="2111" y="120"/>
                  <a:pt x="2093" y="107"/>
                  <a:pt x="2079" y="102"/>
                </a:cubicBezTo>
                <a:cubicBezTo>
                  <a:pt x="2069" y="98"/>
                  <a:pt x="2047" y="93"/>
                  <a:pt x="2047" y="93"/>
                </a:cubicBezTo>
                <a:cubicBezTo>
                  <a:pt x="1953" y="32"/>
                  <a:pt x="1856" y="24"/>
                  <a:pt x="1745" y="19"/>
                </a:cubicBezTo>
                <a:cubicBezTo>
                  <a:pt x="1671" y="0"/>
                  <a:pt x="1703" y="9"/>
                  <a:pt x="1564" y="14"/>
                </a:cubicBezTo>
                <a:cubicBezTo>
                  <a:pt x="1516" y="24"/>
                  <a:pt x="1536" y="19"/>
                  <a:pt x="1503" y="28"/>
                </a:cubicBezTo>
                <a:cubicBezTo>
                  <a:pt x="1492" y="26"/>
                  <a:pt x="1482" y="25"/>
                  <a:pt x="1471" y="23"/>
                </a:cubicBezTo>
                <a:cubicBezTo>
                  <a:pt x="1457" y="20"/>
                  <a:pt x="1429" y="14"/>
                  <a:pt x="1429" y="14"/>
                </a:cubicBezTo>
                <a:cubicBezTo>
                  <a:pt x="1295" y="21"/>
                  <a:pt x="1162" y="23"/>
                  <a:pt x="1029" y="37"/>
                </a:cubicBezTo>
                <a:cubicBezTo>
                  <a:pt x="1009" y="41"/>
                  <a:pt x="988" y="40"/>
                  <a:pt x="974" y="56"/>
                </a:cubicBezTo>
                <a:cubicBezTo>
                  <a:pt x="842" y="54"/>
                  <a:pt x="711" y="51"/>
                  <a:pt x="579" y="51"/>
                </a:cubicBezTo>
                <a:cubicBezTo>
                  <a:pt x="540" y="51"/>
                  <a:pt x="504" y="70"/>
                  <a:pt x="467" y="7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52280" y="228600"/>
            <a:ext cx="221004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adley Hand ITC"/>
              </a:rPr>
              <a:t>- Game creation is duplicate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adley Hand ITC"/>
              </a:rPr>
              <a:t>- roll loop is duplicate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cond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04920" y="1295280"/>
            <a:ext cx="403848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BowlingGameTest extends TestCa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GutterGam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ame g = new Gam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= 0; i &lt; 20; i++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AllOnes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ame g = new Gam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= 0; i &lt; 20; i++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1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2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4800600" y="1295280"/>
            <a:ext cx="40384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Gam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roll(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int score(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152280" y="228600"/>
            <a:ext cx="221004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adley Hand ITC"/>
              </a:rPr>
              <a:t>- Game creation is duplicate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adley Hand ITC"/>
              </a:rPr>
              <a:t>- roll loop is duplicate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2514600" y="3657600"/>
            <a:ext cx="44197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xpected:&lt;20&gt; but was:&lt;0&gt;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cond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04920" y="1295280"/>
            <a:ext cx="40384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BowlingGameTest extends TestCa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Game g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tected void setUp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 = new Gam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GutterGam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= 0; i &lt; 20; i++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AllOnes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= 0; i &lt; 20; i++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1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2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4800600" y="1295280"/>
            <a:ext cx="403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Gam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score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roll(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ore += pins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int score(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scor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52280" y="228600"/>
            <a:ext cx="22100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adley Hand ITC"/>
              </a:rPr>
              <a:t>- roll loop is duplicate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2514600" y="4038480"/>
            <a:ext cx="4419720" cy="304920"/>
          </a:xfrm>
          <a:prstGeom prst="rect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cond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304920" y="1295280"/>
            <a:ext cx="403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BowlingGameTest extends TestCa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Game g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tected void setUp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 = new Gam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GutterGam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int n = 2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int pins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n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pins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AllOnes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= 0; i &lt; 20; i++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1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2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4800600" y="1295280"/>
            <a:ext cx="403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Gam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score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roll(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ore += pins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int score(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scor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52280" y="228600"/>
            <a:ext cx="22100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adley Hand ITC"/>
              </a:rPr>
              <a:t>- roll loop is duplicate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2514600" y="4495680"/>
            <a:ext cx="4419720" cy="304920"/>
          </a:xfrm>
          <a:prstGeom prst="rect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cond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04920" y="1295280"/>
            <a:ext cx="403848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BowlingGameTest extends TestCa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Game g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tected void setUp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 = new Gam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GutterGam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 n = 2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 pins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rollMany(n, pins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private void rollMany(int n, 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for (int i = 0; i &lt; n; i++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g.roll(pins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AllOnes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= 0; i &lt; 20; i++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1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2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4800600" y="1295280"/>
            <a:ext cx="403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Gam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score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roll(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ore += pins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int score(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scor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152280" y="228600"/>
            <a:ext cx="22100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adley Hand ITC"/>
              </a:rPr>
              <a:t>- roll loop is duplicate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2514600" y="4876920"/>
            <a:ext cx="4419720" cy="304560"/>
          </a:xfrm>
          <a:prstGeom prst="rect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cond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304920" y="1295280"/>
            <a:ext cx="4038480" cy="35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BowlingGameTest extends TestCa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Game g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tected void setUp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 = new Gam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GutterGam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</a:t>
            </a:r>
            <a:r>
              <a:rPr b="1" lang="en-US" sz="900" spc="-1" strike="noStrike">
                <a:solidFill>
                  <a:srgbClr val="0000ff"/>
                </a:solidFill>
                <a:latin typeface="Courier New"/>
              </a:rPr>
              <a:t>20, 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void rollMany(int n, 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= 0; i &lt; n; i++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pins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AllOnes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= 0; i &lt; 20; i++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1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2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800600" y="1295280"/>
            <a:ext cx="403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Gam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score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roll(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ore += pins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int score(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scor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152280" y="228600"/>
            <a:ext cx="22100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adley Hand ITC"/>
              </a:rPr>
              <a:t>- roll loop is duplicate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2514600" y="4572000"/>
            <a:ext cx="4419720" cy="304920"/>
          </a:xfrm>
          <a:prstGeom prst="rect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cond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304920" y="1295280"/>
            <a:ext cx="403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BowlingGameTest extends TestCa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Game g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tected void setUp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 = new Gam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GutterGam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 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void rollMany(int n, 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= 0; i &lt; n; i++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pins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AllOnes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rollMany(20,1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2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6" name="Line 4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4800600" y="1295280"/>
            <a:ext cx="403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Gam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score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roll(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ore += pins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int score(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scor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152280" y="228600"/>
            <a:ext cx="22100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adley Hand ITC"/>
              </a:rPr>
              <a:t>- roll loop is duplicate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2514600" y="4419720"/>
            <a:ext cx="4419720" cy="304560"/>
          </a:xfrm>
          <a:prstGeom prst="rect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cond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304920" y="1295280"/>
            <a:ext cx="403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BowlingGameTest extends TestCa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Game g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tected void setUp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 = new Gam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private void rollMany(int n, 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for (int i = 0; i &lt; n; i++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g.roll(pins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GutterGam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 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AllOnes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1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2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2" name="Line 4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4800600" y="1295280"/>
            <a:ext cx="403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Gam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score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roll(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ore += pins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int score(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scor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152280" y="228600"/>
            <a:ext cx="2210040" cy="25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2514600" y="4419720"/>
            <a:ext cx="4419720" cy="304560"/>
          </a:xfrm>
          <a:prstGeom prst="rect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04920" y="1295280"/>
            <a:ext cx="4038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BowlingGameTest extends TestCa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Game g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tected void setUp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 = new Gam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void rollMany(int n, 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= 0; i &lt; n; i++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pins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GutterGam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 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AllOnes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1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2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Spar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5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5); // spare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3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17,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16,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8" name="Line 4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800600" y="1295280"/>
            <a:ext cx="403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Gam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score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roll(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ore += pins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int score(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scor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152280" y="228600"/>
            <a:ext cx="22100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adley Hand ITC"/>
              </a:rPr>
              <a:t>- ugly comment in test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1" name="Freeform 8"/>
          <p:cNvSpPr/>
          <p:nvPr/>
        </p:nvSpPr>
        <p:spPr>
          <a:xfrm>
            <a:off x="1392120" y="4800600"/>
            <a:ext cx="689040" cy="361800"/>
          </a:xfrm>
          <a:custGeom>
            <a:avLst/>
            <a:gdLst/>
            <a:ahLst/>
            <a:rect l="l" t="t" r="r" b="b"/>
            <a:pathLst>
              <a:path w="434" h="228">
                <a:moveTo>
                  <a:pt x="210" y="14"/>
                </a:moveTo>
                <a:cubicBezTo>
                  <a:pt x="196" y="9"/>
                  <a:pt x="182" y="5"/>
                  <a:pt x="168" y="0"/>
                </a:cubicBezTo>
                <a:cubicBezTo>
                  <a:pt x="128" y="2"/>
                  <a:pt x="87" y="1"/>
                  <a:pt x="47" y="5"/>
                </a:cubicBezTo>
                <a:cubicBezTo>
                  <a:pt x="28" y="7"/>
                  <a:pt x="33" y="27"/>
                  <a:pt x="15" y="33"/>
                </a:cubicBezTo>
                <a:cubicBezTo>
                  <a:pt x="9" y="64"/>
                  <a:pt x="4" y="93"/>
                  <a:pt x="1" y="125"/>
                </a:cubicBezTo>
                <a:cubicBezTo>
                  <a:pt x="3" y="141"/>
                  <a:pt x="0" y="158"/>
                  <a:pt x="6" y="172"/>
                </a:cubicBezTo>
                <a:cubicBezTo>
                  <a:pt x="16" y="196"/>
                  <a:pt x="62" y="220"/>
                  <a:pt x="85" y="228"/>
                </a:cubicBezTo>
                <a:cubicBezTo>
                  <a:pt x="130" y="223"/>
                  <a:pt x="165" y="209"/>
                  <a:pt x="210" y="204"/>
                </a:cubicBezTo>
                <a:cubicBezTo>
                  <a:pt x="249" y="193"/>
                  <a:pt x="214" y="192"/>
                  <a:pt x="275" y="186"/>
                </a:cubicBezTo>
                <a:cubicBezTo>
                  <a:pt x="314" y="175"/>
                  <a:pt x="315" y="167"/>
                  <a:pt x="349" y="144"/>
                </a:cubicBezTo>
                <a:cubicBezTo>
                  <a:pt x="365" y="133"/>
                  <a:pt x="387" y="129"/>
                  <a:pt x="405" y="121"/>
                </a:cubicBezTo>
                <a:cubicBezTo>
                  <a:pt x="417" y="108"/>
                  <a:pt x="427" y="101"/>
                  <a:pt x="433" y="84"/>
                </a:cubicBezTo>
                <a:cubicBezTo>
                  <a:pt x="431" y="73"/>
                  <a:pt x="434" y="60"/>
                  <a:pt x="428" y="51"/>
                </a:cubicBezTo>
                <a:cubicBezTo>
                  <a:pt x="416" y="33"/>
                  <a:pt x="377" y="26"/>
                  <a:pt x="359" y="19"/>
                </a:cubicBezTo>
                <a:cubicBezTo>
                  <a:pt x="333" y="20"/>
                  <a:pt x="306" y="21"/>
                  <a:pt x="280" y="23"/>
                </a:cubicBezTo>
                <a:cubicBezTo>
                  <a:pt x="259" y="25"/>
                  <a:pt x="243" y="42"/>
                  <a:pt x="224" y="4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quireme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4"/>
          <p:cNvGraphicFramePr/>
          <p:nvPr/>
        </p:nvGraphicFramePr>
        <p:xfrm>
          <a:off x="3657600" y="1295280"/>
          <a:ext cx="1523880" cy="12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295280"/>
                    <a:ext cx="1523880" cy="12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22856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class named “Game” that has two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l(pins : int) is called each time the player rolls a ball.  The argument is the number of pins knocked d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re() : int is called only at the very end of the game.  It returns the total score for that g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304920" y="1295280"/>
            <a:ext cx="4038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BowlingGameTest extends TestCa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Game g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tected void setUp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 = new Gam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void rollMany(int n, 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= 0; i &lt; n; i++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pins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GutterGam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 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AllOnes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1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2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Spar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5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5); // spare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3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17,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16,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Line 4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800600" y="1295280"/>
            <a:ext cx="403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Gam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score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roll(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ore += pins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int score(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scor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152280" y="228600"/>
            <a:ext cx="22100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adley Hand ITC"/>
              </a:rPr>
              <a:t>- ugly comment in test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2514600" y="5562720"/>
            <a:ext cx="44197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xpected:&lt;16&gt; but was:&lt;13&gt;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304920" y="1295280"/>
            <a:ext cx="4038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BowlingGameTest extends TestCa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Game g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tected void setUp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 = new Gam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void rollMany(int n, 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= 0; i &lt; n; i++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pins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GutterGam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 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AllOnes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1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2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Spar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5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5); // spare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3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17,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16,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4800600" y="1295280"/>
            <a:ext cx="403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Gam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score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roll(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ore += pins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int score(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scor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152280" y="228600"/>
            <a:ext cx="22100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adley Hand ITC"/>
              </a:rPr>
              <a:t>- ugly comment in test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3" name="Line 8"/>
          <p:cNvSpPr/>
          <p:nvPr/>
        </p:nvSpPr>
        <p:spPr>
          <a:xfrm flipH="1">
            <a:off x="6324120" y="1600200"/>
            <a:ext cx="68580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6934320" y="1371600"/>
            <a:ext cx="220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adley Hand ITC"/>
              </a:rPr>
              <a:t>tempted to use flag to remember previous roll.  So design must be wrong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304920" y="1295280"/>
            <a:ext cx="4038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BowlingGameTest extends TestCa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Game g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tected void setUp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 = new Gam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void rollMany(int n, 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= 0; i &lt; n; i++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pins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GutterGam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 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AllOnes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1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2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Spar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5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5); // spare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3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17,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16,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7" name="Line 4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4800600" y="1295280"/>
            <a:ext cx="403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Gam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score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roll(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ore += pins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int score(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scor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152280" y="228600"/>
            <a:ext cx="22100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adley Hand ITC"/>
              </a:rPr>
              <a:t>- ugly comment in test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0" name="Line 7"/>
          <p:cNvSpPr/>
          <p:nvPr/>
        </p:nvSpPr>
        <p:spPr>
          <a:xfrm flipH="1">
            <a:off x="6172200" y="1523880"/>
            <a:ext cx="83808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Text Box 8"/>
          <p:cNvSpPr/>
          <p:nvPr/>
        </p:nvSpPr>
        <p:spPr>
          <a:xfrm>
            <a:off x="6934320" y="1371600"/>
            <a:ext cx="220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adley Hand ITC"/>
              </a:rPr>
              <a:t>roll() calculates score, but name does not imply that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2" name="Line 9"/>
          <p:cNvSpPr/>
          <p:nvPr/>
        </p:nvSpPr>
        <p:spPr>
          <a:xfrm flipH="1">
            <a:off x="6172200" y="2133720"/>
            <a:ext cx="8380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6934320" y="2057400"/>
            <a:ext cx="2209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adley Hand ITC"/>
              </a:rPr>
              <a:t>score() does not calculate score, but name implies that it does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5638680" y="2819520"/>
            <a:ext cx="221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Bradley Hand ITC"/>
              </a:rPr>
              <a:t>Design is wrong.  Responsibilities are misplaced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304920" y="1295280"/>
            <a:ext cx="4038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BowlingGameTest extends TestCa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Game g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tected void setUp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 = new Gam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void rollMany(int n, 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= 0; i &lt; n; i++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pins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GutterGam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 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AllOnes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1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2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//  public void testOneSpar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//    g.roll(5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//    g.roll(5); // spare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//    g.roll(3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//    rollMany(17,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//    assertEquals(16,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//  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4800600" y="1295280"/>
            <a:ext cx="403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Gam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score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roll(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ore += pins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int score(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scor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152280" y="228600"/>
            <a:ext cx="22100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adley Hand ITC"/>
              </a:rPr>
              <a:t>- ugly comment in test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2514600" y="5562720"/>
            <a:ext cx="4419720" cy="304560"/>
          </a:xfrm>
          <a:prstGeom prst="rect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304920" y="1295280"/>
            <a:ext cx="4038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BowlingGameTest extends TestCa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Game g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tected void setUp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 = new Gam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void rollMany(int n, 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= 0; i &lt; n; i++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pins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GutterGam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 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AllOnes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1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2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/  public void testOneSpar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/    g.roll(5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/    g.roll(5); // spare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/    g.roll(3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/    rollMany(17,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/    assertEquals(16,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/  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3" name="Line 4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4800600" y="1295280"/>
            <a:ext cx="4038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Gam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score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private int rolls[] = new int[21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private int currentRoll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roll(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ore += pins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rolls[currentRoll++] = pins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int score(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scor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52280" y="228600"/>
            <a:ext cx="22100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adley Hand ITC"/>
              </a:rPr>
              <a:t>- ugly comment in test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2514600" y="5562720"/>
            <a:ext cx="4419720" cy="304560"/>
          </a:xfrm>
          <a:prstGeom prst="rect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304920" y="1295280"/>
            <a:ext cx="4038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BowlingGameTest extends TestCa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Game g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tected void setUp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 = new Gam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void rollMany(int n, 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= 0; i &lt; n; i++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pins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GutterGam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 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AllOnes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1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2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/  public void testOneSpar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/    g.roll(5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/    g.roll(5); // spare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/    g.roll(3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/    rollMany(17,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/    assertEquals(16,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/  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9" name="Line 4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4800600" y="1295280"/>
            <a:ext cx="403848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Gam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score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rolls[] = new int[21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currentRoll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roll(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ore += pins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s[currentRoll++] = pins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int score(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int score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for (int i = 0; i &lt; rolls.length; i++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score += rolls[i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scor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152280" y="228600"/>
            <a:ext cx="22100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adley Hand ITC"/>
              </a:rPr>
              <a:t>- ugly comment in test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2514600" y="5562720"/>
            <a:ext cx="4419720" cy="304560"/>
          </a:xfrm>
          <a:prstGeom prst="rect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304920" y="1295280"/>
            <a:ext cx="4038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BowlingGameTest extends TestCa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Game g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tected void setUp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 = new Gam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void rollMany(int n, 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= 0; i &lt; n; i++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pins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GutterGam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 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AllOnes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1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2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/  public void testOneSpar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/    g.roll(5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/    g.roll(5); // spare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/    g.roll(3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/    rollMany(17,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/    assertEquals(16,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/  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5" name="Line 4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4800600" y="1295280"/>
            <a:ext cx="40384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Gam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rolls[] = new int[21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currentRoll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roll(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s[currentRoll++] = pins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int score(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 score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= 0; i &lt; rolls.length; i++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ore += rolls[i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scor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152280" y="228600"/>
            <a:ext cx="22100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adley Hand ITC"/>
              </a:rPr>
              <a:t>- ugly comment in test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2514600" y="5562720"/>
            <a:ext cx="4419720" cy="304560"/>
          </a:xfrm>
          <a:prstGeom prst="rect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304920" y="1295280"/>
            <a:ext cx="4038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BowlingGameTest extends TestCa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Game g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tected void setUp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 = new Gam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void rollMany(int n, 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= 0; i &lt; n; i++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pins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GutterGam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 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AllOnes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1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2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public void testOneSpar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g.roll(5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g.roll(5); // spare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g.roll(3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rollMany(17,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assertEquals(16,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4800600" y="1295280"/>
            <a:ext cx="40384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Gam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rolls[] = new int[21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currentRoll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roll(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s[currentRoll++] = pins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int score(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 score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= 0; i &lt; rolls.length; i++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ore += rolls[i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scor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152280" y="228600"/>
            <a:ext cx="22100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adley Hand ITC"/>
              </a:rPr>
              <a:t>- ugly comment in test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2514600" y="5562720"/>
            <a:ext cx="44197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xpected:&lt;16&gt; but was:&lt;13&gt;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304920" y="1295280"/>
            <a:ext cx="4038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BowlingGameTest extends TestCa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Game g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tected void setUp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 = new Gam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void rollMany(int n, 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= 0; i &lt; n; i++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pins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GutterGam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 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AllOnes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1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2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Spar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5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5); // spare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3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17,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16,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4800600" y="1295280"/>
            <a:ext cx="4038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Gam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rolls[] = new int[21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currentRoll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roll(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s[currentRoll++] = pins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int score(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 score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= 0; i &lt; rolls.length; i++) 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if (rolls[i] + rolls[i+1] == 10) // spare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score += ...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ore += rolls[i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scor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152280" y="228600"/>
            <a:ext cx="22100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adley Hand ITC"/>
              </a:rPr>
              <a:t>- ugly comment in test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5562720" y="3733920"/>
            <a:ext cx="22096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adley Hand ITC"/>
              </a:rPr>
              <a:t>This isn’t going to work because i might not refer to the first ball of the frame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adley Hand ITC"/>
              </a:rPr>
              <a:t>Design is still wrong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adley Hand ITC"/>
              </a:rPr>
              <a:t>Need to walk through array two balls (one frame) at a time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304920" y="1295280"/>
            <a:ext cx="4038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BowlingGameTest extends TestCa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Game g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tected void setUp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 = new Gam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void rollMany(int n, 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= 0; i &lt; n; i++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pins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GutterGam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 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AllOnes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1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2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//  public void testOneSpar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//    g.roll(5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//    g.roll(5); // spare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//    g.roll(3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//    rollMany(17,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//    assertEquals(16,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//  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3" name="Line 4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4800600" y="1295280"/>
            <a:ext cx="40384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Gam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rolls[] = new int[21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currentRoll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roll(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s[currentRoll++] = pins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int score(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 score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= 0; i &lt; rolls.length; i++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ore += rolls[i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scor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152280" y="228600"/>
            <a:ext cx="22100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adley Hand ITC"/>
              </a:rPr>
              <a:t>- ugly comment in test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2514600" y="5562720"/>
            <a:ext cx="4419720" cy="304560"/>
          </a:xfrm>
          <a:prstGeom prst="rect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quick design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7"/>
          <p:cNvGraphicFramePr/>
          <p:nvPr/>
        </p:nvGraphicFramePr>
        <p:xfrm>
          <a:off x="1600200" y="1219320"/>
          <a:ext cx="5867280" cy="31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219320"/>
                    <a:ext cx="5867280" cy="31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Text Box 10"/>
          <p:cNvSpPr/>
          <p:nvPr/>
        </p:nvSpPr>
        <p:spPr>
          <a:xfrm>
            <a:off x="3950280" y="20937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ly we need the Game class.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04920" y="1295280"/>
            <a:ext cx="4038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BowlingGameTest extends TestCa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Game g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tected void setUp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 = new Gam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void rollMany(int n, 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= 0; i &lt; n; i++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pins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GutterGam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 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AllOnes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1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2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/  public void testOneSpar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/    g.roll(5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/    g.roll(5); // spare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/    g.roll(3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/    rollMany(17,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/    assertEquals(16,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/  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9" name="Line 4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4800600" y="1295280"/>
            <a:ext cx="4038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Gam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rolls[] = new int[21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currentRoll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roll(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s[currentRoll++] = pins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int score(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 score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int i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int frame = 0; frame &lt; 10; frame++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) 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ore += rolls[i]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+ rolls[i+1]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i += 2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scor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52280" y="228600"/>
            <a:ext cx="22100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adley Hand ITC"/>
              </a:rPr>
              <a:t>- ugly comment in test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2514600" y="5562720"/>
            <a:ext cx="4419720" cy="304560"/>
          </a:xfrm>
          <a:prstGeom prst="rect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04920" y="1295280"/>
            <a:ext cx="4038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BowlingGameTest extends TestCa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Game g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tected void setUp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 = new Gam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void rollMany(int n, 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= 0; i &lt; n; i++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pins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GutterGam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 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AllOnes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1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2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Spar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5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5); // spare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3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17,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16,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5" name="Line 4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4800600" y="1295280"/>
            <a:ext cx="4038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Gam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rolls[] = new int[21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currentRoll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roll(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s[currentRoll++] = pins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int score(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 score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frame = 0; frame &lt; 10; frame++) 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ore += rolls[i] + rolls[i+1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 += 2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scor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152280" y="228600"/>
            <a:ext cx="22100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adley Hand ITC"/>
              </a:rPr>
              <a:t>- ugly comment in test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2514600" y="5562720"/>
            <a:ext cx="44197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xpected:&lt;16&gt; but was:&lt;13&gt;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304920" y="1295280"/>
            <a:ext cx="4038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BowlingGameTest extends TestCa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Game g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tected void setUp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 = new Gam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void rollMany(int n, 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= 0; i &lt; n; i++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pins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GutterGam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 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AllOnes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1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2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Spar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5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5); // spare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3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17,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16,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1" name="Line 4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4800600" y="1295280"/>
            <a:ext cx="403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Gam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rolls[] = new int[21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currentRoll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roll(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s[currentRoll++] = pins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int score(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 score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frame = 0; frame &lt; 10; frame++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if (rolls[i] + rolls[i + 1] == 10) // spare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score += 10 + rolls[i + 2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i += 2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} el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ore += rolls[i] + rolls[i + 1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 += 2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scor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152280" y="228600"/>
            <a:ext cx="22100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adley Hand ITC"/>
              </a:rPr>
              <a:t>- ugly comment in test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2514600" y="5562720"/>
            <a:ext cx="4419720" cy="304560"/>
          </a:xfrm>
          <a:prstGeom prst="rect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04920" y="1295280"/>
            <a:ext cx="4038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BowlingGameTest extends TestCa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Game g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tected void setUp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 = new Gam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void rollMany(int n, 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= 0; i &lt; n; i++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pins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GutterGam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 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AllOnes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1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2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Spar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5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5); // spare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3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17,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16,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7" name="Line 4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4800600" y="1295280"/>
            <a:ext cx="403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Gam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rolls[] = new int[21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currentRoll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roll(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s[currentRoll++] = pins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int score(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 score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frame = 0; frame &lt; 10; frame++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if (rolls[i] + rolls[i + 1] == 10) // spare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score += 10 + rolls[i + 2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i += 2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} el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ore += rolls[i] + rolls[i + 1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 += 2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scor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52280" y="228600"/>
            <a:ext cx="221004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radley Hand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adley Hand ITC"/>
              </a:rPr>
              <a:t>ugly comment in test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radley Hand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adley Hand ITC"/>
              </a:rPr>
              <a:t>ugly comment in conditional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radley Hand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adley Hand ITC"/>
              </a:rPr>
              <a:t>i is a bad name for this variabl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0" name="Freeform 8"/>
          <p:cNvSpPr/>
          <p:nvPr/>
        </p:nvSpPr>
        <p:spPr>
          <a:xfrm>
            <a:off x="7661160" y="2800440"/>
            <a:ext cx="671760" cy="473040"/>
          </a:xfrm>
          <a:custGeom>
            <a:avLst/>
            <a:gdLst/>
            <a:ahLst/>
            <a:rect l="l" t="t" r="r" b="b"/>
            <a:pathLst>
              <a:path w="423" h="298">
                <a:moveTo>
                  <a:pt x="344" y="29"/>
                </a:moveTo>
                <a:cubicBezTo>
                  <a:pt x="324" y="25"/>
                  <a:pt x="303" y="22"/>
                  <a:pt x="284" y="15"/>
                </a:cubicBezTo>
                <a:cubicBezTo>
                  <a:pt x="237" y="17"/>
                  <a:pt x="184" y="0"/>
                  <a:pt x="144" y="24"/>
                </a:cubicBezTo>
                <a:cubicBezTo>
                  <a:pt x="113" y="43"/>
                  <a:pt x="160" y="27"/>
                  <a:pt x="121" y="38"/>
                </a:cubicBezTo>
                <a:cubicBezTo>
                  <a:pt x="100" y="52"/>
                  <a:pt x="85" y="63"/>
                  <a:pt x="61" y="71"/>
                </a:cubicBezTo>
                <a:cubicBezTo>
                  <a:pt x="49" y="82"/>
                  <a:pt x="49" y="92"/>
                  <a:pt x="37" y="103"/>
                </a:cubicBezTo>
                <a:cubicBezTo>
                  <a:pt x="32" y="121"/>
                  <a:pt x="21" y="131"/>
                  <a:pt x="14" y="150"/>
                </a:cubicBezTo>
                <a:cubicBezTo>
                  <a:pt x="7" y="171"/>
                  <a:pt x="6" y="194"/>
                  <a:pt x="0" y="215"/>
                </a:cubicBezTo>
                <a:cubicBezTo>
                  <a:pt x="8" y="245"/>
                  <a:pt x="29" y="248"/>
                  <a:pt x="56" y="257"/>
                </a:cubicBezTo>
                <a:cubicBezTo>
                  <a:pt x="94" y="270"/>
                  <a:pt x="130" y="290"/>
                  <a:pt x="168" y="298"/>
                </a:cubicBezTo>
                <a:cubicBezTo>
                  <a:pt x="219" y="295"/>
                  <a:pt x="227" y="296"/>
                  <a:pt x="265" y="285"/>
                </a:cubicBezTo>
                <a:cubicBezTo>
                  <a:pt x="288" y="269"/>
                  <a:pt x="322" y="257"/>
                  <a:pt x="349" y="247"/>
                </a:cubicBezTo>
                <a:cubicBezTo>
                  <a:pt x="359" y="231"/>
                  <a:pt x="370" y="220"/>
                  <a:pt x="386" y="210"/>
                </a:cubicBezTo>
                <a:cubicBezTo>
                  <a:pt x="394" y="193"/>
                  <a:pt x="400" y="185"/>
                  <a:pt x="414" y="173"/>
                </a:cubicBezTo>
                <a:cubicBezTo>
                  <a:pt x="409" y="87"/>
                  <a:pt x="423" y="99"/>
                  <a:pt x="372" y="66"/>
                </a:cubicBezTo>
                <a:cubicBezTo>
                  <a:pt x="362" y="51"/>
                  <a:pt x="369" y="52"/>
                  <a:pt x="358" y="52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1" name="Freeform 9"/>
          <p:cNvSpPr/>
          <p:nvPr/>
        </p:nvSpPr>
        <p:spPr>
          <a:xfrm>
            <a:off x="5403960" y="2698920"/>
            <a:ext cx="147600" cy="180720"/>
          </a:xfrm>
          <a:custGeom>
            <a:avLst/>
            <a:gdLst/>
            <a:ahLst/>
            <a:rect l="l" t="t" r="r" b="b"/>
            <a:pathLst>
              <a:path w="93" h="114">
                <a:moveTo>
                  <a:pt x="80" y="0"/>
                </a:moveTo>
                <a:cubicBezTo>
                  <a:pt x="58" y="5"/>
                  <a:pt x="37" y="10"/>
                  <a:pt x="15" y="14"/>
                </a:cubicBezTo>
                <a:cubicBezTo>
                  <a:pt x="12" y="19"/>
                  <a:pt x="6" y="22"/>
                  <a:pt x="6" y="28"/>
                </a:cubicBezTo>
                <a:cubicBezTo>
                  <a:pt x="0" y="114"/>
                  <a:pt x="4" y="88"/>
                  <a:pt x="85" y="84"/>
                </a:cubicBezTo>
                <a:cubicBezTo>
                  <a:pt x="93" y="56"/>
                  <a:pt x="90" y="27"/>
                  <a:pt x="80" y="0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2" name="Freeform 10"/>
          <p:cNvSpPr/>
          <p:nvPr/>
        </p:nvSpPr>
        <p:spPr>
          <a:xfrm>
            <a:off x="131760" y="376200"/>
            <a:ext cx="1984320" cy="480960"/>
          </a:xfrm>
          <a:custGeom>
            <a:avLst/>
            <a:gdLst/>
            <a:ahLst/>
            <a:rect l="l" t="t" r="r" b="b"/>
            <a:pathLst>
              <a:path w="1250" h="303">
                <a:moveTo>
                  <a:pt x="140" y="42"/>
                </a:moveTo>
                <a:cubicBezTo>
                  <a:pt x="104" y="45"/>
                  <a:pt x="76" y="50"/>
                  <a:pt x="42" y="56"/>
                </a:cubicBezTo>
                <a:cubicBezTo>
                  <a:pt x="28" y="65"/>
                  <a:pt x="10" y="93"/>
                  <a:pt x="10" y="93"/>
                </a:cubicBezTo>
                <a:cubicBezTo>
                  <a:pt x="0" y="148"/>
                  <a:pt x="5" y="188"/>
                  <a:pt x="38" y="232"/>
                </a:cubicBezTo>
                <a:cubicBezTo>
                  <a:pt x="47" y="243"/>
                  <a:pt x="68" y="275"/>
                  <a:pt x="84" y="279"/>
                </a:cubicBezTo>
                <a:cubicBezTo>
                  <a:pt x="101" y="283"/>
                  <a:pt x="118" y="282"/>
                  <a:pt x="135" y="283"/>
                </a:cubicBezTo>
                <a:cubicBezTo>
                  <a:pt x="233" y="303"/>
                  <a:pt x="212" y="292"/>
                  <a:pt x="386" y="288"/>
                </a:cubicBezTo>
                <a:cubicBezTo>
                  <a:pt x="549" y="290"/>
                  <a:pt x="807" y="298"/>
                  <a:pt x="985" y="288"/>
                </a:cubicBezTo>
                <a:cubicBezTo>
                  <a:pt x="1021" y="286"/>
                  <a:pt x="1065" y="267"/>
                  <a:pt x="1102" y="260"/>
                </a:cubicBezTo>
                <a:cubicBezTo>
                  <a:pt x="1126" y="251"/>
                  <a:pt x="1151" y="246"/>
                  <a:pt x="1176" y="241"/>
                </a:cubicBezTo>
                <a:cubicBezTo>
                  <a:pt x="1190" y="233"/>
                  <a:pt x="1204" y="226"/>
                  <a:pt x="1218" y="218"/>
                </a:cubicBezTo>
                <a:cubicBezTo>
                  <a:pt x="1233" y="210"/>
                  <a:pt x="1245" y="156"/>
                  <a:pt x="1250" y="135"/>
                </a:cubicBezTo>
                <a:cubicBezTo>
                  <a:pt x="1245" y="117"/>
                  <a:pt x="1238" y="112"/>
                  <a:pt x="1222" y="102"/>
                </a:cubicBezTo>
                <a:cubicBezTo>
                  <a:pt x="1207" y="79"/>
                  <a:pt x="1218" y="91"/>
                  <a:pt x="1185" y="70"/>
                </a:cubicBezTo>
                <a:cubicBezTo>
                  <a:pt x="1177" y="65"/>
                  <a:pt x="1157" y="60"/>
                  <a:pt x="1157" y="60"/>
                </a:cubicBezTo>
                <a:cubicBezTo>
                  <a:pt x="1143" y="46"/>
                  <a:pt x="1139" y="33"/>
                  <a:pt x="1120" y="28"/>
                </a:cubicBezTo>
                <a:cubicBezTo>
                  <a:pt x="1106" y="13"/>
                  <a:pt x="1086" y="11"/>
                  <a:pt x="1069" y="0"/>
                </a:cubicBezTo>
                <a:cubicBezTo>
                  <a:pt x="1030" y="4"/>
                  <a:pt x="990" y="7"/>
                  <a:pt x="953" y="23"/>
                </a:cubicBezTo>
                <a:cubicBezTo>
                  <a:pt x="913" y="40"/>
                  <a:pt x="898" y="55"/>
                  <a:pt x="855" y="60"/>
                </a:cubicBezTo>
                <a:cubicBezTo>
                  <a:pt x="782" y="57"/>
                  <a:pt x="719" y="50"/>
                  <a:pt x="646" y="46"/>
                </a:cubicBezTo>
                <a:cubicBezTo>
                  <a:pt x="484" y="61"/>
                  <a:pt x="323" y="60"/>
                  <a:pt x="159" y="6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04920" y="1295280"/>
            <a:ext cx="4038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BowlingGameTest extends TestCa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Game g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tected void setUp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 = new Gam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void rollMany(int n, 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= 0; i &lt; n; i++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pins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GutterGam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 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AllOnes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1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2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Spar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5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5); // spare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3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17,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16,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5" name="Line 4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4800600" y="1295280"/>
            <a:ext cx="403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Gam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rolls[] = new int[21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currentRoll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roll(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s[currentRoll++] = pins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int score(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 score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 frameIndex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frame = 0; frame &lt; 10; frame++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(rolls[frameIndex] + 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s[frameIndex + 1] == 10) // spare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ore += 10 + rolls[frameIndex + 2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rameIndex += 2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ore += rolls[frameIndex] + 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s[frameIndex + 1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rameIndex += 2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scor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152280" y="228600"/>
            <a:ext cx="221004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radley Hand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adley Hand ITC"/>
              </a:rPr>
              <a:t>ugly comment in test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radley Hand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adley Hand ITC"/>
              </a:rPr>
              <a:t>ugly comment in conditional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8" name="Rectangle 9"/>
          <p:cNvSpPr/>
          <p:nvPr/>
        </p:nvSpPr>
        <p:spPr>
          <a:xfrm>
            <a:off x="2514600" y="5562720"/>
            <a:ext cx="4419720" cy="304560"/>
          </a:xfrm>
          <a:prstGeom prst="rect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304920" y="1295280"/>
            <a:ext cx="4038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BowlingGameTest extends TestCa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Game g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tected void setUp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 = new Gam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void rollMany(int n, 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= 0; i &lt; n; i++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pins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GutterGam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 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AllOnes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1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2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Spar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5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5); // spare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3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17,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16,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1" name="Line 4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4800600" y="1295280"/>
            <a:ext cx="4038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Gam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rolls[] = new int[21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currentRoll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roll(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s[currentRoll++] = pins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int score(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 score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 frameIndex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frame = 0; frame &lt; 10; frame++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isSpare(frameIndex)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ore += 10 + rolls[frameIndex + 2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rameIndex += 2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ore += rolls[frameIndex] +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s[frameIndex + 1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rameIndex += 2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scor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private boolean isSpare(int frameIndex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return rolls[frameIndex] +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 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rolls[frameIndex + 1] == 1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152280" y="228600"/>
            <a:ext cx="22100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radley Hand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adley Hand ITC"/>
              </a:rPr>
              <a:t>ugly comment in test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2514600" y="5562720"/>
            <a:ext cx="4419720" cy="304560"/>
          </a:xfrm>
          <a:prstGeom prst="rect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hird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304920" y="1295280"/>
            <a:ext cx="4038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BowlingGameTest extends TestCa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Game g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tected void setUp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 = new Gam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void rollMany(int n, 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i = 0; i &lt; n; i++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pins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GutterGam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 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AllOnes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1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2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Spar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rollSpar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3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17,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16,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private void rollSpare(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g.roll(5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g.roll(5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7" name="Line 4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4800600" y="1295280"/>
            <a:ext cx="4038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Gam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rolls[] = new int[21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currentRoll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roll(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s[currentRoll++] = pins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int score(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 score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 frameIndex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frame = 0; frame &lt; 10; frame++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(isSpare(frameIndex)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ore += 10 + rolls[frameIndex + 2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rameIndex += 2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ore += rolls[frameIndex] +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s[frameIndex + 1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rameIndex += 2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scor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boolean isSpare(int frameIndex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rolls[frameIndex] +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s[frameIndex + 1] == 1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152280" y="228600"/>
            <a:ext cx="22100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adley Hand ITC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2514600" y="5562720"/>
            <a:ext cx="4419720" cy="304560"/>
          </a:xfrm>
          <a:prstGeom prst="rect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urth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304920" y="1295280"/>
            <a:ext cx="403848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BowlingGameTest extends TestCa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GutterGam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 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AllOnes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1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2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Spar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Spar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3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17,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16,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public void testOneStrik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g.roll(10); // strike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g.roll(3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g.roll(4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rollMany(16, 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assertEquals(24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void rollSpare(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5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5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3" name="Line 4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4800600" y="1295280"/>
            <a:ext cx="4038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Gam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rolls[] = new int[21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currentRoll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roll(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s[currentRoll++] = pins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int score(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 score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 frameIndex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frame = 0; frame &lt; 10; frame++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(isSpare(frameIndex)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ore += 10 + rolls[frameIndex + 2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rameIndex += 2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ore += rolls[frameIndex] +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s[frameIndex + 1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rameIndex += 2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scor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boolean isSpare(int frameIndex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rolls[frameIndex] +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s[frameIndex + 1] == 1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152280" y="228600"/>
            <a:ext cx="22100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adley Hand ITC"/>
              </a:rPr>
              <a:t>- ugly comment in testOneStrike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14600" y="6095880"/>
            <a:ext cx="44197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xpected:&lt;24&gt; but was:&lt;17&gt;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7" name="Freeform 9"/>
          <p:cNvSpPr/>
          <p:nvPr/>
        </p:nvSpPr>
        <p:spPr>
          <a:xfrm>
            <a:off x="1484280" y="4329000"/>
            <a:ext cx="662040" cy="459000"/>
          </a:xfrm>
          <a:custGeom>
            <a:avLst/>
            <a:gdLst/>
            <a:ahLst/>
            <a:rect l="l" t="t" r="r" b="b"/>
            <a:pathLst>
              <a:path w="417" h="289">
                <a:moveTo>
                  <a:pt x="417" y="148"/>
                </a:moveTo>
                <a:cubicBezTo>
                  <a:pt x="405" y="178"/>
                  <a:pt x="375" y="236"/>
                  <a:pt x="342" y="251"/>
                </a:cubicBezTo>
                <a:cubicBezTo>
                  <a:pt x="292" y="274"/>
                  <a:pt x="228" y="276"/>
                  <a:pt x="175" y="288"/>
                </a:cubicBezTo>
                <a:cubicBezTo>
                  <a:pt x="158" y="286"/>
                  <a:pt x="137" y="289"/>
                  <a:pt x="124" y="278"/>
                </a:cubicBezTo>
                <a:cubicBezTo>
                  <a:pt x="120" y="274"/>
                  <a:pt x="119" y="268"/>
                  <a:pt x="115" y="264"/>
                </a:cubicBezTo>
                <a:cubicBezTo>
                  <a:pt x="92" y="241"/>
                  <a:pt x="58" y="222"/>
                  <a:pt x="31" y="204"/>
                </a:cubicBezTo>
                <a:cubicBezTo>
                  <a:pt x="0" y="156"/>
                  <a:pt x="15" y="104"/>
                  <a:pt x="50" y="65"/>
                </a:cubicBezTo>
                <a:cubicBezTo>
                  <a:pt x="65" y="48"/>
                  <a:pt x="69" y="34"/>
                  <a:pt x="92" y="28"/>
                </a:cubicBezTo>
                <a:cubicBezTo>
                  <a:pt x="129" y="0"/>
                  <a:pt x="111" y="7"/>
                  <a:pt x="143" y="0"/>
                </a:cubicBezTo>
                <a:cubicBezTo>
                  <a:pt x="172" y="1"/>
                  <a:pt x="202" y="2"/>
                  <a:pt x="231" y="4"/>
                </a:cubicBezTo>
                <a:cubicBezTo>
                  <a:pt x="254" y="6"/>
                  <a:pt x="261" y="24"/>
                  <a:pt x="282" y="32"/>
                </a:cubicBezTo>
                <a:cubicBezTo>
                  <a:pt x="344" y="55"/>
                  <a:pt x="402" y="79"/>
                  <a:pt x="417" y="148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8" name="Freeform 10"/>
          <p:cNvSpPr/>
          <p:nvPr/>
        </p:nvSpPr>
        <p:spPr>
          <a:xfrm>
            <a:off x="295200" y="125280"/>
            <a:ext cx="1873440" cy="427320"/>
          </a:xfrm>
          <a:custGeom>
            <a:avLst/>
            <a:gdLst/>
            <a:ahLst/>
            <a:rect l="l" t="t" r="r" b="b"/>
            <a:pathLst>
              <a:path w="1180" h="269">
                <a:moveTo>
                  <a:pt x="0" y="269"/>
                </a:moveTo>
                <a:cubicBezTo>
                  <a:pt x="42" y="242"/>
                  <a:pt x="85" y="222"/>
                  <a:pt x="135" y="214"/>
                </a:cubicBezTo>
                <a:cubicBezTo>
                  <a:pt x="160" y="210"/>
                  <a:pt x="209" y="204"/>
                  <a:pt x="209" y="204"/>
                </a:cubicBezTo>
                <a:cubicBezTo>
                  <a:pt x="323" y="207"/>
                  <a:pt x="360" y="203"/>
                  <a:pt x="446" y="218"/>
                </a:cubicBezTo>
                <a:cubicBezTo>
                  <a:pt x="522" y="216"/>
                  <a:pt x="610" y="205"/>
                  <a:pt x="687" y="214"/>
                </a:cubicBezTo>
                <a:cubicBezTo>
                  <a:pt x="692" y="215"/>
                  <a:pt x="697" y="216"/>
                  <a:pt x="701" y="218"/>
                </a:cubicBezTo>
                <a:cubicBezTo>
                  <a:pt x="705" y="220"/>
                  <a:pt x="706" y="228"/>
                  <a:pt x="711" y="228"/>
                </a:cubicBezTo>
                <a:cubicBezTo>
                  <a:pt x="822" y="230"/>
                  <a:pt x="934" y="225"/>
                  <a:pt x="1045" y="223"/>
                </a:cubicBezTo>
                <a:cubicBezTo>
                  <a:pt x="1107" y="215"/>
                  <a:pt x="1144" y="185"/>
                  <a:pt x="1180" y="135"/>
                </a:cubicBezTo>
                <a:cubicBezTo>
                  <a:pt x="1150" y="19"/>
                  <a:pt x="940" y="25"/>
                  <a:pt x="855" y="23"/>
                </a:cubicBezTo>
                <a:cubicBezTo>
                  <a:pt x="757" y="21"/>
                  <a:pt x="660" y="20"/>
                  <a:pt x="562" y="19"/>
                </a:cubicBezTo>
                <a:cubicBezTo>
                  <a:pt x="494" y="2"/>
                  <a:pt x="525" y="8"/>
                  <a:pt x="469" y="0"/>
                </a:cubicBezTo>
                <a:cubicBezTo>
                  <a:pt x="362" y="3"/>
                  <a:pt x="277" y="6"/>
                  <a:pt x="176" y="23"/>
                </a:cubicBezTo>
                <a:cubicBezTo>
                  <a:pt x="153" y="32"/>
                  <a:pt x="130" y="34"/>
                  <a:pt x="107" y="42"/>
                </a:cubicBezTo>
                <a:cubicBezTo>
                  <a:pt x="82" y="65"/>
                  <a:pt x="118" y="35"/>
                  <a:pt x="60" y="56"/>
                </a:cubicBezTo>
                <a:cubicBezTo>
                  <a:pt x="0" y="77"/>
                  <a:pt x="58" y="74"/>
                  <a:pt x="14" y="74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urth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304920" y="1295280"/>
            <a:ext cx="403848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BowlingGameTest extends TestCa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GutterGam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 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AllOnes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1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2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Spar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Spar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3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17,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16,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Strik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10); // strike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3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4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16, 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24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void rollSpare(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5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5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1" name="Line 4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4800600" y="1295280"/>
            <a:ext cx="403848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Gam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rolls[] = new int[21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currentRoll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roll(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s[currentRoll++] = pins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int score(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 score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 frameIndex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frame = 0; frame &lt; 10; frame++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if (rolls[frameIndex] == 10) // strike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score += 10 +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       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rolls[frameIndex+1] +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       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rolls[frameIndex+2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frameIndex++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else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if (isSpare(frameIndex))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ore += 10 + rolls[frameIndex + 2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rameIndex += 2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ore += rolls[frameIndex] +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s[frameIndex + 1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rameIndex += 2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scor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boolean isSpare(int frameIndex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rolls[frameIndex] +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s[frameIndex + 1] == 1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152280" y="228600"/>
            <a:ext cx="2210040" cy="55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radley Hand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adley Hand ITC"/>
              </a:rPr>
              <a:t>ugly comment in testOneStrike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radley Hand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adley Hand ITC"/>
              </a:rPr>
              <a:t>ugly comment in conditional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radley Hand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adley Hand ITC"/>
              </a:rPr>
              <a:t>ugly expressions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4" name="Freeform 10"/>
          <p:cNvSpPr/>
          <p:nvPr/>
        </p:nvSpPr>
        <p:spPr>
          <a:xfrm>
            <a:off x="7238880" y="2773440"/>
            <a:ext cx="725760" cy="515880"/>
          </a:xfrm>
          <a:custGeom>
            <a:avLst/>
            <a:gdLst/>
            <a:ahLst/>
            <a:rect l="l" t="t" r="r" b="b"/>
            <a:pathLst>
              <a:path w="457" h="325">
                <a:moveTo>
                  <a:pt x="159" y="60"/>
                </a:moveTo>
                <a:cubicBezTo>
                  <a:pt x="101" y="65"/>
                  <a:pt x="107" y="63"/>
                  <a:pt x="67" y="83"/>
                </a:cubicBezTo>
                <a:cubicBezTo>
                  <a:pt x="59" y="94"/>
                  <a:pt x="51" y="105"/>
                  <a:pt x="43" y="116"/>
                </a:cubicBezTo>
                <a:cubicBezTo>
                  <a:pt x="35" y="127"/>
                  <a:pt x="15" y="144"/>
                  <a:pt x="15" y="144"/>
                </a:cubicBezTo>
                <a:cubicBezTo>
                  <a:pt x="12" y="154"/>
                  <a:pt x="3" y="161"/>
                  <a:pt x="2" y="171"/>
                </a:cubicBezTo>
                <a:cubicBezTo>
                  <a:pt x="1" y="196"/>
                  <a:pt x="0" y="222"/>
                  <a:pt x="6" y="246"/>
                </a:cubicBezTo>
                <a:cubicBezTo>
                  <a:pt x="11" y="267"/>
                  <a:pt x="76" y="294"/>
                  <a:pt x="94" y="302"/>
                </a:cubicBezTo>
                <a:cubicBezTo>
                  <a:pt x="110" y="316"/>
                  <a:pt x="119" y="320"/>
                  <a:pt x="141" y="325"/>
                </a:cubicBezTo>
                <a:cubicBezTo>
                  <a:pt x="167" y="323"/>
                  <a:pt x="194" y="323"/>
                  <a:pt x="220" y="320"/>
                </a:cubicBezTo>
                <a:cubicBezTo>
                  <a:pt x="258" y="316"/>
                  <a:pt x="294" y="296"/>
                  <a:pt x="331" y="288"/>
                </a:cubicBezTo>
                <a:cubicBezTo>
                  <a:pt x="364" y="265"/>
                  <a:pt x="348" y="272"/>
                  <a:pt x="378" y="264"/>
                </a:cubicBezTo>
                <a:cubicBezTo>
                  <a:pt x="417" y="239"/>
                  <a:pt x="441" y="227"/>
                  <a:pt x="457" y="181"/>
                </a:cubicBezTo>
                <a:cubicBezTo>
                  <a:pt x="455" y="167"/>
                  <a:pt x="456" y="152"/>
                  <a:pt x="452" y="139"/>
                </a:cubicBezTo>
                <a:cubicBezTo>
                  <a:pt x="443" y="111"/>
                  <a:pt x="408" y="97"/>
                  <a:pt x="387" y="83"/>
                </a:cubicBezTo>
                <a:cubicBezTo>
                  <a:pt x="341" y="53"/>
                  <a:pt x="318" y="26"/>
                  <a:pt x="262" y="18"/>
                </a:cubicBezTo>
                <a:cubicBezTo>
                  <a:pt x="253" y="15"/>
                  <a:pt x="244" y="11"/>
                  <a:pt x="234" y="9"/>
                </a:cubicBezTo>
                <a:cubicBezTo>
                  <a:pt x="220" y="6"/>
                  <a:pt x="192" y="0"/>
                  <a:pt x="192" y="0"/>
                </a:cubicBezTo>
                <a:cubicBezTo>
                  <a:pt x="141" y="5"/>
                  <a:pt x="141" y="21"/>
                  <a:pt x="99" y="32"/>
                </a:cubicBezTo>
                <a:cubicBezTo>
                  <a:pt x="86" y="70"/>
                  <a:pt x="102" y="22"/>
                  <a:pt x="90" y="60"/>
                </a:cubicBezTo>
                <a:cubicBezTo>
                  <a:pt x="88" y="65"/>
                  <a:pt x="85" y="74"/>
                  <a:pt x="85" y="74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2514600" y="6400800"/>
            <a:ext cx="4419720" cy="304920"/>
          </a:xfrm>
          <a:prstGeom prst="rect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6" name="Freeform 12"/>
          <p:cNvSpPr/>
          <p:nvPr/>
        </p:nvSpPr>
        <p:spPr>
          <a:xfrm>
            <a:off x="5965920" y="3173400"/>
            <a:ext cx="1650960" cy="2025720"/>
          </a:xfrm>
          <a:custGeom>
            <a:avLst/>
            <a:gdLst/>
            <a:ahLst/>
            <a:rect l="l" t="t" r="r" b="b"/>
            <a:pathLst>
              <a:path w="1040" h="1276">
                <a:moveTo>
                  <a:pt x="228" y="22"/>
                </a:moveTo>
                <a:cubicBezTo>
                  <a:pt x="186" y="0"/>
                  <a:pt x="145" y="10"/>
                  <a:pt x="97" y="12"/>
                </a:cubicBezTo>
                <a:cubicBezTo>
                  <a:pt x="61" y="49"/>
                  <a:pt x="78" y="37"/>
                  <a:pt x="51" y="54"/>
                </a:cubicBezTo>
                <a:cubicBezTo>
                  <a:pt x="32" y="83"/>
                  <a:pt x="16" y="111"/>
                  <a:pt x="0" y="142"/>
                </a:cubicBezTo>
                <a:cubicBezTo>
                  <a:pt x="2" y="218"/>
                  <a:pt x="0" y="294"/>
                  <a:pt x="5" y="370"/>
                </a:cubicBezTo>
                <a:cubicBezTo>
                  <a:pt x="8" y="413"/>
                  <a:pt x="28" y="460"/>
                  <a:pt x="32" y="505"/>
                </a:cubicBezTo>
                <a:cubicBezTo>
                  <a:pt x="31" y="697"/>
                  <a:pt x="28" y="889"/>
                  <a:pt x="28" y="1081"/>
                </a:cubicBezTo>
                <a:cubicBezTo>
                  <a:pt x="28" y="1083"/>
                  <a:pt x="36" y="1107"/>
                  <a:pt x="37" y="1109"/>
                </a:cubicBezTo>
                <a:cubicBezTo>
                  <a:pt x="48" y="1125"/>
                  <a:pt x="67" y="1130"/>
                  <a:pt x="79" y="1146"/>
                </a:cubicBezTo>
                <a:cubicBezTo>
                  <a:pt x="121" y="1201"/>
                  <a:pt x="138" y="1237"/>
                  <a:pt x="209" y="1257"/>
                </a:cubicBezTo>
                <a:cubicBezTo>
                  <a:pt x="225" y="1268"/>
                  <a:pt x="265" y="1276"/>
                  <a:pt x="265" y="1276"/>
                </a:cubicBezTo>
                <a:cubicBezTo>
                  <a:pt x="295" y="1264"/>
                  <a:pt x="326" y="1264"/>
                  <a:pt x="358" y="1257"/>
                </a:cubicBezTo>
                <a:cubicBezTo>
                  <a:pt x="476" y="1263"/>
                  <a:pt x="575" y="1265"/>
                  <a:pt x="697" y="1262"/>
                </a:cubicBezTo>
                <a:cubicBezTo>
                  <a:pt x="784" y="1257"/>
                  <a:pt x="866" y="1240"/>
                  <a:pt x="952" y="1225"/>
                </a:cubicBezTo>
                <a:cubicBezTo>
                  <a:pt x="977" y="1207"/>
                  <a:pt x="1004" y="1195"/>
                  <a:pt x="1027" y="1174"/>
                </a:cubicBezTo>
                <a:cubicBezTo>
                  <a:pt x="1040" y="1033"/>
                  <a:pt x="1008" y="894"/>
                  <a:pt x="971" y="760"/>
                </a:cubicBezTo>
                <a:cubicBezTo>
                  <a:pt x="962" y="691"/>
                  <a:pt x="945" y="643"/>
                  <a:pt x="910" y="584"/>
                </a:cubicBezTo>
                <a:cubicBezTo>
                  <a:pt x="888" y="493"/>
                  <a:pt x="867" y="427"/>
                  <a:pt x="831" y="342"/>
                </a:cubicBezTo>
                <a:cubicBezTo>
                  <a:pt x="825" y="301"/>
                  <a:pt x="810" y="259"/>
                  <a:pt x="794" y="221"/>
                </a:cubicBezTo>
                <a:cubicBezTo>
                  <a:pt x="778" y="96"/>
                  <a:pt x="732" y="27"/>
                  <a:pt x="599" y="8"/>
                </a:cubicBezTo>
                <a:cubicBezTo>
                  <a:pt x="534" y="9"/>
                  <a:pt x="469" y="5"/>
                  <a:pt x="404" y="12"/>
                </a:cubicBezTo>
                <a:cubicBezTo>
                  <a:pt x="382" y="14"/>
                  <a:pt x="322" y="39"/>
                  <a:pt x="293" y="45"/>
                </a:cubicBezTo>
                <a:cubicBezTo>
                  <a:pt x="291" y="45"/>
                  <a:pt x="213" y="49"/>
                  <a:pt x="195" y="3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urth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304920" y="1143000"/>
            <a:ext cx="403848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BowlingGameTest extends TestCa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GutterGam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 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AllOnes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1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2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Spar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Spar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3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17,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16,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Strik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10); // strike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3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4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16, 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24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void rollSpare(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5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5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9" name="Line 4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4800600" y="1143000"/>
            <a:ext cx="4038480" cy="53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Gam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rolls[] = new int[21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currentRoll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roll(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s[currentRoll++] = pins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int score(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 score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 frameIndex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frame = 0; frame &lt; 10; frame++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(rolls[frameIndex] == 10) // strike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ore += 10 + strikeBonus(frameIndex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rameIndex++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 else if (isSpare(frameIndex)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ore += 10 + spareBonus(frameIndex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rameIndex += 2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ore += sumOfBallsInFrame(frameIndex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rameIndex += 2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scor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sumOfBallsInFrame(int frameIndex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rolls[frameIndex]+rolls[frameIndex+1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spareBonus(int frameIndex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rolls[frameIndex + 2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strikeBonus(int frameIndex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rolls[frameIndex+1]+rolls[frameIndex+2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boolean isSpare(int frameIndex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rolls[frameIndex]+rolls[frameIndex+1] == 1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152280" y="228600"/>
            <a:ext cx="221004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radley Hand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adley Hand ITC"/>
              </a:rPr>
              <a:t>ugly comment in testOneStrike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radley Hand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adley Hand ITC"/>
              </a:rPr>
              <a:t>ugly comment in conditional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2514600" y="6477120"/>
            <a:ext cx="4419720" cy="304560"/>
          </a:xfrm>
          <a:prstGeom prst="rect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quick design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3"/>
          <p:cNvGraphicFramePr/>
          <p:nvPr/>
        </p:nvGraphicFramePr>
        <p:xfrm>
          <a:off x="1600200" y="1219320"/>
          <a:ext cx="5867280" cy="31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219320"/>
                    <a:ext cx="5867280" cy="31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Text Box 4"/>
          <p:cNvSpPr/>
          <p:nvPr/>
        </p:nvSpPr>
        <p:spPr>
          <a:xfrm>
            <a:off x="2577600" y="3008160"/>
            <a:ext cx="25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ame has 10 frames.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urth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304920" y="1143000"/>
            <a:ext cx="403848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port junit.framework.TestCas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BowlingGameTest extends TestCa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GutterGam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 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AllOnes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1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2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Spar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Spar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3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17,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16,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Strik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10); // strike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3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4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16, 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24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void rollSpare(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5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5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5" name="Line 4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4800600" y="1143000"/>
            <a:ext cx="403848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Gam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rolls[] = new int[21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currentRoll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roll(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s[currentRoll++] = pins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int score(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 score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 frameIndex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frame = 0; frame &lt; 10; frame++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isStrike(frameIndex)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ore += 10 + strikeBonus(frameIndex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rameIndex++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 else if (isSpare(frameIndex)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ore += 10 + spareBonus(frameIndex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rameIndex += 2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ore += sumOfBallsInFrame(frameIndex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rameIndex += 2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scor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private boolean isStrike(int frameIndex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return rolls[frameIndex] == 1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sumOfBallsInFrame(int frameIndex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rolls[frameIndex] + rolls[frameIndex+1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spareBonus(int frameIndex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rolls[frameIndex+2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strikeBonus(int frameIndex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rolls[frameIndex+1] + rolls[frameIndex+2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boolean isSpare(int frameIndex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rolls[frameIndex]+rolls[frameIndex+1] == 1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152280" y="228600"/>
            <a:ext cx="2210040" cy="24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radley Hand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radley Hand ITC"/>
              </a:rPr>
              <a:t>ugly comment in testOneStrike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304920" y="6477120"/>
            <a:ext cx="4419360" cy="304560"/>
          </a:xfrm>
          <a:prstGeom prst="rect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urth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304920" y="1143000"/>
            <a:ext cx="403848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GutterGam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 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AllOnes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1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2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Spar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Spar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3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17,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16,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Strik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rollStrik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3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4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16, 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24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private void rollStrike(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g.roll(10); 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void rollSpare(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5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5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4800600" y="1143000"/>
            <a:ext cx="403848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Gam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rolls[] = new int[21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currentRoll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roll(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s[currentRoll++] = pins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int score(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 score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 frameIndex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frame = 0; frame &lt; 10; frame++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(isStrike(frameIndex)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ore += 10 + strikeBonus(frameIndex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rameIndex++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 else if (isSpare(frameIndex)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ore += 10 + spareBonus(frameIndex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rameIndex += 2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ore += sumOfBallsInFrame(frameIndex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rameIndex += 2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scor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boolean isStrike(int frameIndex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rolls[frameIndex] == 1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sumOfBallsInFrame(int frameIndex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rolls[frameIndex] + rolls[frameIndex+1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spareBonus(int frameIndex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rolls[frameIndex+2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strikeBonus(int frameIndex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rolls[frameIndex+1] + rolls[frameIndex+2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boolean isSpare(int frameIndex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rolls[frameIndex]+rolls[frameIndex+1] == 1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52280" y="228600"/>
            <a:ext cx="2210040" cy="25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radley Hand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304920" y="6477120"/>
            <a:ext cx="4419360" cy="304560"/>
          </a:xfrm>
          <a:prstGeom prst="rect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fth te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"/>
          <p:cNvSpPr/>
          <p:nvPr/>
        </p:nvSpPr>
        <p:spPr>
          <a:xfrm>
            <a:off x="304920" y="1143000"/>
            <a:ext cx="4038480" cy="52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GutterGam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 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AllOnes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20,1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2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Spar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Spar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3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17,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16,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testOneStrik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Strike(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3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4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Many(16, 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ssertEquals(24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public void testPerfectGame() throws Exception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rollMany(12,1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assertEquals(300, g.score()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ff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void rollStrike(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10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void rollSpare(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5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g.roll(5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7" name="Line 4"/>
          <p:cNvSpPr/>
          <p:nvPr/>
        </p:nvSpPr>
        <p:spPr>
          <a:xfrm>
            <a:off x="4724280" y="1219320"/>
            <a:ext cx="0" cy="52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800600" y="1143000"/>
            <a:ext cx="4038480" cy="57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class Gam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rolls[] = new int[21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currentRoll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void roll(int pins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olls[currentRoll++] = pins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blic int score(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 score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 frameIndex = 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 (int frame = 0; frame &lt; 10; frame++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 (isStrike(frameIndex)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ore += 10 + strikeBonus(frameIndex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rameIndex++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 else if (isSpare(frameIndex)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ore += 10 + spareBonus(frameIndex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rameIndex += 2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core += sumOfBallsInFrame(frameIndex)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rameIndex += 2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score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boolean isStrike(int frameIndex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rolls[frameIndex] == 1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sumOfBallsInFrame(int frameIndex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rolls[frameIndex] + rolls[frameIndex+1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spareBonus(int frameIndex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rolls[frameIndex+2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int strikeBonus(int frameIndex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rolls[frameIndex+1] + rolls[frameIndex+2]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ivate boolean isSpare(int frameIndex) {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rolls[frameIndex]+rolls[frameIndex+1] == 10;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9" name="Text Box 6"/>
          <p:cNvSpPr/>
          <p:nvPr/>
        </p:nvSpPr>
        <p:spPr>
          <a:xfrm>
            <a:off x="152280" y="228600"/>
            <a:ext cx="2210040" cy="25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radley Hand IT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304920" y="6477120"/>
            <a:ext cx="4419360" cy="304560"/>
          </a:xfrm>
          <a:prstGeom prst="rect">
            <a:avLst/>
          </a:prstGeom>
          <a:solidFill>
            <a:srgbClr val="33cc33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quick design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3"/>
          <p:cNvGraphicFramePr/>
          <p:nvPr/>
        </p:nvGraphicFramePr>
        <p:xfrm>
          <a:off x="1600200" y="1219320"/>
          <a:ext cx="5867280" cy="31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219320"/>
                    <a:ext cx="5867280" cy="31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Text Box 4"/>
          <p:cNvSpPr/>
          <p:nvPr/>
        </p:nvSpPr>
        <p:spPr>
          <a:xfrm>
            <a:off x="5701320" y="2855880"/>
            <a:ext cx="28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rame has 1 or two rolls.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quick design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3"/>
          <p:cNvGraphicFramePr/>
          <p:nvPr/>
        </p:nvGraphicFramePr>
        <p:xfrm>
          <a:off x="1600200" y="1219320"/>
          <a:ext cx="5867280" cy="31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219320"/>
                    <a:ext cx="5867280" cy="31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4"/>
          <p:cNvSpPr/>
          <p:nvPr/>
        </p:nvSpPr>
        <p:spPr>
          <a:xfrm>
            <a:off x="3567960" y="4379760"/>
            <a:ext cx="403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nth frame has two or three rolls.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different from all the other frames.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quick design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3"/>
          <p:cNvGraphicFramePr/>
          <p:nvPr/>
        </p:nvGraphicFramePr>
        <p:xfrm>
          <a:off x="1600200" y="1219320"/>
          <a:ext cx="5867280" cy="31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219320"/>
                    <a:ext cx="5867280" cy="31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 Box 4"/>
          <p:cNvSpPr/>
          <p:nvPr/>
        </p:nvSpPr>
        <p:spPr>
          <a:xfrm>
            <a:off x="977040" y="2703600"/>
            <a:ext cx="261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core function mus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rate through all th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mes, and calculat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heir scores.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quick design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3"/>
          <p:cNvGraphicFramePr/>
          <p:nvPr/>
        </p:nvGraphicFramePr>
        <p:xfrm>
          <a:off x="1600200" y="1219320"/>
          <a:ext cx="5867280" cy="31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219320"/>
                    <a:ext cx="5867280" cy="31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4"/>
          <p:cNvSpPr/>
          <p:nvPr/>
        </p:nvSpPr>
        <p:spPr>
          <a:xfrm>
            <a:off x="4952880" y="114300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core for a spare or a strike depends on the frame’s successor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2T14:35:57Z</dcterms:created>
  <dc:creator>Robert C. Martin</dc:creator>
  <dc:description/>
  <dc:language>en-US</dc:language>
  <cp:lastModifiedBy>Gaurav Arora</cp:lastModifiedBy>
  <dcterms:modified xsi:type="dcterms:W3CDTF">2011-11-16T05:57:07Z</dcterms:modified>
  <cp:revision>23</cp:revision>
  <dc:subject/>
  <dc:title>Bowling Game Kata</dc:title>
</cp:coreProperties>
</file>