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BDE-2F6A-488E-986E-4FCFBED9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1B5-FFB9-4CE4-8454-BABD40C8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8B3-88A3-4BA3-A961-6902EDE4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320-6B53-466D-8EBB-D0D98907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43D-F598-4432-A862-96A023E0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6CA-D6F9-42FD-B3CC-F18EED76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820-BAE0-49D9-BF64-A01FD1D0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E3D-26AC-458D-B317-F149F5CF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9AF-5E10-45C9-B7A2-5E58218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5B6-7220-4AB3-8927-05F56F2A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8DD-4779-4DDF-93C6-5E5D35A3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B56-14A3-4871-8A83-BF21CABE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903B-48AF-4720-8DE5-6014E2703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3200400"/>
            <a:ext cx="335304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886200"/>
            <a:ext cx="1067040" cy="114300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143000"/>
              <a:gd name="textAreaBottom" fmla="*/ 1091160 h 1143000"/>
            </a:gdLst>
            <a:ahLst/>
            <a:rect l="textAreaLeft" t="textAreaTop" r="textAreaRight" b="textAreaBottom"/>
            <a:pathLst>
              <a:path w="21600" h="23137">
                <a:moveTo>
                  <a:pt x="3600" y="0"/>
                </a:moveTo>
                <a:arcTo wR="3600" hR="3600" stAng="16200000" swAng="-5400000"/>
                <a:lnTo>
                  <a:pt x="0" y="19537"/>
                </a:lnTo>
                <a:arcTo wR="3600" hR="3600" stAng="10800000" swAng="-5400000"/>
                <a:lnTo>
                  <a:pt x="18000" y="23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GB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QL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B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886200"/>
            <a:ext cx="1067040" cy="114300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143000"/>
              <a:gd name="textAreaBottom" fmla="*/ 1091160 h 1143000"/>
            </a:gdLst>
            <a:ahLst/>
            <a:rect l="textAreaLeft" t="textAreaTop" r="textAreaRight" b="textAreaBottom"/>
            <a:pathLst>
              <a:path w="21600" h="23137">
                <a:moveTo>
                  <a:pt x="3600" y="0"/>
                </a:moveTo>
                <a:arcTo wR="3600" hR="3600" stAng="16200000" swAng="-5400000"/>
                <a:lnTo>
                  <a:pt x="0" y="19537"/>
                </a:lnTo>
                <a:arcTo wR="3600" hR="3600" stAng="10800000" swAng="-5400000"/>
                <a:lnTo>
                  <a:pt x="18000" y="23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T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ML 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3886200"/>
            <a:ext cx="1067040" cy="114300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143000"/>
              <a:gd name="textAreaBottom" fmla="*/ 1091160 h 1143000"/>
            </a:gdLst>
            <a:ahLst/>
            <a:rect l="textAreaLeft" t="textAreaTop" r="textAreaRight" b="textAreaBottom"/>
            <a:pathLst>
              <a:path w="21600" h="23137">
                <a:moveTo>
                  <a:pt x="3600" y="0"/>
                </a:moveTo>
                <a:arcTo wR="3600" hR="3600" stAng="16200000" swAng="-5400000"/>
                <a:lnTo>
                  <a:pt x="0" y="19537"/>
                </a:lnTo>
                <a:arcTo wR="3600" hR="3600" stAng="10800000" swAng="-5400000"/>
                <a:lnTo>
                  <a:pt x="18000" y="23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mo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b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477120" y="3428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990720" cy="771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1447920"/>
            <a:ext cx="335304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609480" cy="59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2209680"/>
            <a:ext cx="990720" cy="60984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ans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2209680"/>
            <a:ext cx="914400" cy="60984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nchronis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62520" y="990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286000"/>
            <a:ext cx="1066680" cy="76212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énération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mmande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od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3505320"/>
            <a:ext cx="320040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990360" cy="77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1523880"/>
            <a:ext cx="320040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6858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t ini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2895480"/>
            <a:ext cx="27288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76920" y="6858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t modifi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343400" y="838080"/>
            <a:ext cx="23976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3505320" y="1294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1295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286000"/>
            <a:ext cx="1066680" cy="76212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éation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nnées a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mat 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053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5053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886200" y="2895480"/>
            <a:ext cx="2761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487692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0532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3885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352680" y="373392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Standalo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86200" y="4572000"/>
            <a:ext cx="990720" cy="771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38480" y="1066680"/>
            <a:ext cx="609840" cy="59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43400" y="1752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209680"/>
            <a:ext cx="1904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crypt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3733920"/>
            <a:ext cx="190476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Standalo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2971800"/>
            <a:ext cx="190476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ebServi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990360" cy="771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771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72200" y="1066680"/>
            <a:ext cx="609480" cy="59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4097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752480" y="4572000"/>
            <a:ext cx="990720" cy="77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981080" y="1676520"/>
            <a:ext cx="609840" cy="596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73392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Standalo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97180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e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ébastien Ros</cp:lastModifiedBy>
  <dcterms:modified xsi:type="dcterms:W3CDTF">2005-02-21T10:59:0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