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556E7-B44B-4EE6-B282-8C0122B8F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4A3A8-D291-4063-8251-DD2DDA8D5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0C466-CFBB-4611-8F2D-F2C722FDA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A6785-456B-48DF-8DEA-2F48922CF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04850-6AA2-48B8-9475-7D42C114F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80C59-50D8-4D6D-A59C-0F1908A85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1BD20-6BB0-4B20-8D39-B0D3421F3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E3EE6-D464-4DDE-8F3A-AB52C555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37824-75CE-4737-8015-647444F45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39FB8-9F64-4731-995E-974A59757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EEEB5-B3BC-4407-9623-9BF9443A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AA15E-9ABB-48AF-B8D5-DAAE8520B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CF3E2-FB63-4D06-A9D9-05863BAA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FBBA6-2529-439C-8BCB-564F3367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1F47A-0D03-4B23-9095-4C36AD632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A65E2-8E19-422C-B2AD-B6970426C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F8955-7603-4B9C-B0ED-EB2CB78A9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B9937-E110-45C0-ABC2-5777AE236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40E08-64E8-4DBB-BD8E-8A8673CB8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38716-D85B-4FDE-9D64-DFEFA8BE1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6E4C3-CD25-4573-A748-5229D1D09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8E3D9-6805-40CA-8EA4-F290D3FF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D32CF-C128-4622-B237-57522056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D3A8B-E2BC-4252-A2CC-1E14BED2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1DE6D-F239-491C-8547-EA205FBF97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B33F0-E958-4DE1-9CBC-6E8E658C0E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5000" spc="-1" strike="noStrike">
                <a:solidFill>
                  <a:srgbClr val="ffffff"/>
                </a:solidFill>
                <a:latin typeface="Arial"/>
              </a:rPr>
              <a:t>Evaluant Universal Storage Service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tilisation prat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guration déclar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26920" y="3284640"/>
            <a:ext cx="5905800" cy="2908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971640" y="2708280"/>
            <a:ext cx="5976720" cy="60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èle génériqu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124000" y="2924280"/>
            <a:ext cx="4219560" cy="24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èle génér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oir exemple précé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éva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ckage en mém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înage d’un moteur phys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eur distribué (en cou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êtes en mém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ql Map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apping objet-relati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ous types de donn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ous ma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outes bases de donn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eut aussi mapper une base de données générique (voir moteur Sq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ql Map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xemple de ma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971640" y="2708280"/>
            <a:ext cx="53528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ie de toutes les commandes vers la cons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348000" y="3645000"/>
            <a:ext cx="16477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ême principe que Memory mais géré par le Garbage Col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oteur distribué (en cou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Remo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éalisation d’un moteur fonctionnant en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élégation automatique via l’utilisation de la configuration 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nage des commandes de persistance sur plusieurs mot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195640" y="3213000"/>
            <a:ext cx="342900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émat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ervices de stockage varié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dD relation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dD obj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dD 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ode de pensée « objet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oyen le plus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odèle de programmation le plus utili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înes de persis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484360" y="2205000"/>
            <a:ext cx="336240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xternalisation de la configuration des chaînes de per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XmlConfigLo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900000" y="3789360"/>
            <a:ext cx="509616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êtes unifié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roblémat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QL ? XPath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763640" y="3860640"/>
            <a:ext cx="521964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 EU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vigateur génériqu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’entrepô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492360" y="2637000"/>
            <a:ext cx="4908600" cy="39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ersistenceMana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ersistance de classes 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Formats d’entr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tilisation du O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187280" y="5373720"/>
            <a:ext cx="50673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tégration dans VS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er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# ou VB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1.1 et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émon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971640" y="4365720"/>
            <a:ext cx="427680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émat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DO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odèle relati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adapté pour stocker des modèles obj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 mapping objet relati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« Une » solution mais pas la se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ransformation d’un modèle relationnel en un modèle obj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ervices transver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quê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Framework de persistance de donn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t d’obj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rchitecture logique (ER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RA vs.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nfrastructure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oteurs de persist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XML, SQL, Prévalence, Couche réseau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écoupler l’application de l’entrepôt de donn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er de nouvelles solutions de stockage « adaptées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repôts génér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éva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ond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rastructure rés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 Modèle Obj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odèle 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eaucoup plus souple que le modèle relationnel pour décrire des graphes obj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ntités (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ttrib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Nom/Val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yp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42920" y="1844640"/>
            <a:ext cx="3673440" cy="22845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826920" y="4581360"/>
            <a:ext cx="468648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eurs de persis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IPersistence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ervice chargé de stocker physiquement les données (graphe d’entité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coupage en entités atomiques de persistance (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ICommand, ICommandProcessor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6985080" cy="12492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826920" y="3645000"/>
            <a:ext cx="537228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8T06:18:15Z</dcterms:created>
  <dc:creator>Sébastien Ros</dc:creator>
  <dc:description/>
  <dc:language>en-US</dc:language>
  <cp:lastModifiedBy>Sébastien Ros</cp:lastModifiedBy>
  <dcterms:modified xsi:type="dcterms:W3CDTF">2005-09-08T13:10:40Z</dcterms:modified>
  <cp:revision>18</cp:revision>
  <dc:subject/>
  <dc:title>Evaluant Universal Storage Services</dc:title>
</cp:coreProperties>
</file>