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179-8A6D-4C7D-9EE9-A9A3174B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3A6-BDFD-48D2-B68B-A05756D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6BB-82E5-4B0C-B4BB-488C9B88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DB3-459A-44DB-9534-5775486E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71A-1288-4323-8D26-D637A4B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E2B-8A61-4489-8F89-2E3A284E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6E9-1890-4410-8F1A-C1238C0F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301-3E36-4B21-86F2-DF36DE6B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F3E-C887-49C1-9104-B6F16323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9E9-E991-4AF8-9CBE-F4EAEDE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49F-4F6A-4048-A17B-7DA86440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261-6FB0-4D9E-88EE-0424547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987-3672-43E0-8770-7AC212294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223056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SA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4022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erce Ser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29280" y="21938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ent Management Server (C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21938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bile Information Server (M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22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hange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z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022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ost Integration Server (H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4022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TC Serv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er Icon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6386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er Running XML 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1009800"/>
            <a:ext cx="1066680" cy="127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1019160"/>
            <a:ext cx="1000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162920" y="990720"/>
            <a:ext cx="99036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86600" y="2743200"/>
            <a:ext cx="92376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09680" y="28195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14240" y="2743200"/>
            <a:ext cx="11145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43480" y="2800440"/>
            <a:ext cx="1057320" cy="131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133720" y="905040"/>
            <a:ext cx="1143000" cy="1380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62120" y="981000"/>
            <a:ext cx="990360" cy="130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3733920" y="2895480"/>
            <a:ext cx="108576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784080" y="4495680"/>
            <a:ext cx="96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Iconography 1 of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ic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0226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zTalk 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2928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622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40226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zTalk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94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X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5608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56386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br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03360" y="4648320"/>
            <a:ext cx="949320" cy="99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15120" y="4572000"/>
            <a:ext cx="101448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53200" y="4572000"/>
            <a:ext cx="1123920" cy="111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86200" y="4629240"/>
            <a:ext cx="1031760" cy="1085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362320" y="1219320"/>
            <a:ext cx="8762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19600" y="1295280"/>
            <a:ext cx="82872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2362320" y="2971800"/>
            <a:ext cx="1066680" cy="1042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3886200" y="3124080"/>
            <a:ext cx="914400" cy="857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7010280" y="1219320"/>
            <a:ext cx="1295640" cy="100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5410080" y="1305000"/>
            <a:ext cx="1019160" cy="981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914400" y="3124080"/>
            <a:ext cx="7761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609480" y="1143000"/>
            <a:ext cx="1047960" cy="112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762120" y="4419720"/>
            <a:ext cx="105228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7162920" y="2895480"/>
            <a:ext cx="1052280" cy="116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5486400" y="2819520"/>
            <a:ext cx="1112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Iconography 2 of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l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mail/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8720" y="2971800"/>
            <a:ext cx="1076400" cy="100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09680" y="302904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62120" y="1143000"/>
            <a:ext cx="915840" cy="99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133720" y="1066680"/>
            <a:ext cx="1295280" cy="116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562720" y="1295280"/>
            <a:ext cx="1009440" cy="8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7238880" y="1295280"/>
            <a:ext cx="9907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09680" y="3114720"/>
            <a:ext cx="1095480" cy="923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83160" y="3009960"/>
            <a:ext cx="1069920" cy="110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8880" y="1066680"/>
            <a:ext cx="889200" cy="106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 Icon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C (with XML Web ser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2928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cket 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bile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40226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mb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394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mb Termi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675240" y="2819520"/>
            <a:ext cx="12776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914400" y="2828880"/>
            <a:ext cx="801720" cy="1209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181480" y="973080"/>
            <a:ext cx="1295640" cy="123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1905120" y="9144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505320" y="909720"/>
            <a:ext cx="1371600" cy="1298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762120" y="1066680"/>
            <a:ext cx="92376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043760" y="2743200"/>
            <a:ext cx="1262160" cy="1295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934320" y="402264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ablet 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ML Web Services Icon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ML 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1938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ML Web service (black and wh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981000" cy="971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57400" y="21938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ML Web service and Binary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961920" cy="121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09680" y="1143000"/>
            <a:ext cx="981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743200"/>
            <a:ext cx="1676520" cy="121932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ci est un tex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qui ne veut rien d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7432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ci est un tex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qui ne veut rien d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6:58:07Z</dcterms:created>
  <dc:creator>a-johsti</dc:creator>
  <dc:description/>
  <dc:language>en-US</dc:language>
  <cp:lastModifiedBy>Sébastien Ros</cp:lastModifiedBy>
  <dcterms:modified xsi:type="dcterms:W3CDTF">2004-08-19T15:32:59Z</dcterms:modified>
  <cp:revision>94</cp:revision>
  <dc:subject/>
  <dc:title>Slide 1</dc:title>
</cp:coreProperties>
</file>