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985B-3F26-44F2-8FE7-6DD5167815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éification des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6CA3-BE4A-46FD-AECD-FD7CBBF0D0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nsuite démo d’utilisation avec sauvegarde en X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0C7F-F2FB-403C-AEDD-B675AA05C9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nsuite création d’un fichier de metadata et chargement de données, introduction à O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22F0-6BA7-4A57-BE62-AEA726E21D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tiliser la documentation pour présenter les fonctionnalité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8D35-9DAE-40E7-A05F-EEA7F79E56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êmes données mais en obj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2240-F0FB-4E6D-B252-EC92FDE6C0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5C3-0FDB-4942-A672-97B070EB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EE6-75C7-4BE1-97C8-353B39A3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1691-A65E-4122-AC41-1A119034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88E-5C29-4C07-9BCC-D23D5DD3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A8F-FBE5-48E7-9A20-9B6290CD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BC4-CDCD-47E8-B1E7-472CFF1C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13A-38E3-4B7C-9714-CFBB7A1B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0AD4-51B3-41E4-8CF2-50C15EE9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3407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E64-5913-4942-AF92-E45D0D93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A59-AA84-4DFC-BAFA-FED96787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9F4-D9FC-46ED-8D53-2BC28832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551-7059-4DBC-9E1E-1553A513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E64A-25D7-45E0-AEA5-FB47301A1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valuant Universal Storage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eprésentation U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las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bstrai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étho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Attribu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Héri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mposition/Agrég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ô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ardinalité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lasses d’associ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OUCHE BASSE DE EU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DO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Diagramme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3455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Diagramme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375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é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à coins arrondis 3"/>
          <p:cNvSpPr/>
          <p:nvPr/>
        </p:nvSpPr>
        <p:spPr>
          <a:xfrm>
            <a:off x="1714680" y="2571840"/>
            <a:ext cx="171432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ffffff"/>
                </a:solidFill>
                <a:uFillTx/>
                <a:latin typeface="Calibri"/>
              </a:rPr>
              <a:t>Perso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Prénom: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Nom: 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Ville: Se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à coins arrondis 6"/>
          <p:cNvSpPr/>
          <p:nvPr/>
        </p:nvSpPr>
        <p:spPr>
          <a:xfrm>
            <a:off x="5572080" y="2571840"/>
            <a:ext cx="17146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ffffff"/>
                </a:solidFill>
                <a:uFillTx/>
                <a:latin typeface="Calibri"/>
              </a:rPr>
              <a:t>Perso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Prénom: St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Nom: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Ville: Cuper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Connecteur droit avec flèche 7"/>
          <p:cNvCxnSpPr>
            <a:stCxn id="75" idx="3"/>
            <a:endCxn id="76" idx="1"/>
          </p:cNvCxnSpPr>
          <p:nvPr/>
        </p:nvCxnSpPr>
        <p:spPr>
          <a:xfrm>
            <a:off x="3428640" y="3034800"/>
            <a:ext cx="2143800" cy="25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8" name="ZoneTexte 10"/>
          <p:cNvSpPr/>
          <p:nvPr/>
        </p:nvSpPr>
        <p:spPr>
          <a:xfrm>
            <a:off x="4076280" y="2714760"/>
            <a:ext cx="89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ten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à coins arrondis 16"/>
          <p:cNvSpPr/>
          <p:nvPr/>
        </p:nvSpPr>
        <p:spPr>
          <a:xfrm>
            <a:off x="1000080" y="4643280"/>
            <a:ext cx="13572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ffffff"/>
                </a:solidFill>
                <a:uFillTx/>
                <a:latin typeface="Calibri"/>
              </a:rPr>
              <a:t>Create 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Type: Perso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à coins arrondis 18"/>
          <p:cNvSpPr/>
          <p:nvPr/>
        </p:nvSpPr>
        <p:spPr>
          <a:xfrm>
            <a:off x="2428920" y="4643280"/>
            <a:ext cx="13572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ffffff"/>
                </a:solidFill>
                <a:uFillTx/>
                <a:latin typeface="Calibri"/>
              </a:rPr>
              <a:t>Create 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Name: Prén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Value: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à coins arrondis 19"/>
          <p:cNvSpPr/>
          <p:nvPr/>
        </p:nvSpPr>
        <p:spPr>
          <a:xfrm>
            <a:off x="3857760" y="4643280"/>
            <a:ext cx="13572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ffffff"/>
                </a:solidFill>
                <a:uFillTx/>
                <a:latin typeface="Calibri"/>
              </a:rPr>
              <a:t>Create 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Name: N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Value: 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17"/>
          <p:cNvSpPr/>
          <p:nvPr/>
        </p:nvSpPr>
        <p:spPr>
          <a:xfrm>
            <a:off x="6715080" y="4643280"/>
            <a:ext cx="13572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ffffff"/>
                </a:solidFill>
                <a:uFillTx/>
                <a:latin typeface="Calibri"/>
              </a:rPr>
              <a:t>Create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Role: Parten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à coins arrondis 20"/>
          <p:cNvSpPr/>
          <p:nvPr/>
        </p:nvSpPr>
        <p:spPr>
          <a:xfrm>
            <a:off x="5286240" y="4643280"/>
            <a:ext cx="135756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lèche vers le bas 21"/>
          <p:cNvSpPr/>
          <p:nvPr/>
        </p:nvSpPr>
        <p:spPr>
          <a:xfrm>
            <a:off x="4286160" y="3214800"/>
            <a:ext cx="428760" cy="1143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nt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oneTexte 3"/>
          <p:cNvSpPr/>
          <p:nvPr/>
        </p:nvSpPr>
        <p:spPr>
          <a:xfrm>
            <a:off x="428760" y="1571760"/>
            <a:ext cx="557208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Courier New"/>
                <a:ea typeface="Calibri"/>
              </a:rPr>
              <a:t>// creates a first e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Entity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 p1 = </a:t>
            </a:r>
            <a:r>
              <a:rPr b="0" lang="fr-FR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new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r>
              <a:rPr b="0" lang="fr-FR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Entity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(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Person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p1.AddValue(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Firstnam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Bill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p1.AddValue(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Lastnam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Gates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p1.AddValue(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Ag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, 1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Courier New"/>
                <a:ea typeface="Calibri"/>
              </a:rPr>
              <a:t>// and a second 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Entity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 p2 = </a:t>
            </a:r>
            <a:r>
              <a:rPr b="0" lang="fr-FR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new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r>
              <a:rPr b="0" lang="fr-FR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Entity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(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Person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p2.AddValue(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Firstnam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Steev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p2.AddValue(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Lastnam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Balmer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p2.AddValue(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Ag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, 1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Courier New"/>
                <a:ea typeface="Calibri"/>
              </a:rPr>
              <a:t>// adds an association between the 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p1.AddValue(</a:t>
            </a:r>
            <a:r>
              <a:rPr b="0" lang="fr-FR" sz="1600" spc="-1" strike="noStrike">
                <a:solidFill>
                  <a:srgbClr val="800000"/>
                </a:solidFill>
                <a:latin typeface="Courier New"/>
                <a:ea typeface="Calibri"/>
              </a:rPr>
              <a:t>"Partners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, p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andes de Sérial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Diagramme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375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oteurs de Persi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objet de typ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PersistenceEngin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oit être capable de sérialiser un graphe objet ERA dans un support physique don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ns chaque type d’entrepôt particulier, toute commande de sérialisation peut être interprétée de manière différ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USS implémente une abstraction vis-à-vis des moteurs de per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PersistenceEng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oneTexte 6"/>
          <p:cNvSpPr/>
          <p:nvPr/>
        </p:nvSpPr>
        <p:spPr>
          <a:xfrm>
            <a:off x="456480" y="1571760"/>
            <a:ext cx="7861320" cy="28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public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interface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r>
              <a:rPr b="0" lang="fr-FR" sz="1400" spc="-1" strike="noStrike">
                <a:solidFill>
                  <a:srgbClr val="008080"/>
                </a:solidFill>
                <a:latin typeface="Courier New"/>
                <a:ea typeface="Calibri"/>
              </a:rPr>
              <a:t>IPersistence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fr-FR" sz="1400" spc="-1" strike="noStrike">
                <a:solidFill>
                  <a:srgbClr val="008080"/>
                </a:solidFill>
                <a:latin typeface="Courier New"/>
                <a:ea typeface="Calibri"/>
              </a:rPr>
              <a:t>EntitySe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Load(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string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opath,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string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orderby,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in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first,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in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max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fr-FR" sz="1400" spc="-1" strike="noStrike">
                <a:solidFill>
                  <a:srgbClr val="008080"/>
                </a:solidFill>
                <a:latin typeface="Courier New"/>
                <a:ea typeface="Calibri"/>
              </a:rPr>
              <a:t>EntitySe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LoadWithId(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string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type,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string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[] id,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string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[] attribut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void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LoadReference(</a:t>
            </a:r>
            <a:r>
              <a:rPr b="0" lang="fr-FR" sz="1400" spc="-1" strike="noStrike">
                <a:solidFill>
                  <a:srgbClr val="008080"/>
                </a:solidFill>
                <a:latin typeface="Courier New"/>
                <a:ea typeface="Calibri"/>
              </a:rPr>
              <a:t>IEnumerable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entities,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string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[] referenc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objec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LoadScalar(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string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o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void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InitializeRepositor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void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ProcessCommands(</a:t>
            </a:r>
            <a:r>
              <a:rPr b="0" lang="fr-FR" sz="1400" spc="-1" strike="noStrike">
                <a:solidFill>
                  <a:srgbClr val="008080"/>
                </a:solidFill>
                <a:latin typeface="Courier New"/>
                <a:ea typeface="Calibri"/>
              </a:rPr>
              <a:t>Transaction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tx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Model Model { 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  <a:ea typeface="Calibri"/>
              </a:rPr>
              <a:t>ge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alibri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posants Princip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714680" y="1285920"/>
            <a:ext cx="5072040" cy="11430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Visual Studio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714680" y="2571840"/>
            <a:ext cx="5072040" cy="1000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Objec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714680" y="3714840"/>
            <a:ext cx="5072040" cy="1000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r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714680" y="4857840"/>
            <a:ext cx="5072040" cy="16430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ersistenc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2143080" y="1643040"/>
            <a:ext cx="1285920" cy="571680"/>
          </a:xfrm>
          <a:prstGeom prst="rect">
            <a:avLst/>
          </a:prstGeom>
          <a:solidFill>
            <a:srgbClr val="c0504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A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571920" y="1643040"/>
            <a:ext cx="1285920" cy="571680"/>
          </a:xfrm>
          <a:prstGeom prst="rect">
            <a:avLst/>
          </a:prstGeom>
          <a:solidFill>
            <a:srgbClr val="c0504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Intellis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5000760" y="1643040"/>
            <a:ext cx="1285920" cy="571680"/>
          </a:xfrm>
          <a:prstGeom prst="rect">
            <a:avLst/>
          </a:prstGeom>
          <a:solidFill>
            <a:srgbClr val="c0504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de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500200" y="2928960"/>
            <a:ext cx="1643040" cy="500040"/>
          </a:xfrm>
          <a:prstGeom prst="rect">
            <a:avLst/>
          </a:prstGeom>
          <a:solidFill>
            <a:srgbClr val="9bbb59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Object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4357800" y="2928960"/>
            <a:ext cx="1571400" cy="500040"/>
          </a:xfrm>
          <a:prstGeom prst="rect">
            <a:avLst/>
          </a:prstGeom>
          <a:solidFill>
            <a:srgbClr val="9bbb59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Object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1928880" y="4071960"/>
            <a:ext cx="1500120" cy="500040"/>
          </a:xfrm>
          <a:prstGeom prst="rect">
            <a:avLst/>
          </a:prstGeom>
          <a:solidFill>
            <a:srgbClr val="8064a2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3500280" y="4071960"/>
            <a:ext cx="1500480" cy="500040"/>
          </a:xfrm>
          <a:prstGeom prst="rect">
            <a:avLst/>
          </a:prstGeom>
          <a:solidFill>
            <a:srgbClr val="8064a2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1857240" y="5286240"/>
            <a:ext cx="1143000" cy="500040"/>
          </a:xfrm>
          <a:prstGeom prst="rect">
            <a:avLst/>
          </a:prstGeom>
          <a:solidFill>
            <a:srgbClr val="f79646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3071880" y="5286240"/>
            <a:ext cx="1143000" cy="500040"/>
          </a:xfrm>
          <a:prstGeom prst="rect">
            <a:avLst/>
          </a:prstGeom>
          <a:solidFill>
            <a:srgbClr val="f79646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1857240" y="5857920"/>
            <a:ext cx="1143000" cy="500040"/>
          </a:xfrm>
          <a:prstGeom prst="rect">
            <a:avLst/>
          </a:prstGeom>
          <a:solidFill>
            <a:srgbClr val="f79646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3071880" y="5857920"/>
            <a:ext cx="1143000" cy="500040"/>
          </a:xfrm>
          <a:prstGeom prst="rect">
            <a:avLst/>
          </a:prstGeom>
          <a:solidFill>
            <a:srgbClr val="f79646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2"/>
          <p:cNvSpPr/>
          <p:nvPr/>
        </p:nvSpPr>
        <p:spPr>
          <a:xfrm>
            <a:off x="4286160" y="5286240"/>
            <a:ext cx="1143000" cy="500040"/>
          </a:xfrm>
          <a:prstGeom prst="rect">
            <a:avLst/>
          </a:prstGeom>
          <a:solidFill>
            <a:srgbClr val="4bacc6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4286160" y="5857920"/>
            <a:ext cx="1143000" cy="500040"/>
          </a:xfrm>
          <a:prstGeom prst="rect">
            <a:avLst/>
          </a:prstGeom>
          <a:solidFill>
            <a:srgbClr val="4bacc6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5500800" y="5286240"/>
            <a:ext cx="1143000" cy="500040"/>
          </a:xfrm>
          <a:prstGeom prst="rect">
            <a:avLst/>
          </a:prstGeom>
          <a:solidFill>
            <a:srgbClr val="4bacc6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5500800" y="5857920"/>
            <a:ext cx="1143000" cy="500040"/>
          </a:xfrm>
          <a:prstGeom prst="rect">
            <a:avLst/>
          </a:prstGeom>
          <a:solidFill>
            <a:srgbClr val="4bacc6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em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5072040" y="4071960"/>
            <a:ext cx="1500120" cy="500040"/>
          </a:xfrm>
          <a:prstGeom prst="rect">
            <a:avLst/>
          </a:prstGeom>
          <a:solidFill>
            <a:srgbClr val="8064a2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e Eu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cepts Obj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uche Basse de Eu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uche Obj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teurs de Sto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teurs d’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udes de 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aque moteur de persistance a ses propres caractéri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application doit être indépendante du moteur utilis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ternalisation des informations de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00040" y="5214960"/>
            <a:ext cx="77151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pe = </a:t>
            </a:r>
            <a:r>
              <a:rPr b="0" lang="fr-FR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XmlConfigLoader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.LoadXmlConfig(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"engines.config"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ngines.conf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oneTexte 4"/>
          <p:cNvSpPr/>
          <p:nvPr/>
        </p:nvSpPr>
        <p:spPr>
          <a:xfrm>
            <a:off x="450720" y="1571760"/>
            <a:ext cx="8136000" cy="50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PersistenceEngines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Courier New"/>
                <a:ea typeface="Calibri"/>
              </a:rPr>
              <a:t>DefaultEngine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=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"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SqlServerSpecific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"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PersistenceEngine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Courier New"/>
                <a:ea typeface="Calibri"/>
              </a:rPr>
              <a:t>Name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=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"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SqlServerSpecific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"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Courier New"/>
                <a:ea typeface="Calibri"/>
              </a:rPr>
              <a:t>Factory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=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"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Evaluant.Uss.SqlMapper.SqlMapperProvider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"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ConnectionString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Server=.;DataBase=ModelDB;Integrated Security=SS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/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ConnectionString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MappingFileName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model.eum.xml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/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MappingFileName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Dialect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Evaluant.Uss.SqlMapper.MsSqlDialect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/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Dialect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Driver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Evaluant.Uss.SqlMapper.MsSqlDriver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/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Driver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 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/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PersistenceEngine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lt;/</a:t>
            </a:r>
            <a:r>
              <a:rPr b="0" lang="fr-FR" sz="1800" spc="-1" strike="noStrike">
                <a:solidFill>
                  <a:srgbClr val="800000"/>
                </a:solidFill>
                <a:latin typeface="Courier New"/>
                <a:ea typeface="Calibri"/>
              </a:rPr>
              <a:t>PersistenceEngines</a:t>
            </a:r>
            <a:r>
              <a:rPr b="0" lang="fr-FR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Métadonné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Éléments de description du modèle obj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ntityMetadata, ReferenceMetadata, AttributeMeta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aDataFa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rom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romAssemb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romPropertyDescrip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romMetadata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crits dans le fichier de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P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ification du mécanisme de requêtes des entrepô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aqu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PersistenceEngin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possède sa propre implé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lus simple que le SQL mais moins puiss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tatistiques, vues, « Group By », tri indi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ebEu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Administration d’entrepô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Utilisation de la couche basse de Eu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Métadonnées de modè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Indépendance vis-à-vis de l’entrepô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nfigu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Filt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Vue d’affich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Vue d’édi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ulti-fournisseu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OUCHE OBJ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ervices Obj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ransition entre le monde POO et la couche basse Eu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ObjectServ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eprésente la configuration utilisée pour la persistance des obj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ObjectContex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eprésente une « transaction » de communication entre l’application et l’entrepô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IdentityM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ache de premier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réation du Modèle Ob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énération de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B ou C#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tilisation des classes parti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oxys Dynam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embres protég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lations « vers un » virtu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énération de code dans l’assemb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« Proxysation » des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Utilisation Avancé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quêtes par l’objet (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uery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quêtes sur le graphe objet métier (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Navigato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argement tard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argement anticip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g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OTEURS DE STOCK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ÉSENTATION DE EU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ucture génér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compatible avec la sérialisation .Net pour pouvoir gérer les références cycl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ucture génér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onctionne quel que soit le moteur de base de donn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qlMap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utilisation de bases de données exista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énération de fichiers de mapping « sur mesur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m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ockage des données en mém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canisme de « back end » permettant la sauvegarde des données volat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eilleurs performances possi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00 000 objets occupent 58 Mo de 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OTEURS D’INFRASTRUC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Hu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uplique les commandes à travers plusieurs moteurs de per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finition d’un moteur prioritaire pour les messages de lecture de donn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che de deuxième niv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férentiel d’identif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volutions possibles des référenti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ypes (cou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lations (chargement tardi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emo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onctionnement en mode binaire ou htt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met la factorisation des res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tilisation avec le moteur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tilisation mode client-serveur pour des applications Windows 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ETUDES DE 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ta Tier Modeler (DT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énération de code de la couche de persistance à partir d’un modèle U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pécifique à chaque moteur de base de donné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++, Java, C#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fé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halès, L’Oréal, Pfizer, General Electric, So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SP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couplage des cou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sentation (asp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ordination (code behin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ervices (bibliothèque de clas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onnées (eu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v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Version 1.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rrection des bugs conn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Finalisation de la docu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Version 1.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Gestion des procédures stocké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Intégration de Linq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Nouveau langage de requê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Moteu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WCF; Fail Over; Asynchrone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EussDataSour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enèse de Eu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rainstorming sur la persistance dans le système d’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déquation entre les besoins et les out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dépendance de l’entrepôt de sto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imitations de D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trusiv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Utilisateurs Actu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valu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ervier – Gestion des radios des geno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eneral Electric – Supervision des Turbines à Ga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uldagil – ER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SL – Site Web; Gestion de Conte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te Web d’Eu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vartis – Gestion des Anticor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echHeadBroth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Image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on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riv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ONCEPTS OBJ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odèles et Meta Modè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Diagramme 3" descr=""/>
          <p:cNvPicPr/>
          <p:nvPr/>
        </p:nvPicPr>
        <p:blipFill>
          <a:blip r:embed="rId1"/>
          <a:stretch/>
        </p:blipFill>
        <p:spPr>
          <a:xfrm>
            <a:off x="1420920" y="1809720"/>
            <a:ext cx="610704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3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cepts PO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Obj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Modélisation informatique d’un élément du monde réel ou de l’application à développ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e que l’objet est (Personne, Facture, …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ttrib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variables stockant l’état de l'obj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éth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Actions que l’objet est à même de réalis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On parle d’« instance » d’une classe pour désigner un objet issu de cette clas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Inversement, le nom d’une classe est le « type » d’un obj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9:21:08Z</dcterms:created>
  <dc:creator>Sébastien Ros</dc:creator>
  <dc:description/>
  <dc:language>en-US</dc:language>
  <cp:lastModifiedBy>Sébastien Ros</cp:lastModifiedBy>
  <dcterms:modified xsi:type="dcterms:W3CDTF">2007-07-31T10:49:11Z</dcterms:modified>
  <cp:revision>121</cp:revision>
  <dc:subject/>
  <dc:title>Evaluant Universal Storage Services</dc:title>
</cp:coreProperties>
</file>