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B8937-B0D4-4AFF-B547-92678BC8A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97A6B-2733-4536-80EB-0035AEC17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D631E-1D09-4DB0-9DAC-798DC69FB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B2217-5953-4A83-A442-C0888C090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7D0B0-F482-476F-ABFD-25A1EAEBB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D0753-A6CD-4ABD-889E-1DEB33767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0587C-A6B8-475D-9FA4-F919BDBAD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F2CDD-5885-4E11-AC48-5478F65C9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214A3-DFB7-475F-BEE3-655868733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2C150-6155-4787-87E0-DA3DDE430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CF041-E411-4CA4-8F6F-FFE34BF6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790A3-6F17-4A56-BB5D-80BE84DB6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4121E-A363-4E75-BAA2-F1281760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D977B-130D-4B28-A78E-B5954DAC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132CC-9DC5-46B3-AD3E-4DBBB8374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FC1A7-B7B9-429A-B85F-4CC2F6176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6CDB2-45D1-4390-AA02-8076D53E8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C0544-3A8B-44FD-9E37-2A8066DC7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ED246-17C5-45FB-B13C-401ECB3ED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91960-5E96-403E-990F-6CD57A34E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30E29-05D8-4329-BB4A-DC728B878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E2C8D-DA44-4BBC-923D-E901D008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C1163-F3F3-409F-9C82-DBC92056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73FFF-DFD5-4B28-AAA9-9C118780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D2F8F-9286-4ECA-B711-767E01EE17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7F44D-C8BB-4CF1-BC97-2F79D8FBDD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5000" spc="-1" strike="noStrike">
                <a:solidFill>
                  <a:srgbClr val="ffffff"/>
                </a:solidFill>
                <a:latin typeface="Arial"/>
              </a:rPr>
              <a:t>Evaluant Universal Storage Service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tilisation prat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guration déclar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26920" y="3284640"/>
            <a:ext cx="5905800" cy="29080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971640" y="2708280"/>
            <a:ext cx="5976720" cy="60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èle génériqu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124000" y="2924280"/>
            <a:ext cx="4219560" cy="24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èle génér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oir exemple précé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éval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ckage en mém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înage d’un moteur phys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eur distribué (en cou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êtes en mém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ql Map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apping objet-relati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ous types de donn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ous ma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outes bases de donn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eut aussi mapper une base de données générique (voir moteur Sq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ql Map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xemple de ma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971640" y="2708280"/>
            <a:ext cx="535284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ie de toutes les commandes vers la cons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348000" y="3645000"/>
            <a:ext cx="16477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ême principe que Memory mais géré par le Garbage Col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oteur distribué (en cou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Remo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éalisation d’un moteur fonctionnant en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élégation automatique via l’utilisation de la configuration 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nage des commandes de persistance sur plusieurs mot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195640" y="3213000"/>
            <a:ext cx="342900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émat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ervices de stockage varié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BdD relation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BdD obj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BdD 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ode de pensée « objet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oyen le plus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odèle de programmation le plus utili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înes de persis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484360" y="2205000"/>
            <a:ext cx="336240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xternalisation de la configuration des chaînes de per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XmlConfigLo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900000" y="3789360"/>
            <a:ext cx="509616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êtes unifié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roblémat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QL ? XPath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763640" y="3860640"/>
            <a:ext cx="521964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 EU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vigateur génériqu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’entrepô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492360" y="2637000"/>
            <a:ext cx="4908600" cy="39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ersistenceMana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ersistance de classes 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Formats d’entr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tilisation du O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187280" y="5373720"/>
            <a:ext cx="50673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tégration dans VS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er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# ou VB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1.1 et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émon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971640" y="4365720"/>
            <a:ext cx="427680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émat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DO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odèle relati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adapté pour stocker des modèles obj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 mapping objet relati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« Une » solution mais pas la se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ransformation d’un modèle relationnel en un modèle obj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ervices transver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quê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Framework de persistance de donn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t d’obj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rchitecture logique (ER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RA vs.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nfrastructure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oteurs de persist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XML, SQL, Prévalence, Couche réseau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écoupler l’application de l’entrepôt de donn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er de nouvelles solutions de stockage « adaptées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repôts génér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éva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ond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rastructure rés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 Modèle Obj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odèle 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eaucoup plus souple que le modèle relationnel pour décrire des graphes obj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ntités (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ttrib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Nom/Val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yp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42920" y="1844640"/>
            <a:ext cx="3673440" cy="22845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826920" y="4581360"/>
            <a:ext cx="468648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eurs de persis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IPersistence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ervice chargé de stocker physiquement les données (graphe d’entité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coupage en entités atomiques de persistance (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ICommand, ICommandProcessor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6985080" cy="12492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826920" y="3645000"/>
            <a:ext cx="537228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8T06:18:15Z</dcterms:created>
  <dc:creator>Sébastien Ros</dc:creator>
  <dc:description/>
  <dc:language>en-US</dc:language>
  <cp:lastModifiedBy>Sébastien Ros</cp:lastModifiedBy>
  <dcterms:modified xsi:type="dcterms:W3CDTF">2005-09-08T13:10:40Z</dcterms:modified>
  <cp:revision>18</cp:revision>
  <dc:subject/>
  <dc:title>Evaluant Universal Storage Services</dc:title>
</cp:coreProperties>
</file>