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E56-2DFC-42C0-9618-6D74552C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FA86-604D-4BCD-8F90-03EA8377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27B-D470-4081-AFB6-8E2D69EC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E610-DD24-4039-8FEB-A7C4A510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BBBD-7EEA-4788-8DAB-4EE3956D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953-2349-4768-AF44-09977F05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25D-81F5-487B-9DA7-3DCE9846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9F5-2076-4D2F-9720-B790CC3D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DA7-85B7-435D-A62E-7B4791D3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869C-71BD-40DA-9072-2D6D7EE2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5B6-49C4-4184-BAAE-22B7F873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CA7B-862C-4584-A784-645AFF29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2162-C639-408C-B9FA-330BB6FF7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1143000"/>
            <a:ext cx="1447920" cy="76212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P2:Per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irstname : Sébast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stname : 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ge : 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1143000"/>
            <a:ext cx="1447920" cy="76212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P1:Per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irstname : Tho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stname : G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ge : 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2" idx="3"/>
            <a:endCxn id="41" idx="1"/>
          </p:cNvCxnSpPr>
          <p:nvPr/>
        </p:nvCxnSpPr>
        <p:spPr>
          <a:xfrm>
            <a:off x="2971800" y="1523880"/>
            <a:ext cx="12956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3333960" y="129528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14600" y="1752480"/>
            <a:ext cx="190512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moting 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Deleg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4267080"/>
            <a:ext cx="190476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/R Mapper 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743200"/>
            <a:ext cx="2819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moting 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indows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62520" y="5105520"/>
            <a:ext cx="990360" cy="771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290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124080" y="685800"/>
            <a:ext cx="609840" cy="596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48320" y="1752480"/>
            <a:ext cx="190476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moting 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Deleg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257800" y="685800"/>
            <a:ext cx="609480" cy="596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05320" y="3505320"/>
            <a:ext cx="190476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che 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533520"/>
            <a:ext cx="4495680" cy="1828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2514600"/>
            <a:ext cx="4495680" cy="22860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4952880"/>
            <a:ext cx="4495680" cy="1067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5105520"/>
            <a:ext cx="1600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DBM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2743200"/>
            <a:ext cx="1600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ata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762120"/>
            <a:ext cx="1600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09680" y="2362320"/>
            <a:ext cx="190512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b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57600" y="3886200"/>
            <a:ext cx="990720" cy="771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895480" y="1371600"/>
            <a:ext cx="609840" cy="596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12408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3124080"/>
            <a:ext cx="190512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XmlPersistence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3124080"/>
            <a:ext cx="190512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racePersistence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676520" y="3886200"/>
            <a:ext cx="709560" cy="762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810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2133720"/>
            <a:ext cx="190512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racePersistence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705720" y="2895480"/>
            <a:ext cx="709560" cy="762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01028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09680" y="2362320"/>
            <a:ext cx="198144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b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3124080"/>
            <a:ext cx="76176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ngine 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76176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ngine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3124080"/>
            <a:ext cx="76176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ngine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rot="16200000">
            <a:off x="-533160" y="3200400"/>
            <a:ext cx="37339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est Un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2362320"/>
            <a:ext cx="26668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ersistence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1523880"/>
            <a:ext cx="266688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isual Studio Integ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1828800"/>
            <a:ext cx="76176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1828800"/>
            <a:ext cx="83844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de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en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038480"/>
            <a:ext cx="2666880" cy="1219320"/>
          </a:xfrm>
          <a:prstGeom prst="rect">
            <a:avLst/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ersistence Eng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343400"/>
            <a:ext cx="121896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Q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800600"/>
            <a:ext cx="121896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/R Mapp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4343400"/>
            <a:ext cx="121932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4800600"/>
            <a:ext cx="121932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X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3200400"/>
            <a:ext cx="26668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RA Frame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3505320"/>
            <a:ext cx="121896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RA Comm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3505320"/>
            <a:ext cx="121932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2666880"/>
            <a:ext cx="121932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Persi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666880"/>
            <a:ext cx="1218960" cy="38124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dentity M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1828800"/>
            <a:ext cx="762120" cy="380880"/>
          </a:xfrm>
          <a:prstGeom prst="rect">
            <a:avLst/>
          </a:prstGeom>
          <a:solidFill>
            <a:srgbClr val="ececec"/>
          </a:solidFill>
          <a:ln w="9360">
            <a:solidFill>
              <a:srgbClr val="969696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ynam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o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jesh</cp:lastModifiedBy>
  <dcterms:modified xsi:type="dcterms:W3CDTF">2006-05-28T08:28:0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