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84E0-3D67-49AD-9B95-B4155DEB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1C67-2E87-42B9-B9B0-CF76FB94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1E74-C7A1-426E-BAFF-174747FA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AB5-EEDF-4866-90FF-6B21F159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FFE7-F5F3-4587-A256-6FBDDAEA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4B4-682A-4638-A808-0DEF95B8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B7A-B2E5-424F-90BE-49EFEAC1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7D1D-3131-45F0-A78D-9802C53A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854-A67C-4308-B266-3662937D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EE9-5D42-460D-9B5E-E40BEAC4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993-9E8A-4CDA-9EA2-1D56D413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471B-3864-4C50-A6DE-B2C6CEE9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1D07-D337-485A-8965-8BA81E0EF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3200400"/>
            <a:ext cx="335304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Persistence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3886200"/>
            <a:ext cx="1067040" cy="114300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143000"/>
              <a:gd name="textAreaBottom" fmla="*/ 1091160 h 1143000"/>
            </a:gdLst>
            <a:ahLst/>
            <a:rect l="textAreaLeft" t="textAreaTop" r="textAreaRight" b="textAreaBottom"/>
            <a:pathLst>
              <a:path w="21600" h="23137">
                <a:moveTo>
                  <a:pt x="3600" y="0"/>
                </a:moveTo>
                <a:arcTo wR="3600" hR="3600" stAng="16200000" swAng="-5400000"/>
                <a:lnTo>
                  <a:pt x="0" y="19537"/>
                </a:lnTo>
                <a:arcTo wR="3600" hR="3600" stAng="10800000" swAng="-5400000"/>
                <a:lnTo>
                  <a:pt x="18000" y="231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GBD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QL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ra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B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ySQ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3886200"/>
            <a:ext cx="1067040" cy="114300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143000"/>
              <a:gd name="textAreaBottom" fmla="*/ 1091160 h 1143000"/>
            </a:gdLst>
            <a:ahLst/>
            <a:rect l="textAreaLeft" t="textAreaTop" r="textAreaRight" b="textAreaBottom"/>
            <a:pathLst>
              <a:path w="21600" h="23137">
                <a:moveTo>
                  <a:pt x="3600" y="0"/>
                </a:moveTo>
                <a:arcTo wR="3600" hR="3600" stAng="16200000" swAng="-5400000"/>
                <a:lnTo>
                  <a:pt x="0" y="19537"/>
                </a:lnTo>
                <a:arcTo wR="3600" hR="3600" stAng="10800000" swAng="-5400000"/>
                <a:lnTo>
                  <a:pt x="18000" y="231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le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Tr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XML 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3886200"/>
            <a:ext cx="1067040" cy="114300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143000"/>
              <a:gd name="textAreaBottom" fmla="*/ 1091160 h 1143000"/>
            </a:gdLst>
            <a:ahLst/>
            <a:rect l="textAreaLeft" t="textAreaTop" r="textAreaRight" b="textAreaBottom"/>
            <a:pathLst>
              <a:path w="21600" h="23137">
                <a:moveTo>
                  <a:pt x="3600" y="0"/>
                </a:moveTo>
                <a:arcTo wR="3600" hR="3600" stAng="16200000" swAng="-5400000"/>
                <a:lnTo>
                  <a:pt x="0" y="19537"/>
                </a:lnTo>
                <a:arcTo wR="3600" hR="3600" stAng="10800000" swAng="-5400000"/>
                <a:lnTo>
                  <a:pt x="18000" y="231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p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mo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b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477120" y="34286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38480" y="5181480"/>
            <a:ext cx="990720" cy="771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666880" y="1447920"/>
            <a:ext cx="335304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ersistence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114800" y="2209680"/>
            <a:ext cx="609480" cy="59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66880" y="2209680"/>
            <a:ext cx="990720" cy="60984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rans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2209680"/>
            <a:ext cx="914400" cy="60984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ynchronis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62520" y="990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2286000"/>
            <a:ext cx="1066680" cy="76212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énération 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mmandes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od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3505320"/>
            <a:ext cx="320040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ersistence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62520" y="4191120"/>
            <a:ext cx="990360" cy="771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19520" y="1523880"/>
            <a:ext cx="3200400" cy="38124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ersistence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6858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et ini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15000" y="2895480"/>
            <a:ext cx="272880" cy="304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876920" y="6858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et modifi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343400" y="838080"/>
            <a:ext cx="239760" cy="304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V="1">
            <a:off x="3505320" y="1294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1295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2286000"/>
            <a:ext cx="1066680" cy="76212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réation 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onnées a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ormat 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5053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5053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886200" y="2895480"/>
            <a:ext cx="276120" cy="304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>
            <a:off x="487692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3886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50532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3885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352680" y="3733920"/>
            <a:ext cx="190512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XmlPersistence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Standalon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86200" y="4572000"/>
            <a:ext cx="990720" cy="771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038480" y="1066680"/>
            <a:ext cx="609840" cy="596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343400" y="1752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2209680"/>
            <a:ext cx="1904760" cy="38124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ncrypt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Deleg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3733920"/>
            <a:ext cx="190476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XmlPersistence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Standalon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2971800"/>
            <a:ext cx="190476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ebService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Deleg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019920" y="4572000"/>
            <a:ext cx="990360" cy="771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47712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172200" y="1066680"/>
            <a:ext cx="609480" cy="596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H="1">
            <a:off x="540972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2057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752480" y="4572000"/>
            <a:ext cx="990720" cy="771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1981080" y="1676520"/>
            <a:ext cx="609840" cy="596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0968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3733920"/>
            <a:ext cx="190512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XmlPersistence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Standalon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971800"/>
            <a:ext cx="190512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racePersistence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Deleg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ébastien Ros</cp:lastModifiedBy>
  <dcterms:modified xsi:type="dcterms:W3CDTF">2005-02-21T10:59:0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