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F0CB-26A1-47D9-8186-1A21C4D447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ification des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B554-E2BA-4D34-BEA3-7325F97E65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suite démo d’utilisation avec sauvegarde en 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2991-AB94-4AA9-B240-35965CA338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suite création d’un fichier de metadata et chargement de données, introduction à O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F715-C959-43C4-97A2-C30E106E54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iliser la documentation pour présenter les fonctionnalité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9B74-67A8-4E24-948A-7875F4556B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êmes données mais en ob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5139-D432-46BB-9939-CB44244D5F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917-63D5-4C21-97C6-6D6C436B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0BA-560B-45DE-A46A-D9CB9915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AC2-256E-4554-9B2F-54B4FF63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45E-416B-438B-B941-A1B17562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10A-4E23-4709-8EFD-5AFCB51E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8E7-605D-44FE-9FB9-844500C7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8A9-B677-475D-8423-DF47D779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33C-29A4-44EA-ABB5-5ED20522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3407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B77-F42A-495B-BC3F-CFDB7E4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A1F-FAC8-4634-A5FE-33B7D98E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9DF-79C0-457B-9426-A3538C42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B72-AF80-4201-8BE8-78BC3DAC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4C17-D023-40E5-B1AB-BAE9A3BE7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valuant Universal Storage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présentation U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bstra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étho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ttrib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Héri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osition/Agrég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ô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ardinalité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lasses d’assoc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UCHE BASSE DE EU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O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Diagramm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45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iagramm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75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à coins arrondis 3"/>
          <p:cNvSpPr/>
          <p:nvPr/>
        </p:nvSpPr>
        <p:spPr>
          <a:xfrm>
            <a:off x="1714680" y="2571840"/>
            <a:ext cx="171432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Pers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Prénom: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om: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ille: 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6"/>
          <p:cNvSpPr/>
          <p:nvPr/>
        </p:nvSpPr>
        <p:spPr>
          <a:xfrm>
            <a:off x="5572080" y="2571840"/>
            <a:ext cx="17146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Pers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Prénom: St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om: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ille: Cuper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Connecteur droit avec flèche 7"/>
          <p:cNvCxnSpPr>
            <a:stCxn id="75" idx="3"/>
            <a:endCxn id="76" idx="1"/>
          </p:cNvCxnSpPr>
          <p:nvPr/>
        </p:nvCxnSpPr>
        <p:spPr>
          <a:xfrm>
            <a:off x="3428640" y="3034800"/>
            <a:ext cx="2143800" cy="2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8" name="ZoneTexte 10"/>
          <p:cNvSpPr/>
          <p:nvPr/>
        </p:nvSpPr>
        <p:spPr>
          <a:xfrm>
            <a:off x="4076280" y="271476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ten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16"/>
          <p:cNvSpPr/>
          <p:nvPr/>
        </p:nvSpPr>
        <p:spPr>
          <a:xfrm>
            <a:off x="100008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Type: Pers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à coins arrondis 18"/>
          <p:cNvSpPr/>
          <p:nvPr/>
        </p:nvSpPr>
        <p:spPr>
          <a:xfrm>
            <a:off x="242892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ame: Pré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alue: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à coins arrondis 19"/>
          <p:cNvSpPr/>
          <p:nvPr/>
        </p:nvSpPr>
        <p:spPr>
          <a:xfrm>
            <a:off x="385776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ame: 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alue: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17"/>
          <p:cNvSpPr/>
          <p:nvPr/>
        </p:nvSpPr>
        <p:spPr>
          <a:xfrm>
            <a:off x="671508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Role: Parten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20"/>
          <p:cNvSpPr/>
          <p:nvPr/>
        </p:nvSpPr>
        <p:spPr>
          <a:xfrm>
            <a:off x="5286240" y="4643280"/>
            <a:ext cx="135756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lèche vers le bas 21"/>
          <p:cNvSpPr/>
          <p:nvPr/>
        </p:nvSpPr>
        <p:spPr>
          <a:xfrm>
            <a:off x="4286160" y="3214800"/>
            <a:ext cx="428760" cy="1143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t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3"/>
          <p:cNvSpPr/>
          <p:nvPr/>
        </p:nvSpPr>
        <p:spPr>
          <a:xfrm>
            <a:off x="428760" y="1571760"/>
            <a:ext cx="557208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Courier New"/>
                <a:ea typeface="Calibri"/>
              </a:rPr>
              <a:t>// creates a first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p1 = </a:t>
            </a:r>
            <a:r>
              <a:rPr b="0" lang="fr-FR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new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Person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Fir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Bill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La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Gates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Ag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1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Courier New"/>
                <a:ea typeface="Calibri"/>
              </a:rPr>
              <a:t>// and a second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p2 = </a:t>
            </a:r>
            <a:r>
              <a:rPr b="0" lang="fr-FR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new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Person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2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Fir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Steev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2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La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Balm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2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Ag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1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Courier New"/>
                <a:ea typeface="Calibri"/>
              </a:rPr>
              <a:t>// adds an association between the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Partners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p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andes de Séria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iagramm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75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oteurs de Per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objet de typ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PersistenceEngin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oit être capable de sérialiser un graphe objet ERA dans un support physique don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chaque type d’entrepôt particulier, toute commande de sérialisation peut être interprétée de manière différ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USS implémente une abstraction vis-à-vis des moteurs de 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ersistence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6"/>
          <p:cNvSpPr/>
          <p:nvPr/>
        </p:nvSpPr>
        <p:spPr>
          <a:xfrm>
            <a:off x="456480" y="1571760"/>
            <a:ext cx="78613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public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interfac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IPersistence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EntitySe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(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opath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orderby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in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first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in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ma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EntitySe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WithId(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type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[] id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[] attribut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void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Reference(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IEnumerabl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entities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[] referenc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objec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Scalar(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o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void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InitializeRepositor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void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ProcessCommands(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Transaction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t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Model Model {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ge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osants Princip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14680" y="1285920"/>
            <a:ext cx="5072040" cy="11430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Visual Studio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714680" y="2571840"/>
            <a:ext cx="5072040" cy="1000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bjec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714680" y="3714840"/>
            <a:ext cx="5072040" cy="1000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r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714680" y="4857840"/>
            <a:ext cx="5072040" cy="1643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ersisten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2143080" y="1643040"/>
            <a:ext cx="1285920" cy="571680"/>
          </a:xfrm>
          <a:prstGeom prst="rect">
            <a:avLst/>
          </a:prstGeom>
          <a:solidFill>
            <a:srgbClr val="c0504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571920" y="1643040"/>
            <a:ext cx="1285920" cy="571680"/>
          </a:xfrm>
          <a:prstGeom prst="rect">
            <a:avLst/>
          </a:prstGeom>
          <a:solidFill>
            <a:srgbClr val="c0504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ntelli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000760" y="1643040"/>
            <a:ext cx="1285920" cy="571680"/>
          </a:xfrm>
          <a:prstGeom prst="rect">
            <a:avLst/>
          </a:prstGeom>
          <a:solidFill>
            <a:srgbClr val="c0504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de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500200" y="2928960"/>
            <a:ext cx="1643040" cy="50004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bject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357800" y="2928960"/>
            <a:ext cx="1571400" cy="50004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bject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928880" y="4071960"/>
            <a:ext cx="1500120" cy="500040"/>
          </a:xfrm>
          <a:prstGeom prst="rect">
            <a:avLst/>
          </a:prstGeom>
          <a:solidFill>
            <a:srgbClr val="8064a2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500280" y="4071960"/>
            <a:ext cx="1500480" cy="500040"/>
          </a:xfrm>
          <a:prstGeom prst="rect">
            <a:avLst/>
          </a:prstGeom>
          <a:solidFill>
            <a:srgbClr val="8064a2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857240" y="528624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3071880" y="528624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1857240" y="585792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3071880" y="585792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4286160" y="528624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286160" y="585792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5500800" y="528624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5500800" y="585792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m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5072040" y="4071960"/>
            <a:ext cx="1500120" cy="500040"/>
          </a:xfrm>
          <a:prstGeom prst="rect">
            <a:avLst/>
          </a:prstGeom>
          <a:solidFill>
            <a:srgbClr val="8064a2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e Eu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cepts Obj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uche Basse de Eu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uche Ob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teurs de Sto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teurs d’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udes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que moteur de persistance a ses propres caractéri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application doit être indépendante du moteur utili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ternalisation des informations de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00040" y="5214960"/>
            <a:ext cx="77151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pe = </a:t>
            </a:r>
            <a:r>
              <a:rPr b="0" lang="fr-FR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XmlConfigLoader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.LoadXmlConfig(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"engines.config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gines.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4"/>
          <p:cNvSpPr/>
          <p:nvPr/>
        </p:nvSpPr>
        <p:spPr>
          <a:xfrm>
            <a:off x="450720" y="1571760"/>
            <a:ext cx="8136000" cy="50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s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alibri"/>
              </a:rPr>
              <a:t>DefaultEngin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SqlServerSpecific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alibri"/>
              </a:rPr>
              <a:t>Nam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SqlServerSpecific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alibri"/>
              </a:rPr>
              <a:t>Factory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Evaluant.Uss.SqlMapper.SqlMapperProvider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ConnectionString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Server=.;DataBase=ModelDB;Integrated Security=SS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ConnectionString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MappingFileNam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model.eum.xml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MappingFileNam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ialect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Evaluant.Uss.SqlMapper.MsSqlDialect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ialect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river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Evaluant.Uss.SqlMapper.MsSqlDriver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river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s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Méta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léments de description du modèle ob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tityMetadata, ReferenceMetadata, Attribute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aDataFa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PropertyDescrip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Metadata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crits dans le fichier de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ification du mécanisme de requêtes des entrepô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qu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PersistenceEngin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ossède sa propre implé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lus simple que le SQL mais moins puiss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tatistiques, vues, « Group By », tri indi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ebE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dministration d’entrepô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tilisation de la couche basse de Eu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étadonnées de modè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Indépendance vis-à-vis de l’entrepô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nfigu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Filt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Vue d’affich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Vue d’é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ulti-fournisse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UCHE OBJ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ervices Obj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ransition entre le monde POO et la couche basse Eu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bject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présente la configuration utilisée pour la persistance des obj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bjectCon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présente une « transaction » de communication entre l’application et l’entrepô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dentity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ache de premier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réation du Modèle Ob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énération de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B ou C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tilisation des classes parti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xys Dynam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mbres protég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lations « vers un » virtu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énération de code dans l’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Proxysation » des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tilisation Avancé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quêtes par l’objet (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r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quêtes sur le graphe objet métier (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Navigato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rgement tard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rgement anticip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g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TEURS DE STO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E EU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ucture génér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compatible avec la sérialisation .Net pour pouvoir gérer les références cycl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ucture génér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nctionne quel que soit le moteur de base de donn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ql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utilisation de bases de données exist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énération de fichiers de mapping « sur mesur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ockage des données en mém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canisme de « back end » permettant la sauvegarde des données vola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illeurs performances poss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0 000 objets occupent 58 Mo de 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TEURS D’INFRA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uplique les commandes à travers plusieurs moteurs de 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finition d’un moteur prioritaire pour les messages de lecture de donn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che de deuxième niv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férentiel d’identif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olutions possibles des référenti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ypes (cou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lations (chargement tard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mo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nctionnement en mode binaire ou htt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met la factorisation des res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tilisation avec le moteur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 mode client-serveur pour des applications Windows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TUDES DE 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ta Tier Modeler (DT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énération de code de la couche de persistance à partir d’un modèle U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écifique à chaque moteur de base de donné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++, Java, C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fé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alès, L’Oréal, Pfizer, General Electric, S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SP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couplage des cou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sentation (asp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ordination (code behi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rvices (bibliothèque de cla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nnées (eu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Version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rrection des bugs conn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Finalisation de la docu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Version 1.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Gestion des procédures stocké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égration de Linq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Nouveau langage de requê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te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WCF; Fail Over; Asynchron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ussData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nèse de E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rainstorming sur la persistance dans le système d’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déquation entre les besoins et les out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dépendance de l’entrepôt de sto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imitations de D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rus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tilisateurs Actu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valu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rvier – Gestion des radios des geno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eneral Electric – Supervision des Turbines à Ga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uldagil – E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SL – Site Web; Gestion de Cont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te Web d’Eu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vartis – Gestion des Anticor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chHeadBrot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Imag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on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iv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NCEPTS OBJ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odèles et Meta Modè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me 3" descr=""/>
          <p:cNvPicPr/>
          <p:nvPr/>
        </p:nvPicPr>
        <p:blipFill>
          <a:blip r:embed="rId1"/>
          <a:stretch/>
        </p:blipFill>
        <p:spPr>
          <a:xfrm>
            <a:off x="1420920" y="1809720"/>
            <a:ext cx="610704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epts P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Obj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odélisation informatique d’un élément du monde réel ou de l’application à développ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e que l’objet est (Personne, Facture, …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ttrib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variables stockant l’état de l'obj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éth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Actions que l’objet est à même de réalis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On parle d’« instance » d’une classe pour désigner un objet issu de cette clas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Inversement, le nom d’une classe est le « type » d’un obj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9:21:08Z</dcterms:created>
  <dc:creator>Sébastien Ros</dc:creator>
  <dc:description/>
  <dc:language>en-US</dc:language>
  <cp:lastModifiedBy>Sébastien Ros</cp:lastModifiedBy>
  <dcterms:modified xsi:type="dcterms:W3CDTF">2007-07-31T10:49:11Z</dcterms:modified>
  <cp:revision>121</cp:revision>
  <dc:subject/>
  <dc:title>Evaluant Universal Storage Services</dc:title>
</cp:coreProperties>
</file>