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DED-2D86-4A1A-A903-835E1CE7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0AB-7522-4C47-ABD6-ED94A60A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765-ABBE-4861-BD56-88CDCC67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1CC-72D1-4F8E-A20B-1E3AD77D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2ED-B60D-48A9-A4AF-60AC32C1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6C4B-D74B-4213-BCF0-03999B6F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905-AFE1-4CC1-868F-0381EC61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17F-3541-4EB4-A521-188264BE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938-CF57-4034-B08C-8D2B4373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AA15-5089-4F7D-A61A-53124BEB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0A0-73F9-41D5-B63C-49DD163C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CBC-7E79-4CCC-8C35-FA961B47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384D-C6E3-48F4-A124-898B6B4BA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2230560"/>
            <a:ext cx="359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SA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402264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19384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merce Serv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29280" y="21938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ent Management Server (C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0" y="21938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obile Information Server (MI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02264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change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4022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zTa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402264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ost Integration Server (HI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40226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TC Serv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er Icon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6386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rver Running XML Web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57600" y="1009800"/>
            <a:ext cx="1066680" cy="127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4120" y="1019160"/>
            <a:ext cx="100008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162920" y="990720"/>
            <a:ext cx="990360" cy="119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086600" y="2743200"/>
            <a:ext cx="923760" cy="1333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209680" y="2819520"/>
            <a:ext cx="990720" cy="1218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14240" y="2743200"/>
            <a:ext cx="1114560" cy="1390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5343480" y="2800440"/>
            <a:ext cx="1057320" cy="131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2133720" y="905040"/>
            <a:ext cx="1143000" cy="1380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762120" y="981000"/>
            <a:ext cx="990360" cy="1305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3733920" y="2895480"/>
            <a:ext cx="1085760" cy="129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784080" y="4495680"/>
            <a:ext cx="968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4572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formation Iconography 1 of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19384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eneric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cu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10280" y="40226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zTalk 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29280" y="21938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21938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022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5622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r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402264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zTalk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394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X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5638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5638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r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56080" y="5638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r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56386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r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4022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ibr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03360" y="4648320"/>
            <a:ext cx="949320" cy="99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15120" y="4572000"/>
            <a:ext cx="1014480" cy="1066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53200" y="4572000"/>
            <a:ext cx="1123920" cy="1114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886200" y="4629240"/>
            <a:ext cx="1031760" cy="1085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362320" y="1219320"/>
            <a:ext cx="8762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3819600" y="1295280"/>
            <a:ext cx="828720" cy="914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2362320" y="2971800"/>
            <a:ext cx="1066680" cy="1042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3886200" y="3124080"/>
            <a:ext cx="914400" cy="857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7010280" y="1219320"/>
            <a:ext cx="1295640" cy="1009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5410080" y="1305000"/>
            <a:ext cx="1019160" cy="981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"/>
          <a:stretch/>
        </p:blipFill>
        <p:spPr>
          <a:xfrm>
            <a:off x="914400" y="3124080"/>
            <a:ext cx="77616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>
            <a:off x="609480" y="1143000"/>
            <a:ext cx="1047960" cy="1123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3"/>
          <a:stretch/>
        </p:blipFill>
        <p:spPr>
          <a:xfrm>
            <a:off x="762120" y="4419720"/>
            <a:ext cx="1052280" cy="1295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4"/>
          <a:stretch/>
        </p:blipFill>
        <p:spPr>
          <a:xfrm>
            <a:off x="7162920" y="2895480"/>
            <a:ext cx="1052280" cy="1166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5"/>
          <a:stretch/>
        </p:blipFill>
        <p:spPr>
          <a:xfrm>
            <a:off x="5486400" y="2819520"/>
            <a:ext cx="1112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4572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formation Iconography 2 of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l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me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mail/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022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8720" y="2971800"/>
            <a:ext cx="1076400" cy="100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09680" y="3029040"/>
            <a:ext cx="1257480" cy="933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0" y="4022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n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962520" y="1219320"/>
            <a:ext cx="914400" cy="99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762120" y="1143000"/>
            <a:ext cx="915840" cy="99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133720" y="1066680"/>
            <a:ext cx="1295280" cy="1168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5562720" y="1295280"/>
            <a:ext cx="1009440" cy="885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7238880" y="1295280"/>
            <a:ext cx="99072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09680" y="3114720"/>
            <a:ext cx="1095480" cy="923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83160" y="3009960"/>
            <a:ext cx="1069920" cy="1104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238880" y="1066680"/>
            <a:ext cx="889200" cy="106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9480" y="4572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rdware Icon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2193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219384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C (with XML Web ser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29280" y="21938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b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21938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cket 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022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obile Ph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4022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402264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umb Ph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394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umb Termin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675240" y="2819520"/>
            <a:ext cx="1277640" cy="129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914400" y="2828880"/>
            <a:ext cx="801720" cy="1209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5181480" y="973080"/>
            <a:ext cx="1295640" cy="123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1905120" y="914400"/>
            <a:ext cx="1447560" cy="1324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3505320" y="909720"/>
            <a:ext cx="1371600" cy="1298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762120" y="1066680"/>
            <a:ext cx="923760" cy="1219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7043760" y="2743200"/>
            <a:ext cx="1262160" cy="1295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934320" y="402264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ablet 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572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ML Web Services Icon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19384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ML Web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219384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ML Web service (black and whi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981000" cy="971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057400" y="219384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ML Web service and Binary 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62520" y="990720"/>
            <a:ext cx="961920" cy="1218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209680" y="1143000"/>
            <a:ext cx="981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4572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2743200"/>
            <a:ext cx="1676520" cy="121932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Ceci est un tex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qui ne veut rien d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2743200"/>
            <a:ext cx="1676520" cy="121932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Ceci est un tex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qui ne veut rien d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16:58:07Z</dcterms:created>
  <dc:creator>a-johsti</dc:creator>
  <dc:description/>
  <dc:language>en-US</dc:language>
  <cp:lastModifiedBy>Sébastien Ros</cp:lastModifiedBy>
  <dcterms:modified xsi:type="dcterms:W3CDTF">2004-08-19T15:32:59Z</dcterms:modified>
  <cp:revision>94</cp:revision>
  <dc:subject/>
  <dc:title>Slide 1</dc:title>
</cp:coreProperties>
</file>