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6EC-E046-451B-BF2A-ED0EF900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D16-8595-460A-A7D4-4B0F56B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AF2-3240-457E-8EE5-63FC04C7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3D8-1675-428A-83D8-DBC5028A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18B-389F-4ED5-ABB2-FCE910A8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B04-F872-407F-B018-9F86FC8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D3D-1A10-44DC-A43A-0373DA6F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03A-1980-491B-864D-67E2B6CF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A85-8CF2-470B-B0B5-E0D320C4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B8A-A4A8-47C0-99E1-E1617CB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8A9-9E3C-4383-B7EE-F78AE013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8D7-F81E-4EA8-AEC0-4852C4F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0BB-A59D-4F05-9488-3AC4EA4C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1143000"/>
            <a:ext cx="1447920" cy="76212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2:P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stname : Sébast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stname : 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 : 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143000"/>
            <a:ext cx="1447920" cy="76212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1:P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stname : Tho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stname : G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 : 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2" idx="3"/>
            <a:endCxn id="41" idx="1"/>
          </p:cNvCxnSpPr>
          <p:nvPr/>
        </p:nvCxnSpPr>
        <p:spPr>
          <a:xfrm>
            <a:off x="2971800" y="1523880"/>
            <a:ext cx="1295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333960" y="12952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1752480"/>
            <a:ext cx="190512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ting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267080"/>
            <a:ext cx="1904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/R Mapper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819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ting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indows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62520" y="5105520"/>
            <a:ext cx="990360" cy="77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4080" y="68580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8320" y="1752480"/>
            <a:ext cx="1904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ting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6094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5320" y="3505320"/>
            <a:ext cx="190476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che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533520"/>
            <a:ext cx="4495680" cy="1828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514600"/>
            <a:ext cx="4495680" cy="2286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4952880"/>
            <a:ext cx="4495680" cy="1067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510552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DBM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7432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ta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76212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09680" y="236232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b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990720" cy="77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4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124080"/>
            <a:ext cx="190512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124080"/>
            <a:ext cx="190512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e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676520" y="3886200"/>
            <a:ext cx="709560" cy="762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10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13372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e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05720" y="2895480"/>
            <a:ext cx="709560" cy="76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1028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09680" y="2362320"/>
            <a:ext cx="198144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b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3124080"/>
            <a:ext cx="761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gine 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761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gine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124080"/>
            <a:ext cx="761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gine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rot="16200000">
            <a:off x="-533160" y="3200400"/>
            <a:ext cx="37339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est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362320"/>
            <a:ext cx="26668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523880"/>
            <a:ext cx="266688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sual Studio 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1828800"/>
            <a:ext cx="76176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1828800"/>
            <a:ext cx="83844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d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038480"/>
            <a:ext cx="266688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 Eng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343400"/>
            <a:ext cx="12189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800600"/>
            <a:ext cx="12189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/R Map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4343400"/>
            <a:ext cx="12193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800600"/>
            <a:ext cx="12193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200400"/>
            <a:ext cx="26668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RA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3505320"/>
            <a:ext cx="12189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RA Comm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3505320"/>
            <a:ext cx="12193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666880"/>
            <a:ext cx="121932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Persi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666880"/>
            <a:ext cx="12189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dentity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1828800"/>
            <a:ext cx="762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ynam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o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jesh</cp:lastModifiedBy>
  <dcterms:modified xsi:type="dcterms:W3CDTF">2006-05-28T08:28:0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