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97558-5D28-4416-8875-49548C7D5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3F498-85E5-4E82-8F5F-46AA2A25A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20F49-3416-4123-9DB0-97B7F6F1C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04F13-9AB4-496A-B7C8-4653051E4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91240-6F10-476A-BF4B-372E64FA1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9A955-CAF6-4A6C-9516-BAF5FD6DB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C13BB-3231-4F61-9B68-0689EF8CA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B21EE-3CAC-4011-A449-11C337997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9350D-D5B6-4B33-8F9E-0A98B208E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08027-5EBC-47AE-ABBD-BC2412B74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8414A-9BEC-427D-A17E-E8FF7CF51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4C784-3042-4254-956D-065934A4B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A2FB0-63DF-4AC3-A5D0-B169369315DC}" type="datetime">
              <a:rPr b="0" lang="cs-CZ" sz="1200" spc="-1" strike="noStrike">
                <a:solidFill>
                  <a:srgbClr val="898989"/>
                </a:solidFill>
                <a:latin typeface="Arial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22CD9-DD9E-4E83-BDE1-BE0F69F9F96A}" type="slidenum">
              <a:rPr b="0" lang="cs-CZ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4038480"/>
            <a:ext cx="7010640" cy="281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spcAft>
                <a:spcPts val="11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Futura T OT Medium"/>
              </a:rPr>
              <a:t>Zobrazování vlastností obrazu</a:t>
            </a:r>
            <a:br>
              <a:rPr sz="3600"/>
            </a:br>
            <a:r>
              <a:rPr b="0" lang="cs-CZ" sz="2400" spc="-1" strike="noStrike">
                <a:solidFill>
                  <a:srgbClr val="d9d9d9"/>
                </a:solidFill>
                <a:latin typeface="Futura T OT Medium"/>
              </a:rPr>
              <a:t>Projekt do Zpracování obrazu (ZPO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Zástupný symbol pro obsah 2"/>
          <p:cNvSpPr/>
          <p:nvPr/>
        </p:nvSpPr>
        <p:spPr>
          <a:xfrm>
            <a:off x="615960" y="6095880"/>
            <a:ext cx="791856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baseline="30000">
                <a:solidFill>
                  <a:srgbClr val="046faf"/>
                </a:solidFill>
                <a:latin typeface="Futura T OT Demi"/>
              </a:rPr>
              <a:t>Autoři:</a:t>
            </a:r>
            <a:r>
              <a:rPr b="0" lang="cs-CZ" sz="1800" spc="-1" strike="noStrike">
                <a:solidFill>
                  <a:srgbClr val="046faf"/>
                </a:solidFill>
                <a:latin typeface="Futura T OT Demi"/>
              </a:rPr>
              <a:t> Bc. Tomáš Bambas, Bc. Tomáš Hégr, Bc. Roman Jaš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FA_ikonova_varianta_loga_negativ.png"/>
          <p:cNvPicPr/>
          <p:nvPr/>
        </p:nvPicPr>
        <p:blipFill>
          <a:blip r:embed="rId2"/>
          <a:stretch/>
        </p:blipFill>
        <p:spPr>
          <a:xfrm>
            <a:off x="5257800" y="685800"/>
            <a:ext cx="10666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476280"/>
            <a:ext cx="8229600" cy="15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46faf"/>
                </a:solidFill>
                <a:latin typeface="Futura T OT Demi"/>
              </a:rPr>
              <a:t>Výsledná aplika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762120" y="21031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Zástupný symbol pro obsah 2"/>
          <p:cNvSpPr/>
          <p:nvPr/>
        </p:nvSpPr>
        <p:spPr>
          <a:xfrm>
            <a:off x="762120" y="6477120"/>
            <a:ext cx="791820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 baseline="30000">
                <a:solidFill>
                  <a:srgbClr val="ffffff"/>
                </a:solidFill>
                <a:latin typeface="Futura T OT Book"/>
              </a:rPr>
              <a:t>Zobrazování vlastností obrazu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5" descr=""/>
          <p:cNvPicPr/>
          <p:nvPr/>
        </p:nvPicPr>
        <p:blipFill>
          <a:blip r:embed="rId1"/>
          <a:stretch/>
        </p:blipFill>
        <p:spPr>
          <a:xfrm>
            <a:off x="108000" y="1484280"/>
            <a:ext cx="8856720" cy="491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Nadpis 1"/>
          <p:cNvSpPr/>
          <p:nvPr/>
        </p:nvSpPr>
        <p:spPr>
          <a:xfrm>
            <a:off x="-2340000" y="2565360"/>
            <a:ext cx="8229600" cy="8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Nadpis 1"/>
          <p:cNvSpPr/>
          <p:nvPr/>
        </p:nvSpPr>
        <p:spPr>
          <a:xfrm>
            <a:off x="468360" y="476280"/>
            <a:ext cx="822960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46faf"/>
                </a:solidFill>
                <a:latin typeface="Futura T OT Demi"/>
              </a:rPr>
              <a:t>Hist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obsah 2"/>
          <p:cNvSpPr/>
          <p:nvPr/>
        </p:nvSpPr>
        <p:spPr>
          <a:xfrm>
            <a:off x="762120" y="6477120"/>
            <a:ext cx="791820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 baseline="30000">
                <a:solidFill>
                  <a:srgbClr val="ffffff"/>
                </a:solidFill>
                <a:latin typeface="Futura T OT Book"/>
              </a:rPr>
              <a:t>Zobrazování vlastností obrazu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Obrázek 5" descr="blue.png"/>
          <p:cNvPicPr/>
          <p:nvPr/>
        </p:nvPicPr>
        <p:blipFill>
          <a:blip r:embed="rId1"/>
          <a:stretch/>
        </p:blipFill>
        <p:spPr>
          <a:xfrm>
            <a:off x="179280" y="3933720"/>
            <a:ext cx="4032360" cy="2605320"/>
          </a:xfrm>
          <a:prstGeom prst="rect">
            <a:avLst/>
          </a:prstGeom>
          <a:ln w="0">
            <a:noFill/>
          </a:ln>
        </p:spPr>
      </p:pic>
      <p:pic>
        <p:nvPicPr>
          <p:cNvPr id="52" name="Obrázek 6" descr="green.png"/>
          <p:cNvPicPr/>
          <p:nvPr/>
        </p:nvPicPr>
        <p:blipFill>
          <a:blip r:embed="rId2"/>
          <a:stretch/>
        </p:blipFill>
        <p:spPr>
          <a:xfrm>
            <a:off x="4356000" y="1341360"/>
            <a:ext cx="3994200" cy="2592360"/>
          </a:xfrm>
          <a:prstGeom prst="rect">
            <a:avLst/>
          </a:prstGeom>
          <a:ln w="0">
            <a:noFill/>
          </a:ln>
        </p:spPr>
      </p:pic>
      <p:pic>
        <p:nvPicPr>
          <p:cNvPr id="53" name="Obrázek 8" descr="lum.png"/>
          <p:cNvPicPr/>
          <p:nvPr/>
        </p:nvPicPr>
        <p:blipFill>
          <a:blip r:embed="rId3"/>
          <a:stretch/>
        </p:blipFill>
        <p:spPr>
          <a:xfrm>
            <a:off x="4352760" y="4005360"/>
            <a:ext cx="4002120" cy="2592360"/>
          </a:xfrm>
          <a:prstGeom prst="rect">
            <a:avLst/>
          </a:prstGeom>
          <a:ln w="0">
            <a:noFill/>
          </a:ln>
        </p:spPr>
      </p:pic>
      <p:pic>
        <p:nvPicPr>
          <p:cNvPr id="54" name="Obrázek 9" descr="red.png"/>
          <p:cNvPicPr/>
          <p:nvPr/>
        </p:nvPicPr>
        <p:blipFill>
          <a:blip r:embed="rId4"/>
          <a:stretch/>
        </p:blipFill>
        <p:spPr>
          <a:xfrm>
            <a:off x="179280" y="1268280"/>
            <a:ext cx="400536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Nadpis 1"/>
          <p:cNvSpPr/>
          <p:nvPr/>
        </p:nvSpPr>
        <p:spPr>
          <a:xfrm>
            <a:off x="685800" y="8380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46faf"/>
                </a:solidFill>
                <a:latin typeface="Futura T OT Demi"/>
              </a:rPr>
              <a:t> </a:t>
            </a:r>
            <a:r>
              <a:rPr b="0" lang="cs-CZ" sz="2400" spc="-1" strike="noStrike">
                <a:solidFill>
                  <a:srgbClr val="046faf"/>
                </a:solidFill>
                <a:latin typeface="Futura T OT Demi"/>
              </a:rPr>
              <a:t>Informace o obraz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Zástupný symbol pro obsah 2"/>
          <p:cNvSpPr/>
          <p:nvPr/>
        </p:nvSpPr>
        <p:spPr>
          <a:xfrm>
            <a:off x="762120" y="1646280"/>
            <a:ext cx="8229600" cy="43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lnSpc>
                <a:spcPct val="100000"/>
              </a:lnSpc>
              <a:buClr>
                <a:srgbClr val="7f7f7f"/>
              </a:buClr>
              <a:buFont typeface="Futura T OT Med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7f7f7f"/>
                </a:solidFill>
                <a:latin typeface="Futura T OT Medium"/>
              </a:rPr>
              <a:t>Rozliše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7f7f7f"/>
              </a:buClr>
              <a:buFont typeface="Futura T OT Med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7f7f7f"/>
                </a:solidFill>
                <a:latin typeface="Futura T OT Medium"/>
              </a:rPr>
              <a:t>Barevná hloub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7f7f7f"/>
              </a:buClr>
              <a:buFont typeface="Futura T OT Med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7f7f7f"/>
                </a:solidFill>
                <a:latin typeface="Futura T OT Medium"/>
              </a:rPr>
              <a:t>Energie obraz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7f7f7f"/>
              </a:buClr>
              <a:buFont typeface="Futura T OT Med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7f7f7f"/>
              </a:buClr>
              <a:buFont typeface="Futura T OT Med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7f7f7f"/>
              </a:buClr>
              <a:buFont typeface="Futura T OT Med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7f7f7f"/>
              </a:buClr>
              <a:buFont typeface="Futura T OT Med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7f7f7f"/>
              </a:buClr>
              <a:buFont typeface="Futura T OT Med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7f7f7f"/>
                </a:solidFill>
                <a:latin typeface="Futura T OT Medium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7f7f7f"/>
                </a:solidFill>
                <a:latin typeface="Futura T OT Medium"/>
              </a:rPr>
              <a:t>4.</a:t>
            </a:r>
            <a:r>
              <a:rPr b="0" lang="cs-CZ" sz="1800" spc="-1" strike="noStrike">
                <a:solidFill>
                  <a:srgbClr val="7f7f7f"/>
                </a:solidFill>
                <a:latin typeface="Futura T OT Medium"/>
              </a:rPr>
              <a:t>	</a:t>
            </a:r>
            <a:r>
              <a:rPr b="0" lang="cs-CZ" sz="1800" spc="-1" strike="noStrike">
                <a:solidFill>
                  <a:srgbClr val="7f7f7f"/>
                </a:solidFill>
                <a:latin typeface="Futura T OT Medium"/>
              </a:rPr>
              <a:t>Barva pixelu (RGB + světelnos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Zástupný symbol pro obsah 2"/>
          <p:cNvSpPr/>
          <p:nvPr/>
        </p:nvSpPr>
        <p:spPr>
          <a:xfrm>
            <a:off x="762120" y="2590920"/>
            <a:ext cx="8229600" cy="25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Zástupný symbol pro obsah 2"/>
          <p:cNvSpPr/>
          <p:nvPr/>
        </p:nvSpPr>
        <p:spPr>
          <a:xfrm>
            <a:off x="762120" y="6477120"/>
            <a:ext cx="791820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 baseline="30000">
                <a:solidFill>
                  <a:srgbClr val="ffffff"/>
                </a:solidFill>
                <a:latin typeface="Futura T OT Book"/>
              </a:rPr>
              <a:t>Zobrazování vlastností obrazu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6" descr=""/>
          <p:cNvPicPr/>
          <p:nvPr/>
        </p:nvPicPr>
        <p:blipFill>
          <a:blip r:embed="rId1"/>
          <a:stretch/>
        </p:blipFill>
        <p:spPr>
          <a:xfrm>
            <a:off x="755640" y="2565360"/>
            <a:ext cx="7372440" cy="16747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7" descr=""/>
          <p:cNvPicPr/>
          <p:nvPr/>
        </p:nvPicPr>
        <p:blipFill>
          <a:blip r:embed="rId2"/>
          <a:stretch/>
        </p:blipFill>
        <p:spPr>
          <a:xfrm>
            <a:off x="684360" y="4869000"/>
            <a:ext cx="7802280" cy="21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Nadpis 1"/>
          <p:cNvSpPr/>
          <p:nvPr/>
        </p:nvSpPr>
        <p:spPr>
          <a:xfrm>
            <a:off x="684360" y="549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46faf"/>
                </a:solidFill>
                <a:latin typeface="Futura T OT Demi"/>
              </a:rPr>
              <a:t>Moment obraz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Zástupný symbol pro obsah 2"/>
          <p:cNvSpPr/>
          <p:nvPr/>
        </p:nvSpPr>
        <p:spPr>
          <a:xfrm>
            <a:off x="684360" y="1268280"/>
            <a:ext cx="82296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7f7f7f"/>
                </a:solidFill>
                <a:latin typeface="Futura T OT Medium"/>
              </a:rPr>
              <a:t>Rozlišení: outdoors – nature – water/sky - unknow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Zástupný symbol pro obsah 2"/>
          <p:cNvSpPr/>
          <p:nvPr/>
        </p:nvSpPr>
        <p:spPr>
          <a:xfrm>
            <a:off x="762120" y="2408400"/>
            <a:ext cx="7848360" cy="36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Zástupný symbol pro obsah 2"/>
          <p:cNvSpPr/>
          <p:nvPr/>
        </p:nvSpPr>
        <p:spPr>
          <a:xfrm>
            <a:off x="762120" y="6477120"/>
            <a:ext cx="791820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 baseline="30000">
                <a:solidFill>
                  <a:srgbClr val="ffffff"/>
                </a:solidFill>
                <a:latin typeface="Futura T OT Book"/>
              </a:rPr>
              <a:t>Zobrazování vlastností obrazu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6" descr=""/>
          <p:cNvPicPr/>
          <p:nvPr/>
        </p:nvPicPr>
        <p:blipFill>
          <a:blip r:embed="rId1"/>
          <a:stretch/>
        </p:blipFill>
        <p:spPr>
          <a:xfrm>
            <a:off x="108000" y="1596960"/>
            <a:ext cx="8928000" cy="467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Zástupný symbol pro obsah 2"/>
          <p:cNvSpPr/>
          <p:nvPr/>
        </p:nvSpPr>
        <p:spPr>
          <a:xfrm>
            <a:off x="611280" y="5300640"/>
            <a:ext cx="79232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Zástupný symbol pro obsah 2"/>
          <p:cNvSpPr/>
          <p:nvPr/>
        </p:nvSpPr>
        <p:spPr>
          <a:xfrm>
            <a:off x="762120" y="6477120"/>
            <a:ext cx="791820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Nadpis 1"/>
          <p:cNvSpPr/>
          <p:nvPr/>
        </p:nvSpPr>
        <p:spPr>
          <a:xfrm>
            <a:off x="611280" y="249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46faf"/>
                </a:solidFill>
                <a:latin typeface="Futura T OT Demi"/>
              </a:rPr>
              <a:t>Děkujeme za pozornos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Zástupný symbol pro obsah 2"/>
          <p:cNvSpPr/>
          <p:nvPr/>
        </p:nvSpPr>
        <p:spPr>
          <a:xfrm>
            <a:off x="768240" y="6477120"/>
            <a:ext cx="791856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 baseline="30000">
                <a:solidFill>
                  <a:srgbClr val="ffffff"/>
                </a:solidFill>
                <a:latin typeface="Futura T OT Book"/>
              </a:rPr>
              <a:t>Zobrazování vlastností obrazu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30T09:54:55Z</dcterms:created>
  <dc:creator>bejcek</dc:creator>
  <dc:description/>
  <dc:language>en-US</dc:language>
  <cp:lastModifiedBy>Tomáš Hégr</cp:lastModifiedBy>
  <dcterms:modified xsi:type="dcterms:W3CDTF">2013-05-02T19:45:35Z</dcterms:modified>
  <cp:revision>120</cp:revision>
  <dc:subject/>
  <dc:title>První setkání koordinátorů projektů fakult a součástí</dc:title>
</cp:coreProperties>
</file>