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C90-4431-4E27-B243-D2F15437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682D-7D13-4845-92A7-C2C81E28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928-F5EE-4054-86B5-2D373EC2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F96-700C-4D3C-9E51-CF7E3269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944-1947-4DC8-9794-8087B3DE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D66-0D40-433F-9446-6DDEA970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F32-5F3F-430A-86DE-8BEEE93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A65-F0C1-4BEE-B0B1-7072E47A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B50-4F92-4187-BE61-659C838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218-4643-478B-9769-505975C6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321-A6DB-442A-86CB-5563EC0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2BD-93AE-4064-8AC5-89A0200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935-E23F-40A4-BE64-04DE723C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3B9-4482-4C96-8F4A-870DC40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3172-C565-476C-B67B-5F7CBF467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280" y="1066680"/>
            <a:ext cx="5410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BookMyDo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72428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  <a:ea typeface="Arial"/>
              </a:rPr>
              <a:t>Spartan Health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  <a:ea typeface="Arial"/>
              </a:rPr>
              <a:t>CmpE131 – Softwar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  <a:ea typeface="Arial"/>
              </a:rPr>
              <a:t>Guided by Prof. Frank L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6934320" y="407196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5"/>
          <p:cNvSpPr/>
          <p:nvPr/>
        </p:nvSpPr>
        <p:spPr>
          <a:xfrm>
            <a:off x="6553080" y="2895480"/>
            <a:ext cx="2210040" cy="11001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! I will be your guide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Learnt – 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lear with the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.I.S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“dangling”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ake” in a sequenc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 Everyth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h more than software de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2P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6934320" y="445284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ular Callout 5"/>
          <p:cNvSpPr/>
          <p:nvPr/>
        </p:nvSpPr>
        <p:spPr>
          <a:xfrm>
            <a:off x="6553080" y="3200400"/>
            <a:ext cx="2438640" cy="1176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 you kn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oney wasted in US for cancelled software projects is $63 bill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Minute Screen-c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al of the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Y:\My Dropbox\Dropbox\My Personal Documents\SEM 1\131\131Project\_Common\Images\breakup\1.PNG"/>
          <p:cNvPicPr/>
          <p:nvPr/>
        </p:nvPicPr>
        <p:blipFill>
          <a:blip r:embed="rId1"/>
          <a:stretch/>
        </p:blipFill>
        <p:spPr>
          <a:xfrm>
            <a:off x="652320" y="685800"/>
            <a:ext cx="6129360" cy="2819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Y:\My Dropbox\Dropbox\My Personal Documents\SEM 1\131\131Project\_Common\Images\breakup\2.PNG"/>
          <p:cNvPicPr/>
          <p:nvPr/>
        </p:nvPicPr>
        <p:blipFill>
          <a:blip r:embed="rId2"/>
          <a:stretch/>
        </p:blipFill>
        <p:spPr>
          <a:xfrm>
            <a:off x="685800" y="3733920"/>
            <a:ext cx="1523880" cy="293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Y:\My Dropbox\Dropbox\My Personal Documents\SEM 1\131\131Project\_Common\Images\breakup\4.PNG"/>
          <p:cNvPicPr/>
          <p:nvPr/>
        </p:nvPicPr>
        <p:blipFill>
          <a:blip r:embed="rId3"/>
          <a:stretch/>
        </p:blipFill>
        <p:spPr>
          <a:xfrm>
            <a:off x="2286000" y="3733920"/>
            <a:ext cx="1523880" cy="290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Y:\My Dropbox\Dropbox\My Personal Documents\SEM 1\131\131Project\_Common\Images\breakup\6.PNG"/>
          <p:cNvPicPr/>
          <p:nvPr/>
        </p:nvPicPr>
        <p:blipFill>
          <a:blip r:embed="rId4"/>
          <a:stretch/>
        </p:blipFill>
        <p:spPr>
          <a:xfrm>
            <a:off x="3886200" y="3735360"/>
            <a:ext cx="1523880" cy="2970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9"/>
          <p:cNvSpPr/>
          <p:nvPr/>
        </p:nvSpPr>
        <p:spPr>
          <a:xfrm>
            <a:off x="7086600" y="2590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22"/>
          <p:cNvCxnSpPr>
            <a:stCxn id="166" idx="0"/>
          </p:cNvCxnSpPr>
          <p:nvPr/>
        </p:nvCxnSpPr>
        <p:spPr>
          <a:xfrm flipH="1" flipV="1">
            <a:off x="6857280" y="1751760"/>
            <a:ext cx="1258200" cy="839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8" name="TextBox 26"/>
          <p:cNvSpPr/>
          <p:nvPr/>
        </p:nvSpPr>
        <p:spPr>
          <a:xfrm>
            <a:off x="6553080" y="4114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>
            <a:stCxn id="168" idx="2"/>
          </p:cNvCxnSpPr>
          <p:nvPr/>
        </p:nvCxnSpPr>
        <p:spPr>
          <a:xfrm flipH="1">
            <a:off x="5562360" y="4484160"/>
            <a:ext cx="2286720" cy="6217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70" name="Picture 4" descr="Y:\My Dropbox\Dropbox\My Personal Documents\SEM 1\131\131Project\_Common\BookMyDoc.png"/>
          <p:cNvPicPr/>
          <p:nvPr/>
        </p:nvPicPr>
        <p:blipFill>
          <a:blip r:embed="rId5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y Questions??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Y:\My Dropbox\Dropbox\My Personal Documents\SEM 1\272\272Project\Working Copy\aline_character.png"/>
          <p:cNvPicPr/>
          <p:nvPr/>
        </p:nvPicPr>
        <p:blipFill>
          <a:blip r:embed="rId1"/>
          <a:stretch/>
        </p:blipFill>
        <p:spPr>
          <a:xfrm>
            <a:off x="6629400" y="445284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173" name="Rounded Rectangular Callout 6"/>
          <p:cNvSpPr/>
          <p:nvPr/>
        </p:nvSpPr>
        <p:spPr>
          <a:xfrm>
            <a:off x="6095880" y="3200400"/>
            <a:ext cx="2438640" cy="1176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body is perfect! Anybody who is perfect has nothing more to achieve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2743200" y="3505320"/>
            <a:ext cx="1174680" cy="1490400"/>
          </a:xfrm>
          <a:prstGeom prst="rect">
            <a:avLst/>
          </a:prstGeom>
          <a:ln w="0">
            <a:noFill/>
          </a:ln>
        </p:spPr>
      </p:pic>
      <p:sp>
        <p:nvSpPr>
          <p:cNvPr id="176" name="Rounded Rectangular Callout 5"/>
          <p:cNvSpPr/>
          <p:nvPr/>
        </p:nvSpPr>
        <p:spPr>
          <a:xfrm>
            <a:off x="1828800" y="1219320"/>
            <a:ext cx="4267080" cy="2090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okMyDo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5257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sle free appoin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e to find convenient tim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perless medic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ine solution to patient qu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tibility with Google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6934320" y="449568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ular Callout 5"/>
          <p:cNvSpPr/>
          <p:nvPr/>
        </p:nvSpPr>
        <p:spPr>
          <a:xfrm>
            <a:off x="6553080" y="1447920"/>
            <a:ext cx="2210040" cy="297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 you kn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very 10-percent increase in problem complexity, there is a 100-percent increase in the softwar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533520" y="3809880"/>
            <a:ext cx="5257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Points in a Development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LC - Waterfa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atic, Disciplined &amp; Quantifiabl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 Analysis an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 an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te between Doctor and Pat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 appoin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medical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6934320" y="445284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ular Callout 6"/>
          <p:cNvSpPr/>
          <p:nvPr/>
        </p:nvSpPr>
        <p:spPr>
          <a:xfrm>
            <a:off x="6553080" y="2776680"/>
            <a:ext cx="2438640" cy="16002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 you kn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ne of the common causes of runaway projects is unstable requir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33520" y="2819520"/>
            <a:ext cx="6019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id we go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citation – brainstorming, requirement gat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 analysis –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from SJSU Health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SRS - Break into functional and non functional, Use cases, diagrams, valid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and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itecture – Object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– UML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bility Patt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Design – Class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havior Design – Sequence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–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– MySQ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– Apache Tomc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6934320" y="449568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5"/>
          <p:cNvSpPr/>
          <p:nvPr/>
        </p:nvSpPr>
        <p:spPr>
          <a:xfrm>
            <a:off x="6553080" y="2819520"/>
            <a:ext cx="2286000" cy="16002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 you kn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esigner 'primitives' rarely match programmer 'primitive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4"/>
          <p:cNvSpPr/>
          <p:nvPr/>
        </p:nvSpPr>
        <p:spPr>
          <a:xfrm>
            <a:off x="304920" y="1676520"/>
            <a:ext cx="2057400" cy="35812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280"/>
              <a:gd name="textAreaBottom" fmla="*/ 3480840 h 3581280"/>
            </a:gdLst>
            <a:ahLst/>
            <a:rect l="textAreaLeft" t="textAreaTop" r="textAreaRight" b="textAreaBottom"/>
            <a:pathLst>
              <a:path w="21600" h="37596">
                <a:moveTo>
                  <a:pt x="3600" y="0"/>
                </a:moveTo>
                <a:arcTo wR="3600" hR="3600" stAng="16200000" swAng="-5400000"/>
                <a:lnTo>
                  <a:pt x="0" y="33996"/>
                </a:lnTo>
                <a:arcTo wR="3600" hR="3600" stAng="10800000" swAng="-5400000"/>
                <a:lnTo>
                  <a:pt x="18000" y="37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5"/>
          <p:cNvSpPr/>
          <p:nvPr/>
        </p:nvSpPr>
        <p:spPr>
          <a:xfrm>
            <a:off x="3200400" y="2438280"/>
            <a:ext cx="990720" cy="20574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057400"/>
              <a:gd name="textAreaBottom" fmla="*/ 2009160 h 2057400"/>
            </a:gdLst>
            <a:ahLst/>
            <a:rect l="textAreaLeft" t="textAreaTop" r="textAreaRight" b="textAreaBottom"/>
            <a:pathLst>
              <a:path w="21600" h="44848">
                <a:moveTo>
                  <a:pt x="3600" y="0"/>
                </a:moveTo>
                <a:arcTo wR="3600" hR="3600" stAng="16200000" swAng="-5400000"/>
                <a:lnTo>
                  <a:pt x="0" y="41248"/>
                </a:lnTo>
                <a:arcTo wR="3600" hR="3600" stAng="10800000" swAng="-5400000"/>
                <a:lnTo>
                  <a:pt x="18000" y="44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let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6"/>
          <p:cNvSpPr/>
          <p:nvPr/>
        </p:nvSpPr>
        <p:spPr>
          <a:xfrm>
            <a:off x="4952880" y="1676520"/>
            <a:ext cx="1981440" cy="33526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3352680"/>
              <a:gd name="textAreaBottom" fmla="*/ 3256200 h 3352680"/>
            </a:gdLst>
            <a:ahLst/>
            <a:rect l="textAreaLeft" t="textAreaTop" r="textAreaRight" b="textAreaBottom"/>
            <a:pathLst>
              <a:path w="21600" h="36545">
                <a:moveTo>
                  <a:pt x="3600" y="0"/>
                </a:moveTo>
                <a:arcTo wR="3600" hR="3600" stAng="16200000" swAng="-5400000"/>
                <a:lnTo>
                  <a:pt x="0" y="32945"/>
                </a:lnTo>
                <a:arcTo wR="3600" hR="3600" stAng="10800000" swAng="-5400000"/>
                <a:lnTo>
                  <a:pt x="18000" y="36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8"/>
          <p:cNvSpPr/>
          <p:nvPr/>
        </p:nvSpPr>
        <p:spPr>
          <a:xfrm>
            <a:off x="2819520" y="1676520"/>
            <a:ext cx="0" cy="396216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9"/>
          <p:cNvSpPr/>
          <p:nvPr/>
        </p:nvSpPr>
        <p:spPr>
          <a:xfrm>
            <a:off x="4495680" y="1676520"/>
            <a:ext cx="0" cy="396216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45720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2895480" y="114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4952880" y="1154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762120" y="1828800"/>
            <a:ext cx="11430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_login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762120" y="251460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_register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762120" y="4648320"/>
            <a:ext cx="10666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9"/>
          <p:cNvSpPr/>
          <p:nvPr/>
        </p:nvSpPr>
        <p:spPr>
          <a:xfrm>
            <a:off x="1295280" y="3200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23"/>
          <p:cNvCxnSpPr>
            <a:stCxn id="79" idx="3"/>
            <a:endCxn id="72" idx="1"/>
          </p:cNvCxnSpPr>
          <p:nvPr/>
        </p:nvCxnSpPr>
        <p:spPr>
          <a:xfrm>
            <a:off x="1905120" y="2095560"/>
            <a:ext cx="129600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24"/>
          <p:cNvCxnSpPr>
            <a:stCxn id="80" idx="3"/>
            <a:endCxn id="72" idx="1"/>
          </p:cNvCxnSpPr>
          <p:nvPr/>
        </p:nvCxnSpPr>
        <p:spPr>
          <a:xfrm>
            <a:off x="1905120" y="2819160"/>
            <a:ext cx="1296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7"/>
          <p:cNvCxnSpPr>
            <a:stCxn id="81" idx="3"/>
            <a:endCxn id="72" idx="1"/>
          </p:cNvCxnSpPr>
          <p:nvPr/>
        </p:nvCxnSpPr>
        <p:spPr>
          <a:xfrm flipV="1">
            <a:off x="1828800" y="3466800"/>
            <a:ext cx="13723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31"/>
          <p:cNvCxnSpPr>
            <a:stCxn id="72" idx="3"/>
            <a:endCxn id="87" idx="1"/>
          </p:cNvCxnSpPr>
          <p:nvPr/>
        </p:nvCxnSpPr>
        <p:spPr>
          <a:xfrm flipV="1">
            <a:off x="4191120" y="2247120"/>
            <a:ext cx="12196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Rectangle 34"/>
          <p:cNvSpPr/>
          <p:nvPr/>
        </p:nvSpPr>
        <p:spPr>
          <a:xfrm>
            <a:off x="5410080" y="1981080"/>
            <a:ext cx="11430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5"/>
          <p:cNvSpPr/>
          <p:nvPr/>
        </p:nvSpPr>
        <p:spPr>
          <a:xfrm>
            <a:off x="54864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5410080" y="3200400"/>
            <a:ext cx="11430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7"/>
          <p:cNvSpPr/>
          <p:nvPr/>
        </p:nvSpPr>
        <p:spPr>
          <a:xfrm>
            <a:off x="5410080" y="28954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5410080" y="4419720"/>
            <a:ext cx="1143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o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9"/>
          <p:cNvSpPr/>
          <p:nvPr/>
        </p:nvSpPr>
        <p:spPr>
          <a:xfrm>
            <a:off x="52578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47"/>
          <p:cNvCxnSpPr>
            <a:stCxn id="72" idx="3"/>
            <a:endCxn id="89" idx="1"/>
          </p:cNvCxnSpPr>
          <p:nvPr/>
        </p:nvCxnSpPr>
        <p:spPr>
          <a:xfrm>
            <a:off x="4191120" y="3467160"/>
            <a:ext cx="1219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Straight Arrow Connector 48"/>
          <p:cNvCxnSpPr>
            <a:stCxn id="72" idx="3"/>
            <a:endCxn id="91" idx="1"/>
          </p:cNvCxnSpPr>
          <p:nvPr/>
        </p:nvCxnSpPr>
        <p:spPr>
          <a:xfrm>
            <a:off x="4191120" y="3466800"/>
            <a:ext cx="12196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Straight Connector 96"/>
          <p:cNvSpPr/>
          <p:nvPr/>
        </p:nvSpPr>
        <p:spPr>
          <a:xfrm>
            <a:off x="7238880" y="1676520"/>
            <a:ext cx="0" cy="396216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7"/>
          <p:cNvSpPr/>
          <p:nvPr/>
        </p:nvSpPr>
        <p:spPr>
          <a:xfrm>
            <a:off x="7620120" y="2438280"/>
            <a:ext cx="1218960" cy="20574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2057400"/>
              <a:gd name="textAreaBottom" fmla="*/ 1998000 h 2057400"/>
            </a:gdLst>
            <a:ahLst/>
            <a:rect l="textAreaLeft" t="textAreaTop" r="textAreaRight" b="textAreaBottom"/>
            <a:pathLst>
              <a:path w="21600" h="36453">
                <a:moveTo>
                  <a:pt x="3600" y="0"/>
                </a:moveTo>
                <a:arcTo wR="3600" hR="3600" stAng="16200000" swAng="-5400000"/>
                <a:lnTo>
                  <a:pt x="0" y="32853"/>
                </a:lnTo>
                <a:arcTo wR="3600" hR="3600" stAng="10800000" swAng="-5400000"/>
                <a:lnTo>
                  <a:pt x="18000" y="36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98"/>
          <p:cNvCxnSpPr>
            <a:stCxn id="87" idx="3"/>
            <a:endCxn id="96" idx="1"/>
          </p:cNvCxnSpPr>
          <p:nvPr/>
        </p:nvCxnSpPr>
        <p:spPr>
          <a:xfrm>
            <a:off x="6553080" y="2247480"/>
            <a:ext cx="10677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101"/>
          <p:cNvCxnSpPr>
            <a:stCxn id="91" idx="3"/>
            <a:endCxn id="96" idx="1"/>
          </p:cNvCxnSpPr>
          <p:nvPr/>
        </p:nvCxnSpPr>
        <p:spPr>
          <a:xfrm flipV="1">
            <a:off x="6553080" y="3466440"/>
            <a:ext cx="10677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Straight Arrow Connector 102"/>
          <p:cNvCxnSpPr>
            <a:stCxn id="89" idx="3"/>
            <a:endCxn id="96" idx="1"/>
          </p:cNvCxnSpPr>
          <p:nvPr/>
        </p:nvCxnSpPr>
        <p:spPr>
          <a:xfrm>
            <a:off x="6553080" y="3467160"/>
            <a:ext cx="106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7"/>
          <p:cNvSpPr/>
          <p:nvPr/>
        </p:nvSpPr>
        <p:spPr>
          <a:xfrm>
            <a:off x="7620120" y="1143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rved Up Arrow 111"/>
          <p:cNvSpPr/>
          <p:nvPr/>
        </p:nvSpPr>
        <p:spPr>
          <a:xfrm>
            <a:off x="1371600" y="5257800"/>
            <a:ext cx="2057400" cy="838080"/>
          </a:xfrm>
          <a:custGeom>
            <a:avLst/>
            <a:gdLst>
              <a:gd name="textAreaLeft" fmla="*/ 435600 w 2057400"/>
              <a:gd name="textAreaRight" fmla="*/ 1517040 w 2057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-3518215"/>
                <a:lnTo>
                  <a:pt x="21309" y="5400"/>
                </a:lnTo>
                <a:lnTo>
                  <a:pt x="19400" y="0"/>
                </a:lnTo>
                <a:lnTo>
                  <a:pt x="16909" y="5400"/>
                </a:lnTo>
                <a:lnTo>
                  <a:pt x="18009" y="5400"/>
                </a:lnTo>
                <a:arcTo wR="9150" hR="21600" stAng="1881785" swAng="3342020"/>
                <a:lnTo>
                  <a:pt x="10250" y="21443"/>
                </a:lnTo>
                <a:arcTo wR="9150" hR="21600" stAng="5576195" swAng="5223805"/>
                <a:close/>
              </a:path>
              <a:path fill="darkenLess"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176195"/>
                <a:lnTo>
                  <a:pt x="10250" y="21443"/>
                </a:lnTo>
                <a:arcTo wR="9150" hR="21600" stAng="5576195" swAng="522380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rved Up Arrow 112"/>
          <p:cNvSpPr/>
          <p:nvPr/>
        </p:nvSpPr>
        <p:spPr>
          <a:xfrm>
            <a:off x="3657600" y="5257800"/>
            <a:ext cx="1676520" cy="838080"/>
          </a:xfrm>
          <a:custGeom>
            <a:avLst/>
            <a:gdLst>
              <a:gd name="textAreaLeft" fmla="*/ 340560 w 1676520"/>
              <a:gd name="textAreaRight" fmla="*/ 1231200 w 167652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rved Up Arrow 113"/>
          <p:cNvSpPr/>
          <p:nvPr/>
        </p:nvSpPr>
        <p:spPr>
          <a:xfrm>
            <a:off x="6172200" y="5257800"/>
            <a:ext cx="1828800" cy="838080"/>
          </a:xfrm>
          <a:custGeom>
            <a:avLst/>
            <a:gdLst>
              <a:gd name="textAreaLeft" fmla="*/ 378360 w 1828800"/>
              <a:gd name="textAreaRight" fmla="*/ 1345680 w 18288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4" hR="21600" stAng="10800000" swAng="-5400000"/>
                <a:lnTo>
                  <a:pt x="11420" y="21600"/>
                </a:lnTo>
                <a:arcTo wR="8944" hR="21600" stAng="5400000" swAng="-3483160"/>
                <a:lnTo>
                  <a:pt x="21316" y="5400"/>
                </a:lnTo>
                <a:lnTo>
                  <a:pt x="19125" y="0"/>
                </a:lnTo>
                <a:lnTo>
                  <a:pt x="16366" y="5400"/>
                </a:lnTo>
                <a:lnTo>
                  <a:pt x="17603" y="5400"/>
                </a:lnTo>
                <a:arcTo wR="8944" hR="21600" stAng="1916840" swAng="3284432"/>
                <a:lnTo>
                  <a:pt x="10182" y="21392"/>
                </a:lnTo>
                <a:arcTo wR="8944" hR="21600" stAng="5598727" swAng="5201273"/>
                <a:close/>
              </a:path>
              <a:path fill="darkenLess" w="21600" h="21600">
                <a:moveTo>
                  <a:pt x="0" y="0"/>
                </a:moveTo>
                <a:arcTo wR="8944" hR="21600" stAng="10800000" swAng="-5400000"/>
                <a:lnTo>
                  <a:pt x="11420" y="21600"/>
                </a:lnTo>
                <a:arcTo wR="8944" hR="21600" stAng="5400000" swAng="198727"/>
                <a:lnTo>
                  <a:pt x="10182" y="21392"/>
                </a:lnTo>
                <a:arcTo wR="8944" hR="21600" stAng="5598727" swAng="520127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rved Up Arrow 115"/>
          <p:cNvSpPr/>
          <p:nvPr/>
        </p:nvSpPr>
        <p:spPr>
          <a:xfrm flipH="1">
            <a:off x="5562720" y="5943600"/>
            <a:ext cx="2743200" cy="838080"/>
          </a:xfrm>
          <a:custGeom>
            <a:avLst/>
            <a:gdLst>
              <a:gd name="textAreaLeft" fmla="*/ 606960 w 2743200"/>
              <a:gd name="textAreaRight" fmla="*/ 2031120 w 27432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63" hR="21600" stAng="10800000" swAng="-5400000"/>
                <a:lnTo>
                  <a:pt x="11213" y="21600"/>
                </a:lnTo>
                <a:arcTo wR="9563" hR="21600" stAng="5400000" swAng="-3584890"/>
                <a:lnTo>
                  <a:pt x="21296" y="5400"/>
                </a:lnTo>
                <a:lnTo>
                  <a:pt x="19950" y="0"/>
                </a:lnTo>
                <a:lnTo>
                  <a:pt x="17996" y="5400"/>
                </a:lnTo>
                <a:lnTo>
                  <a:pt x="18821" y="5400"/>
                </a:lnTo>
                <a:arcTo wR="9563" hR="21600" stAng="1815110" swAng="3453160"/>
                <a:lnTo>
                  <a:pt x="10388" y="21519"/>
                </a:lnTo>
                <a:arcTo wR="9563" hR="21600" stAng="5531730" swAng="5268270"/>
                <a:close/>
              </a:path>
              <a:path fill="darkenLess" w="21600" h="21600">
                <a:moveTo>
                  <a:pt x="0" y="0"/>
                </a:moveTo>
                <a:arcTo wR="9563" hR="21600" stAng="10800000" swAng="-5400000"/>
                <a:lnTo>
                  <a:pt x="11213" y="21600"/>
                </a:lnTo>
                <a:arcTo wR="9563" hR="21600" stAng="5400000" swAng="131730"/>
                <a:lnTo>
                  <a:pt x="10388" y="21519"/>
                </a:lnTo>
                <a:arcTo wR="9563" hR="21600" stAng="5531730" swAng="5268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rved Up Arrow 116"/>
          <p:cNvSpPr/>
          <p:nvPr/>
        </p:nvSpPr>
        <p:spPr>
          <a:xfrm flipH="1">
            <a:off x="990000" y="5943600"/>
            <a:ext cx="4267080" cy="838080"/>
          </a:xfrm>
          <a:custGeom>
            <a:avLst/>
            <a:gdLst>
              <a:gd name="textAreaLeft" fmla="*/ 987840 w 4267080"/>
              <a:gd name="textAreaRight" fmla="*/ 3173760 w 42670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05" hR="21600" stAng="10800000" swAng="-5400000"/>
                <a:lnTo>
                  <a:pt x="11066" y="21600"/>
                </a:lnTo>
                <a:arcTo wR="10005" hR="21600" stAng="5400000" swAng="-3651728"/>
                <a:lnTo>
                  <a:pt x="21282" y="5400"/>
                </a:lnTo>
                <a:lnTo>
                  <a:pt x="20540" y="0"/>
                </a:lnTo>
                <a:lnTo>
                  <a:pt x="19161" y="5400"/>
                </a:lnTo>
                <a:lnTo>
                  <a:pt x="19691" y="5400"/>
                </a:lnTo>
                <a:arcTo wR="10005" hR="21600" stAng="1748272" swAng="3567195"/>
                <a:lnTo>
                  <a:pt x="10535" y="21570"/>
                </a:lnTo>
                <a:arcTo wR="10005" hR="21600" stAng="5484534" swAng="5315466"/>
                <a:close/>
              </a:path>
              <a:path fill="darkenLess" w="21600" h="21600">
                <a:moveTo>
                  <a:pt x="0" y="0"/>
                </a:moveTo>
                <a:arcTo wR="10005" hR="21600" stAng="10800000" swAng="-5400000"/>
                <a:lnTo>
                  <a:pt x="11066" y="21600"/>
                </a:lnTo>
                <a:arcTo wR="10005" hR="21600" stAng="5400000" swAng="84534"/>
                <a:lnTo>
                  <a:pt x="10535" y="21570"/>
                </a:lnTo>
                <a:arcTo wR="10005" hR="21600" stAng="5484534" swAng="531546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0"/>
          <p:cNvSpPr/>
          <p:nvPr/>
        </p:nvSpPr>
        <p:spPr>
          <a:xfrm>
            <a:off x="2057400" y="57135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1"/>
          <p:cNvSpPr/>
          <p:nvPr/>
        </p:nvSpPr>
        <p:spPr>
          <a:xfrm>
            <a:off x="67816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2"/>
          <p:cNvSpPr/>
          <p:nvPr/>
        </p:nvSpPr>
        <p:spPr>
          <a:xfrm>
            <a:off x="6781680" y="64008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3"/>
          <p:cNvSpPr/>
          <p:nvPr/>
        </p:nvSpPr>
        <p:spPr>
          <a:xfrm>
            <a:off x="2895480" y="64008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4"/>
          <p:cNvSpPr/>
          <p:nvPr/>
        </p:nvSpPr>
        <p:spPr>
          <a:xfrm>
            <a:off x="4191120" y="57135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514600" y="3352680"/>
            <a:ext cx="15238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3352680"/>
            <a:ext cx="1524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724280" y="3352680"/>
            <a:ext cx="1524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oin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391520" y="3429000"/>
            <a:ext cx="15238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715000" y="1676520"/>
            <a:ext cx="15238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724280" y="5029200"/>
            <a:ext cx="1524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10"/>
          <p:cNvCxnSpPr>
            <a:stCxn id="111" idx="0"/>
            <a:endCxn id="115" idx="1"/>
          </p:cNvCxnSpPr>
          <p:nvPr/>
        </p:nvCxnSpPr>
        <p:spPr>
          <a:xfrm flipH="1" flipV="1" rot="5400000">
            <a:off x="3904200" y="1542600"/>
            <a:ext cx="11815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10"/>
          <p:cNvCxnSpPr>
            <a:stCxn id="112" idx="3"/>
            <a:endCxn id="111" idx="1"/>
          </p:cNvCxnSpPr>
          <p:nvPr/>
        </p:nvCxnSpPr>
        <p:spPr>
          <a:xfrm>
            <a:off x="1904760" y="3847680"/>
            <a:ext cx="6102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>
            <a:stCxn id="111" idx="2"/>
            <a:endCxn id="116" idx="1"/>
          </p:cNvCxnSpPr>
          <p:nvPr/>
        </p:nvCxnSpPr>
        <p:spPr>
          <a:xfrm flipH="1" rot="16200000">
            <a:off x="3408840" y="4209840"/>
            <a:ext cx="1181880" cy="1448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0"/>
          <p:cNvCxnSpPr>
            <a:stCxn id="112" idx="2"/>
            <a:endCxn id="116" idx="2"/>
          </p:cNvCxnSpPr>
          <p:nvPr/>
        </p:nvCxnSpPr>
        <p:spPr>
          <a:xfrm flipH="1" rot="16200000">
            <a:off x="2475000" y="3009600"/>
            <a:ext cx="1677240" cy="4343760"/>
          </a:xfrm>
          <a:prstGeom prst="bentConnector3">
            <a:avLst>
              <a:gd name="adj1" fmla="val 11363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0"/>
          <p:cNvCxnSpPr>
            <a:stCxn id="112" idx="0"/>
            <a:endCxn id="115" idx="0"/>
          </p:cNvCxnSpPr>
          <p:nvPr/>
        </p:nvCxnSpPr>
        <p:spPr>
          <a:xfrm flipH="1" flipV="1" rot="5400000">
            <a:off x="2970360" y="-152640"/>
            <a:ext cx="1676880" cy="5334480"/>
          </a:xfrm>
          <a:prstGeom prst="bentConnector3">
            <a:avLst>
              <a:gd name="adj1" fmla="val 11361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0"/>
          <p:cNvCxnSpPr>
            <a:stCxn id="113" idx="0"/>
            <a:endCxn id="115" idx="2"/>
          </p:cNvCxnSpPr>
          <p:nvPr/>
        </p:nvCxnSpPr>
        <p:spPr>
          <a:xfrm flipH="1" flipV="1" rot="5400000">
            <a:off x="5638680" y="2513880"/>
            <a:ext cx="68652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Straight Arrow Connector 10"/>
          <p:cNvCxnSpPr>
            <a:stCxn id="113" idx="2"/>
            <a:endCxn id="116" idx="0"/>
          </p:cNvCxnSpPr>
          <p:nvPr/>
        </p:nvCxnSpPr>
        <p:spPr>
          <a:xfrm rot="5400000">
            <a:off x="5142960" y="4686120"/>
            <a:ext cx="68652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Straight Arrow Connector 10"/>
          <p:cNvCxnSpPr>
            <a:stCxn id="113" idx="1"/>
            <a:endCxn id="111" idx="3"/>
          </p:cNvCxnSpPr>
          <p:nvPr/>
        </p:nvCxnSpPr>
        <p:spPr>
          <a:xfrm rot="10800000">
            <a:off x="4037760" y="3847320"/>
            <a:ext cx="6865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10"/>
          <p:cNvCxnSpPr>
            <a:stCxn id="114" idx="0"/>
            <a:endCxn id="115" idx="3"/>
          </p:cNvCxnSpPr>
          <p:nvPr/>
        </p:nvCxnSpPr>
        <p:spPr>
          <a:xfrm flipV="1" rot="16200000">
            <a:off x="7067160" y="2342520"/>
            <a:ext cx="125784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10"/>
          <p:cNvCxnSpPr>
            <a:stCxn id="114" idx="2"/>
            <a:endCxn id="116" idx="3"/>
          </p:cNvCxnSpPr>
          <p:nvPr/>
        </p:nvCxnSpPr>
        <p:spPr>
          <a:xfrm rot="5400000">
            <a:off x="6647760" y="4019400"/>
            <a:ext cx="1105560" cy="1905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bility Pattern – BookMyD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bility Pattern – E.g. BookMySh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2514600" y="3352680"/>
            <a:ext cx="15238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380880" y="3352680"/>
            <a:ext cx="1524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724280" y="3352680"/>
            <a:ext cx="1524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oin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7391520" y="3429000"/>
            <a:ext cx="15238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5715000" y="1676520"/>
            <a:ext cx="15238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4724280" y="5029200"/>
            <a:ext cx="1524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10"/>
          <p:cNvCxnSpPr>
            <a:stCxn id="129" idx="0"/>
            <a:endCxn id="133" idx="1"/>
          </p:cNvCxnSpPr>
          <p:nvPr/>
        </p:nvCxnSpPr>
        <p:spPr>
          <a:xfrm flipH="1" flipV="1" rot="5400000">
            <a:off x="3904200" y="1542600"/>
            <a:ext cx="11815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>
            <a:stCxn id="130" idx="3"/>
            <a:endCxn id="129" idx="1"/>
          </p:cNvCxnSpPr>
          <p:nvPr/>
        </p:nvCxnSpPr>
        <p:spPr>
          <a:xfrm>
            <a:off x="1904760" y="3847680"/>
            <a:ext cx="6102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Straight Arrow Connector 10"/>
          <p:cNvCxnSpPr>
            <a:stCxn id="129" idx="2"/>
            <a:endCxn id="134" idx="1"/>
          </p:cNvCxnSpPr>
          <p:nvPr/>
        </p:nvCxnSpPr>
        <p:spPr>
          <a:xfrm flipH="1" rot="16200000">
            <a:off x="3408840" y="4209840"/>
            <a:ext cx="1181880" cy="1448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Straight Arrow Connector 10"/>
          <p:cNvCxnSpPr>
            <a:stCxn id="130" idx="2"/>
            <a:endCxn id="134" idx="2"/>
          </p:cNvCxnSpPr>
          <p:nvPr/>
        </p:nvCxnSpPr>
        <p:spPr>
          <a:xfrm flipH="1" rot="16200000">
            <a:off x="2475000" y="3009600"/>
            <a:ext cx="1677240" cy="4343760"/>
          </a:xfrm>
          <a:prstGeom prst="bentConnector3">
            <a:avLst>
              <a:gd name="adj1" fmla="val 11363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10"/>
          <p:cNvCxnSpPr>
            <a:stCxn id="130" idx="0"/>
            <a:endCxn id="133" idx="0"/>
          </p:cNvCxnSpPr>
          <p:nvPr/>
        </p:nvCxnSpPr>
        <p:spPr>
          <a:xfrm flipH="1" flipV="1" rot="5400000">
            <a:off x="2970360" y="-152640"/>
            <a:ext cx="1676880" cy="5334480"/>
          </a:xfrm>
          <a:prstGeom prst="bentConnector3">
            <a:avLst>
              <a:gd name="adj1" fmla="val 11361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10"/>
          <p:cNvCxnSpPr>
            <a:stCxn id="131" idx="0"/>
            <a:endCxn id="133" idx="2"/>
          </p:cNvCxnSpPr>
          <p:nvPr/>
        </p:nvCxnSpPr>
        <p:spPr>
          <a:xfrm flipH="1" flipV="1" rot="5400000">
            <a:off x="5638680" y="2513880"/>
            <a:ext cx="68652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Straight Arrow Connector 10"/>
          <p:cNvCxnSpPr>
            <a:stCxn id="131" idx="2"/>
            <a:endCxn id="134" idx="0"/>
          </p:cNvCxnSpPr>
          <p:nvPr/>
        </p:nvCxnSpPr>
        <p:spPr>
          <a:xfrm rot="5400000">
            <a:off x="5142960" y="4686120"/>
            <a:ext cx="68652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traight Arrow Connector 10"/>
          <p:cNvCxnSpPr>
            <a:stCxn id="131" idx="1"/>
            <a:endCxn id="129" idx="3"/>
          </p:cNvCxnSpPr>
          <p:nvPr/>
        </p:nvCxnSpPr>
        <p:spPr>
          <a:xfrm rot="10800000">
            <a:off x="4037760" y="3847320"/>
            <a:ext cx="6865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Straight Arrow Connector 10"/>
          <p:cNvCxnSpPr>
            <a:stCxn id="132" idx="0"/>
            <a:endCxn id="133" idx="3"/>
          </p:cNvCxnSpPr>
          <p:nvPr/>
        </p:nvCxnSpPr>
        <p:spPr>
          <a:xfrm flipV="1" rot="16200000">
            <a:off x="7067160" y="2342520"/>
            <a:ext cx="125784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Straight Arrow Connector 10"/>
          <p:cNvCxnSpPr>
            <a:stCxn id="132" idx="2"/>
            <a:endCxn id="134" idx="3"/>
          </p:cNvCxnSpPr>
          <p:nvPr/>
        </p:nvCxnSpPr>
        <p:spPr>
          <a:xfrm rot="5400000">
            <a:off x="6647760" y="4019400"/>
            <a:ext cx="1105560" cy="1905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s of the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Software Re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VC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ility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ss on intuitive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collaboration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ed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Y:\My Dropbox\Dropbox\My Personal Documents\SEM 1\131\131Project\_Common\BookMyDoc.png"/>
          <p:cNvPicPr/>
          <p:nvPr/>
        </p:nvPicPr>
        <p:blipFill>
          <a:blip r:embed="rId1"/>
          <a:stretch/>
        </p:blipFill>
        <p:spPr>
          <a:xfrm>
            <a:off x="7238880" y="6477120"/>
            <a:ext cx="1852560" cy="380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Y:\My Dropbox\Dropbox\My Personal Documents\SEM 1\272\272Project\Working Copy\aline_character.png"/>
          <p:cNvPicPr/>
          <p:nvPr/>
        </p:nvPicPr>
        <p:blipFill>
          <a:blip r:embed="rId2"/>
          <a:stretch/>
        </p:blipFill>
        <p:spPr>
          <a:xfrm>
            <a:off x="6934320" y="445284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149" name="Rounded Rectangular Callout 7"/>
          <p:cNvSpPr/>
          <p:nvPr/>
        </p:nvSpPr>
        <p:spPr>
          <a:xfrm>
            <a:off x="6553080" y="3200400"/>
            <a:ext cx="2438640" cy="1176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 you kn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Reusable components are three times as hard to bu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emen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Google Healt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normalized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ility pattern can be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testing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Y:\My Dropbox\Dropbox\My Personal Documents\SEM 1\272\272Project\Working Copy\aline_character.png"/>
          <p:cNvPicPr/>
          <p:nvPr/>
        </p:nvPicPr>
        <p:blipFill>
          <a:blip r:embed="rId1"/>
          <a:stretch/>
        </p:blipFill>
        <p:spPr>
          <a:xfrm>
            <a:off x="6934320" y="4452840"/>
            <a:ext cx="1174680" cy="14907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ular Callout 4"/>
          <p:cNvSpPr/>
          <p:nvPr/>
        </p:nvSpPr>
        <p:spPr>
          <a:xfrm>
            <a:off x="6553080" y="2666880"/>
            <a:ext cx="2438640" cy="1710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d you kn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fficiency is more often a matter of good design than of goo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2:24:48Z</dcterms:created>
  <dc:creator>Utkarsh Sengar</dc:creator>
  <dc:description/>
  <dc:language>en-US</dc:language>
  <cp:lastModifiedBy>MridulB</cp:lastModifiedBy>
  <dcterms:modified xsi:type="dcterms:W3CDTF">2009-12-03T18:32:51Z</dcterms:modified>
  <cp:revision>248</cp:revision>
  <dc:subject/>
  <dc:title>Slide 1</dc:title>
</cp:coreProperties>
</file>