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BE8-9D9B-41E6-98CE-3718504A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36A-8AA6-4B71-A3FA-3091138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39D-12EE-4001-9F83-314999D7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FEE-C142-4034-A9FF-8E5D6857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201-484A-4E05-BD06-E1A7B5C3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13F-9423-406D-890A-D8DC0E36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C2C-C43B-4E35-A455-016C129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EA1-F0C9-4860-967B-1819E427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AF8-2C7E-4D55-BA65-9BB5D6DD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CA7-CE0A-41F0-8588-B68286F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10B-C407-4972-B8B0-16F793A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3BF-100B-449C-8652-FDC62DA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05A-552E-46C1-91D8-D9175204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 &amp;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04920"/>
            <a:ext cx="817236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Objects and Databas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in-memory object houses one record’s worth of da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67000" y="3781440"/>
            <a:ext cx="3800520" cy="628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76520" y="2895480"/>
            <a:ext cx="5543280" cy="2381400"/>
          </a:xfrm>
          <a:prstGeom prst="cloudCallout">
            <a:avLst>
              <a:gd name="adj1" fmla="val -92412"/>
              <a:gd name="adj2" fmla="val 295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 other ‘oddity’ with respect to constructors, as compared with other methods, is that invoking them does not involve dot not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essor p = new Professor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s because we are not requesting a service of a particular object, but rather are requesting that a new object be crafted from ‘thin air’ by the programming environ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an be THOUGHT OF as:  Professor p = Professor.Professor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Default C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42884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don't explicitly declare any constructor for a class, Java provides a default "no args" constructor for us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udent s = new Student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need to do something special when an object is created, we may override this method signature explicitl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xplicitly override the default constructo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dent(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o whatever special processing that we dee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necessary to construct a Stud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981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Default Constructor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04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invent any constructors of our own, 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lo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he default "no args" construc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// Constructo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public Person(String 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// Default constructor is LOST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case, we can no longer do the following in client cod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0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0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p = new Person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Default Constructor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04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want a "no args" constructor, we must explicitly add one bac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String 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public Person(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name = "?"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generally a good practice, for reasons that we'll see in a mo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5256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Reusing Constructo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3" marL="1216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can reuse the code of one constructor  from within another constructor in the same class vi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his(...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avoid code dupl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tributes omitted - see earlier exampl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structor #1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(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"?"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n = "?"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jor = "TBD"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5345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lvl="3" marL="1104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can reuse the code of one constructor  from within another constructor in the same class via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(...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avoid code dupl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1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126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tributes omitted - see earlier exampl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structor #1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 "?"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sn = "?"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major = "TBD"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structor #2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(String s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; // perform code of Studen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n = s;  // whatever extra logic makes sen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8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1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24000" y="304920"/>
            <a:ext cx="8572320" cy="95256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Reusing Constructor Cod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5429160"/>
            <a:ext cx="95040" cy="9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10120" y="4324320"/>
            <a:ext cx="95400" cy="9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6"/>
          </p:cNvCxnSpPr>
          <p:nvPr/>
        </p:nvCxnSpPr>
        <p:spPr>
          <a:xfrm flipV="1" rot="16200000">
            <a:off x="5033160" y="4442760"/>
            <a:ext cx="1072440" cy="929160"/>
          </a:xfrm>
          <a:prstGeom prst="curvedConnector2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381560" y="4038480"/>
            <a:ext cx="571320" cy="648000"/>
          </a:xfrm>
          <a:custGeom>
            <a:avLst/>
            <a:gdLst>
              <a:gd name="textAreaLeft" fmla="*/ 0 w 571320"/>
              <a:gd name="textAreaRight" fmla="*/ 206280 w 5713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5345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3" marL="131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(Repeated from previous slide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structor #2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String 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)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n = s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Constructor #3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(String n, String s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s)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perform code of Studen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String 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erhaps some extra steps 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24000" y="304920"/>
            <a:ext cx="8572320" cy="95256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Reusing Constructor Cod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753000"/>
            <a:ext cx="95400" cy="9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52920" y="2647800"/>
            <a:ext cx="95400" cy="9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91" idx="1"/>
            <a:endCxn id="92" idx="6"/>
          </p:cNvCxnSpPr>
          <p:nvPr/>
        </p:nvCxnSpPr>
        <p:spPr>
          <a:xfrm flipV="1" rot="16200000">
            <a:off x="5224320" y="2118600"/>
            <a:ext cx="1072080" cy="2224800"/>
          </a:xfrm>
          <a:prstGeom prst="curvedConnector2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3733920" y="2495520"/>
            <a:ext cx="571320" cy="438120"/>
          </a:xfrm>
          <a:custGeom>
            <a:avLst/>
            <a:gdLst>
              <a:gd name="textAreaLeft" fmla="*/ 0 w 571320"/>
              <a:gd name="textAreaRight" fmla="*/ 206280 w 571320"/>
              <a:gd name="textAreaTop" fmla="*/ 11160 h 438120"/>
              <a:gd name="textAreaBottom" fmla="*/ 42696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5345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3" marL="131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(Repeated from previous slide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structor #2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String 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)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n = s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Constructor #3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udent(String n, Strin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x)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perform code of Studen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(String 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erhaps some extra steps 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24000" y="304920"/>
            <a:ext cx="8572320" cy="95256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eusing Constructor Cod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3753000"/>
            <a:ext cx="95400" cy="9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2920" y="2647800"/>
            <a:ext cx="95400" cy="9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7" idx="1"/>
            <a:endCxn id="98" idx="6"/>
          </p:cNvCxnSpPr>
          <p:nvPr/>
        </p:nvCxnSpPr>
        <p:spPr>
          <a:xfrm flipV="1" rot="16200000">
            <a:off x="5224320" y="2118600"/>
            <a:ext cx="1072080" cy="2224800"/>
          </a:xfrm>
          <a:prstGeom prst="curvedConnector2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733920" y="2495520"/>
            <a:ext cx="571320" cy="438120"/>
          </a:xfrm>
          <a:custGeom>
            <a:avLst/>
            <a:gdLst>
              <a:gd name="textAreaLeft" fmla="*/ 0 w 571320"/>
              <a:gd name="textAreaRight" fmla="*/ 206280 w 571320"/>
              <a:gd name="textAreaTop" fmla="*/ 11160 h 438120"/>
              <a:gd name="textAreaBottom" fmla="*/ 42696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are number of complicating factors that we need to be aware of with respect to constructors whenever we are working with an inheritance hierarch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we talked about instantiating objects, you may have been curious about the interesting syntax involved with the ‘new’ operato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udent x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are there parentheses tacked onto the end of the statement?  We are actually invoking a special type of method called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constructor literally constructs (instantiates) a brand new object by allocating enough program memory to house the object’s attribut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tor #1:  Constructors are not inherited as other methods a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we write a constructor for Person that takes a single String argument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ublic Person(String 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lient cod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erson p = new Person("Joe"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rue that the same constructor signature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automaticall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be available for a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Per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udent extends Person { … 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lient code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p = new Person("Joe"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udent s = new Student("Fred");  // NOT AUTOMATIC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1240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305920" cy="8953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'd hav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explicitl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ogram a constructor with that same signature in the subclass if we wanted such a constructor signature available to the subcla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String 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ublic Student(String 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305920" cy="8953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we want to reuse a parent's constructor within a subclass constructor, we employ the same "super" keyword that we learned about earlier, but with a different syntax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484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String 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ublic Student(String x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super(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reusing parent constructo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with same arg. signatu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828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4915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343040" y="3352680"/>
            <a:ext cx="399960" cy="175284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64160" y="36180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(match argument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305920" cy="8953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76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address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String n, String a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ress = a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String 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studentI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ublic Student(String x, String i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super(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studentId = i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781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962160" y="3733920"/>
            <a:ext cx="895320" cy="175248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64160" y="432288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(match argument signa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305920" cy="8953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76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final exampl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160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 String address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String n, String 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ress = a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erson(String 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ts val="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studentI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ublic Student(String x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super(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x, "?"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studentId = "?"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71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343040" y="2895480"/>
            <a:ext cx="819000" cy="228600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#2:  whenever a constructor for a subclass is called, constructor(s) for all of its ancestor class(es) are also called -- either explicitly, or by default -- in top-to-bottom o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s in keeping with the "is a" nature of inheri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example, if Student is a subclass of Person, then whenever we call the constructor for a Student, the constructor for a Person also comes into play, because a Student is bo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31436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se #1:  We've written no explicit constructors for either the Person or the Student class, and call the default Student constru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is case, the default Student constructor automatically calls the default Person constructor as its first step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7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se #2:  we've written an explicit constructor for Stu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ajor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dent(String n, String m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Although we don't see it in the code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the first thing that happens in thi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constructor is an 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Courier New"/>
              </a:rPr>
              <a:t>implied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 call to th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default Person constructo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jor = m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902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se #2:  we've written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explici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structor for Stu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ajor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dent(String n, String m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Although it would be unnecessary t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do so, we could 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Courier New"/>
              </a:rPr>
              <a:t>explicitly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 insert th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following line of code to accomplis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the same step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uper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jor = m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63836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yntax of a constructor signature is a bit different from other method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253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c00253"/>
                </a:solidFill>
                <a:latin typeface="Courier New"/>
              </a:rPr>
              <a:t> </a:t>
            </a:r>
            <a:r>
              <a:rPr b="0" lang="en-US" sz="1600" spc="-1" strike="noStrike" u="sng">
                <a:solidFill>
                  <a:srgbClr val="c00253"/>
                </a:solidFill>
                <a:uFillTx/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ude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urier New"/>
              </a:rPr>
              <a:t>String id, String nam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BE Regular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496440" y="4351320"/>
            <a:ext cx="187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253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253"/>
                </a:solidFill>
                <a:latin typeface="Comic Sans MS"/>
              </a:rPr>
              <a:t>return typ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253"/>
                </a:solidFill>
                <a:latin typeface="Comic Sans MS"/>
              </a:rPr>
              <a:t>(impl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2680" y="4351320"/>
            <a:ext cx="22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CHE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4351320"/>
            <a:ext cx="37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tional argument list (may be empty ( 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619600" y="3562200"/>
            <a:ext cx="457200" cy="743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448080" y="3600360"/>
            <a:ext cx="11412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3580920"/>
            <a:ext cx="838440" cy="685800"/>
          </a:xfrm>
          <a:prstGeom prst="line">
            <a:avLst/>
          </a:prstGeom>
          <a:ln w="57240">
            <a:solidFill>
              <a:srgbClr val="c002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400" y="140976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default constructor for a superclass will always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mplicitl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alled as the first line of a subclass's constructor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dent(String n, String m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super();  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&lt;-- automatically impli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 = 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jor = m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less 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explic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all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version of the parent's constructor to accomplish code reuse (must b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ine of cod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dent(String n, String u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super(n);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sume Person(String n) in Pers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graduateMajor = u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4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6760" y="1409760"/>
            <a:ext cx="83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ither way, a Person constructor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be called as the first step in constructing a Stu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re is no getting around this, nor should w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wan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o circumvent this language featur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s phenomenon can nonetheless cause us some probl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sume we have written the following co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erson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tected String name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// Constructo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public Person(String n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name = n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// THE "NO-ARGS" CONSTRUCTOR IS LOST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udent extends Person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id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// NO EXPLICIT CONSTRUCTOR PROVIDE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0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4476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'll have a problem when we try to construct a Studen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2904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tudent class's "no args" constructor will automatically try to invoke the "no args" constructor for a Person firs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which doesn't exist in this ca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'll get the following (somewhat cryptic) compilation error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nnot resolve symbol:  constructor Person(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ation:  class Pers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Student extends Pers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can we get around this problem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creating an inheritance hierarchy, eith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 recommended earlier, ensure that a "no-args" constructor is available for every class in the hierarch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is is the preferred approach, unless it is impossible to initialize a “meaningful” object when no arguments are passed i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e explicit constructors for all classes in the hierarchy, and use only those -- never rely on the default "no-args" construc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inheritance involves more than one parent for a given subcl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17840" y="2765520"/>
            <a:ext cx="44798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ultiple Inheritanc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emed problemat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biguity with respect to inheriting conflicting features of multiple par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hibited in Jav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va interfaces provide a work-a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hree Features of an OOP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Programmer creation of) Abstract Data Types (ADT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Baskerville BE Regula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43040"/>
            <a:ext cx="7772400" cy="18288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bject Collections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What are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04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collection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a special type of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d to gather up references to other objects as they are created so that we can manage/operate on them collectively and/or individual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lement one-to-many relationshi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Professor object may wish to step through all Student objects registered for a particular Course to compute their grad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Student Registration System may need to step through all of the Course objects to determine which are subject to cancel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rgument list of a constructor may be used to specify which attributes you want to initialize, if any, at the time that an object is being instantia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stead of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setName("Fred Schnurd"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setSsn("123-45-6789"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setMajor("MATH"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e hav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Student s = new Student("Fred Schnurd"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"123-45-6789", "MATH"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43200" y="4572000"/>
            <a:ext cx="3541680" cy="2654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llections of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67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 some languages (e.g., C++), we actually do physically place the objects themselves into a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 Java, however, we are in actuality storing object references in the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19320" y="2519280"/>
            <a:ext cx="3181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llections a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ke any other object, a collection must be instantiated before it is us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ctor v;  // insufficient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 = new Vector();  // empty "egg carton" created!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ctions are defined by classes that specify methods for ‘getting’ and ‘setting’ their cont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Create a few Student objects and store them in the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collect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udent a = new Student(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add(a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or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add(new Student()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ter in the application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Retrieve a handle on the first Stud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udent someStudent = (Student) v.elementAt(0)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llections as Object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1360" y="133344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rtually all collections provide methods for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ding objects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moving objec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trieving specific individual objec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erating through the objects in some predetermined or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tting a count of the number of objects in the coll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swering true/false questions as to whether a particular   object is in the collection or no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* "objects" throughout is short for "object references"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Arrays as Simple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container of cells for holding like-typed things (ints, chars, references to Student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Java syntax for declaring and using arrays deviates from "typical" object syntax, to make arrays look more like arrays in non-OO languag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va arrays are declared in one of two way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datatyp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 ] 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nam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;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int[] x;    Student[] y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atatyp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 ]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[];    Student y[]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rray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stantiated via the 'new' operato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[] y = new Student[20]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though this doesn't look like a typical constructor invocation, we are indeed invoking the Array class construc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determine an array's size when we instantiate it, not when it is declar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rray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ents of an array are initialized to their zero-equivalent values when the array is instantia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led with</a:t>
            </a:r>
            <a:r>
              <a:rPr b="0" lang="en-US" sz="2000" spc="-1" strike="noStrike">
                <a:solidFill>
                  <a:srgbClr val="000000"/>
                </a:solidFill>
                <a:latin typeface="Baskerville BE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[]</a:t>
            </a:r>
            <a:r>
              <a:rPr b="0" lang="en-US" sz="2000" spc="-1" strike="noStrike">
                <a:solidFill>
                  <a:srgbClr val="000000"/>
                </a:solidFill>
                <a:latin typeface="Baskerville BE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led with</a:t>
            </a:r>
            <a:r>
              <a:rPr b="0" lang="en-US" sz="2000" spc="-1" strike="noStrike">
                <a:solidFill>
                  <a:srgbClr val="000000"/>
                </a:solidFill>
                <a:latin typeface="Baskerville BE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ff the array with referen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[] studentBody = new Student[20]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Body[0] = s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Reuse s!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 = new Student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Body[1] = s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rray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89280" y="1393920"/>
            <a:ext cx="5357520" cy="401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95960" y="546732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rray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65280" y="1413000"/>
            <a:ext cx="5611680" cy="4206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81520" y="5619600"/>
            <a:ext cx="3701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Body[0] =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rray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98800" y="1508040"/>
            <a:ext cx="5273640" cy="3954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62320" y="56008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 = new Stude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Array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erating through an array also involves somewhat odd-looking syntax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udentBody.lengt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++) {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ccess the '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 element of the array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udentBody[i].getNam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e leng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ngth = number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whether empty or no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e message pass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an array cell is empty (null), a NullPointerException arises ("landmine"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we'll see a workaround for this on the next slide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ody of the constructor would then look as follow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ssn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ajor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public Student(String n, String s, String m)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name = n; // or:  name = new String(n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ssn = s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major = m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Array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42884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are several problems with using an array to hold a collection of objec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-217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ce sized, a ‘classic’ array cannot typically be expan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-217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 is often hard to predict in advance the number of objects that a collection will need to hol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-217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ndmine’ issues if an array isn't full (we can test for these, howev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studentBody.length; i++) {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if (studentBody[i] != null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tudentBody[i].getName()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64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2762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ore Sophisticated Collec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99800"/>
            <a:ext cx="8534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dered List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ilar to an array, in that order is preserved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ze does not have to be specified at the time that the collection object is first cre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 automatically grow in size as new items are added (true of virtually all collections besides array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03400" y="936720"/>
            <a:ext cx="6080040" cy="4559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2840" y="1420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 "landmines"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except when 100% empty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RS example:  manage a wait list for a course that has become fu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Georgia"/>
              </a:rPr>
              <a:t>SimPol examples???</a:t>
            </a:r>
            <a:r>
              <a:rPr b="0" lang="en-US" sz="2000" spc="-1" strike="noStrike">
                <a:solidFill>
                  <a:srgbClr val="cc3300"/>
                </a:solidFill>
                <a:latin typeface="Baskerville BE Regular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ore Typ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Java-Specific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va has numerous built in collection classes that represent ordered lists:  Vector, ArrayList, LinkedList, Stac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'll use the Vector class in our SimPol exerci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'll talk about this class in a bit more depth short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2954160"/>
            <a:ext cx="6019920" cy="4513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ore Typ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581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ctionary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ore each object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ferenc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ong with a unique retrieval key (typically based on attribute valu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trieve directly by key, or iterate through in key ord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ore Typ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RS example:  a dictionary, indexed on a unique combination of course number plus section number, to manage its semester schedu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Georgia"/>
              </a:rPr>
              <a:t>SimPol examples??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7728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Java-Specific Collection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va has numerous built in collections that implement dictionaries:  Hashtable, TreeMap, Hashmap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Hashtable class is used in the SRS code example associated with this b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ore Typ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467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 unordered collection (like an assortment of differently colored marbles in a sack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e can reach into the sack to pull the marbles out one by one, but the order with which we pull them out is non-deterministic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e can step through the entire set to perform some operation on each object, but can’t guarantee in what order the objects will be processed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e can perform tests to determine whether a given specific object has been previously added to a set or no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38240" y="2233440"/>
            <a:ext cx="4981680" cy="3140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ore Typ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42884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 Set doesn't allow duplicates, whereas most other collection types do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S example:  Biology Department major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SimPol examples??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7728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Java-Specific Collection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va has several built in collections that implement sets:  HashSet, TreeSet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may actually write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onstructors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lass which ta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ifferin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numbers of argu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sn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public Student(String n, String s, String m) {…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public Student(String n, String s) {…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public Student(String s) {…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09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exampl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verloa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hoosing a Collec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4296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ctions are encapsulated, and hence take full advantage of information hi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don’t need to know the private details of how object references are stored internally to a collec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only need to know a collection’s public behaviors    in order to choose an appropriate collection type for a particular situation and to use it effective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45480" cy="520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3525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Objects May Coexist i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Multiple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"/>
          <p:cNvSpPr/>
          <p:nvPr/>
        </p:nvSpPr>
        <p:spPr>
          <a:xfrm>
            <a:off x="1603800" y="634032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Each object only instantiated once!!!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67760" cy="13525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aining a Collection'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tent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8288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va collection types other than Arrays don’t allow you to specify what type of object they will hold when you declare them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rtually all built-in Java collections are designed to hold objects of type Object, the "mother of all classes"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Vectors hold generic Object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tor v = new Vector();  // No type designated!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ith arrays, we DO specify a typ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[] s = new Student[100];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67760" cy="13525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aining a Collection'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tent Typ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, we can pretty much put whatever type of object we wish into a collection, because every Java object is descended from Object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is important that programmer know what the intended (super)type for a collection is going to be, so that only objects of the proper type are inserted in the collec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ector v = new Vector(); // of Stud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s will be important when you subsequently attempt to iterate through and process all of the objects in a collec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67760" cy="135252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Retrieving Objects from a Jav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jects ‘ remember’ their types when inserted into a collection, but are treated as generic Objects by the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have to assure the compiler of their type when pulling them back out (by casting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 v = new Vector(); // of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1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2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Insert the Student objects …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add(s1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add(s2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Iterate through the collection ..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v.siz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; i++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(Student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.elementAt(i);  // cas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4572000"/>
            <a:ext cx="1771560" cy="1295280"/>
          </a:xfrm>
          <a:prstGeom prst="line">
            <a:avLst/>
          </a:prstGeom>
          <a:ln w="57240">
            <a:solidFill>
              <a:srgbClr val="c0025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58480" y="395136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e:  siz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 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ngth ATTR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llections of Super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create a collection intended to hold objects of a given type – e.g., Person – then it makes perfect sense to insert a mixture of objects of type Person or of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ubtyp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s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s is by virtue of the ‘is a’ nature of inherit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llections of Super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495360" y="1562040"/>
            <a:ext cx="963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 srsUsers = new Vector();  // of Person objec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fessor p = new Professor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dergraduateStudent s1 = new Undergraduate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duateStudent s2 = new Graduate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dd a mixture of professors and students; all have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Person as a common supertyp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sUsers.add(s1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sUsers.add(p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sUsers.add(s2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llections of Super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we iterate through a collection that contains a mixture of object types, we must cast to a common supertype - usually, but not always, the one furthest down on the inheritance hierar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terate through the collection ..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srsUsers.siz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; i++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p =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(Perso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rsUsers.elementAt(i);  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// ca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o things with p ..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ll revisit the reasons for this when we talk about polymorphism later 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334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Java-Specific Collections:  the Vecto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efines many interesting behavior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d(Object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– adds an object reference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automatically expanding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f need be to accommodate the reference (note that it can be a reference to any type of object, as they are all descended from the Java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d(int, Object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– adds the specified object reference to the position in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ndicated by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rgument (where counting starts with 0, as in an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, shifting everything in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over by one location to accommodate the new ite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The Vector Clas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48572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(int, Objec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replaces the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bject reference with the specified object referenc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mentAt(in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retrieves the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bject reference as typ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a cast is needed to ‘restore’ the object reference’s ‘true identity’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veElementAt(in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akes out the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ference and ‘closes up’/’collapses’ the resultant ‘hole’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ve(Object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hunts for existence of the object reference in question and, if found, removes the (first) occurrence of that reference from th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closing up the ‘hole’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ze() - returns a count of the number of Objec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Objects and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tendency to relate the concept of an object to that of a record in a datab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43080" y="2579760"/>
            <a:ext cx="62197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762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The Vector Clas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4296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xOf(Object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hunts for existence of a specific object reference and, if found, returns an integer indicating what the (first) position is of this reference in th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(starting with 0)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ains(Object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hunts for existence of the object reference in question and, if found, returns the valu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otherwis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Empty(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returns </a:t>
            </a:r>
            <a:r>
              <a:rPr b="0" sz="1800" spc="-1" strike="noStrike">
                <a:solidFill>
                  <a:srgbClr val="000000"/>
                </a:solidFill>
                <a:latin typeface="Georgi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f th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s empty, </a:t>
            </a:r>
            <a:r>
              <a:rPr b="0" sz="1800" spc="-1" strike="noStrike">
                <a:solidFill>
                  <a:srgbClr val="000000"/>
                </a:solidFill>
                <a:latin typeface="Georgi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otherwi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ear(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empties out th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there are more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Impor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order to use the Vector class in one of our own classes, we must include the appropriate import statement at the top of the enclosing class's source fil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yClass.jav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import java.util.*;  // Vector is in the java.util packa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// The import statement(s) go ahead of th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// public class … declaration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yClass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ector someVector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mport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syntax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yClass.jav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00253"/>
                </a:solidFill>
                <a:latin typeface="Courier New"/>
              </a:rPr>
              <a:t>import java.util.Vector; // just import one class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yClass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ector someVector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'll discuss the import mechanism in more detail in a later les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47680"/>
            <a:ext cx="7772400" cy="13334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Using On-Line Java 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6318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n Microsystems has provided a convenient, on-line way to view Java language documentation from the  comfort of your own brows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71920" y="3067200"/>
            <a:ext cx="3990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57880" cy="93348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n-Line Documentation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238800" y="2200320"/>
            <a:ext cx="1467000" cy="2876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77040" y="2263680"/>
            <a:ext cx="37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253"/>
                </a:solidFill>
                <a:latin typeface="Comic Sans MS"/>
              </a:rPr>
              <a:t>Scroll to the clas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253"/>
                </a:solidFill>
                <a:latin typeface="Comic Sans MS"/>
              </a:rPr>
              <a:t>interest, and click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253"/>
                </a:solidFill>
                <a:latin typeface="Comic Sans MS"/>
              </a:rPr>
              <a:t>its hyperlink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009960"/>
            <a:ext cx="914400" cy="0"/>
          </a:xfrm>
          <a:prstGeom prst="line">
            <a:avLst/>
          </a:prstGeom>
          <a:ln w="57240">
            <a:solidFill>
              <a:srgbClr val="c002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0400" y="304560"/>
            <a:ext cx="7963200" cy="93348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n-Line Documentation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"/>
          <p:cNvSpPr/>
          <p:nvPr/>
        </p:nvSpPr>
        <p:spPr>
          <a:xfrm>
            <a:off x="1260360" y="1501920"/>
            <a:ext cx="725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253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c00253"/>
                </a:solidFill>
                <a:latin typeface="Comic Sans MS"/>
              </a:rPr>
              <a:t>and documentation about that class, including its inheritance "lineage", constructors, methods, and attributes, appears in the browser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890720" y="3471840"/>
            <a:ext cx="5591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334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Representing Associ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In Code,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20761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 mentioned earlier, we represent associations in code as attribu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use individual reference variables to represent the "one" end of an associ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0253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253"/>
                </a:solidFill>
                <a:latin typeface="Georgia"/>
              </a:rPr>
              <a:t>We use collections to represent the "many" end of an association -- we'll illustrate this n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may or may not wish to make these "bidirectional"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334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Representing Associ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In Code --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076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tudent enrolls in many Sections, and a Section has many Students enrolled in 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sectionNo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ections;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students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/ of Section objec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// of Student objec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rse courseRepresented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ent Code for th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588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Details omitted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reate bidirectional link between these two object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.enroll(s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nroll(sec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would the enroll() methods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334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epresenting Associ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 Code -- 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08540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Vector sections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public void enroll(Section x) {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// Call the add() method on the sections Vec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sections.add(x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632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Objects and Database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often persist/restore the state of an object with a datab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3030480"/>
            <a:ext cx="3792600" cy="214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35720" y="2981160"/>
            <a:ext cx="2846160" cy="2151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19400" y="4013280"/>
            <a:ext cx="1371600" cy="419040"/>
          </a:xfrm>
          <a:prstGeom prst="leftRightArrow">
            <a:avLst>
              <a:gd name="adj1" fmla="val 50000"/>
              <a:gd name="adj2" fmla="val 65161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3344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epresenting Associ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 Code -- 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08540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String sectionNo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 Vector students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public void enroll(Student x) {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// Call the add() method on the students Vec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students.add(x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5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xplicit Constructo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vice vers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tributes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sectionNo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private Vector students;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enroll(Student x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s.add(x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public Section() {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students = new Vector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38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53064"/>
              <a:gd name="adj2" fmla="val 9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638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ections = new Vector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9500"/>
              <a:gd name="adj2" fmla="val 23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c00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6"/>
            <a:endCxn id="275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253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38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56513"/>
              <a:gd name="adj2" fmla="val 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9444"/>
              <a:gd name="adj2" fmla="val -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2" idx="6"/>
            <a:endCxn id="295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9960" y="29289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638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tudents = new Vector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3754"/>
              <a:gd name="adj2" fmla="val -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48013"/>
              <a:gd name="adj2" fmla="val 17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c00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13" idx="6"/>
            <a:endCxn id="317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4" idx="6"/>
            <a:endCxn id="321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c00253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89960" y="29289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38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sec.enroll(s);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tudents.add(x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62259"/>
              <a:gd name="adj2" fmla="val 2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1111"/>
              <a:gd name="adj2" fmla="val -4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41" idx="6"/>
            <a:endCxn id="345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2" idx="6"/>
            <a:endCxn id="349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6877080" y="5162400"/>
            <a:ext cx="133200" cy="133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c00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55" idx="4"/>
            <a:endCxn id="333" idx="0"/>
          </p:cNvCxnSpPr>
          <p:nvPr/>
        </p:nvCxnSpPr>
        <p:spPr>
          <a:xfrm flipV="1" rot="16200000">
            <a:off x="4513320" y="2865600"/>
            <a:ext cx="726120" cy="4134240"/>
          </a:xfrm>
          <a:prstGeom prst="curvedConnector5">
            <a:avLst>
              <a:gd name="adj1" fmla="val -31498"/>
              <a:gd name="adj2" fmla="val 49995"/>
              <a:gd name="adj3" fmla="val -31498"/>
            </a:avLst>
          </a:prstGeom>
          <a:ln w="57240">
            <a:solidFill>
              <a:srgbClr val="c00253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89960" y="29289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638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.enroll(s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s.enroll(sec);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ections.add(x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3754"/>
              <a:gd name="adj2" fmla="val 1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4680"/>
              <a:gd name="adj2" fmla="val -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1" idx="6"/>
            <a:endCxn id="375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2" idx="6"/>
            <a:endCxn id="379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6877080" y="516240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2724120"/>
            <a:ext cx="133560" cy="133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c00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5" idx="4"/>
            <a:endCxn id="363" idx="0"/>
          </p:cNvCxnSpPr>
          <p:nvPr/>
        </p:nvCxnSpPr>
        <p:spPr>
          <a:xfrm flipV="1" rot="16200000">
            <a:off x="4513320" y="2865600"/>
            <a:ext cx="726120" cy="4134240"/>
          </a:xfrm>
          <a:prstGeom prst="curvedConnector5">
            <a:avLst>
              <a:gd name="adj1" fmla="val -31498"/>
              <a:gd name="adj2" fmla="val 49995"/>
              <a:gd name="adj3" fmla="val -3149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6" idx="4"/>
            <a:endCxn id="364" idx="0"/>
          </p:cNvCxnSpPr>
          <p:nvPr/>
        </p:nvCxnSpPr>
        <p:spPr>
          <a:xfrm flipH="1" rot="16200000">
            <a:off x="4393440" y="2568960"/>
            <a:ext cx="1038600" cy="1614960"/>
          </a:xfrm>
          <a:prstGeom prst="curvedConnector2">
            <a:avLst/>
          </a:prstGeom>
          <a:ln w="57240">
            <a:solidFill>
              <a:srgbClr val="c00253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89960" y="29671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238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.enroll(s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enroll(sec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udent s2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3754"/>
              <a:gd name="adj2" fmla="val 1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4680"/>
              <a:gd name="adj2" fmla="val -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03" idx="6"/>
            <a:endCxn id="407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4" idx="6"/>
            <a:endCxn id="411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6877080" y="516240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2724120"/>
            <a:ext cx="13356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7" idx="4"/>
            <a:endCxn id="395" idx="0"/>
          </p:cNvCxnSpPr>
          <p:nvPr/>
        </p:nvCxnSpPr>
        <p:spPr>
          <a:xfrm flipV="1" rot="16200000">
            <a:off x="4513320" y="2865600"/>
            <a:ext cx="726120" cy="4134240"/>
          </a:xfrm>
          <a:prstGeom prst="curvedConnector5">
            <a:avLst>
              <a:gd name="adj1" fmla="val -31498"/>
              <a:gd name="adj2" fmla="val 49995"/>
              <a:gd name="adj3" fmla="val -3149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8" idx="4"/>
            <a:endCxn id="396" idx="0"/>
          </p:cNvCxnSpPr>
          <p:nvPr/>
        </p:nvCxnSpPr>
        <p:spPr>
          <a:xfrm flipH="1" rot="16200000">
            <a:off x="4393440" y="2568960"/>
            <a:ext cx="1038600" cy="16149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1371600" y="5086440"/>
            <a:ext cx="1657440" cy="1104840"/>
          </a:xfrm>
          <a:prstGeom prst="cloudCallout">
            <a:avLst>
              <a:gd name="adj1" fmla="val -427777"/>
              <a:gd name="adj2" fmla="val -131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5680" y="5548320"/>
            <a:ext cx="6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62120" y="5752800"/>
            <a:ext cx="590400" cy="2286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42680" y="54338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33680" y="55054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07320" y="614844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89960" y="29671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64560" y="471960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38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.enroll(s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enroll(sec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udent s2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3754"/>
              <a:gd name="adj2" fmla="val 1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4680"/>
              <a:gd name="adj2" fmla="val -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>
            <a:stCxn id="442" idx="6"/>
            <a:endCxn id="446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43" idx="6"/>
            <a:endCxn id="450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6877080" y="516240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2724120"/>
            <a:ext cx="13356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"/>
          <p:cNvCxnSpPr>
            <a:stCxn id="456" idx="4"/>
            <a:endCxn id="434" idx="0"/>
          </p:cNvCxnSpPr>
          <p:nvPr/>
        </p:nvCxnSpPr>
        <p:spPr>
          <a:xfrm flipV="1" rot="16200000">
            <a:off x="4513320" y="2865600"/>
            <a:ext cx="726120" cy="4134240"/>
          </a:xfrm>
          <a:prstGeom prst="curvedConnector5">
            <a:avLst>
              <a:gd name="adj1" fmla="val -31498"/>
              <a:gd name="adj2" fmla="val 49995"/>
              <a:gd name="adj3" fmla="val -3149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57" idx="4"/>
            <a:endCxn id="435" idx="0"/>
          </p:cNvCxnSpPr>
          <p:nvPr/>
        </p:nvCxnSpPr>
        <p:spPr>
          <a:xfrm flipH="1" rot="16200000">
            <a:off x="4393440" y="2568960"/>
            <a:ext cx="1038600" cy="16149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1371600" y="5086440"/>
            <a:ext cx="1657440" cy="1104840"/>
          </a:xfrm>
          <a:prstGeom prst="cloudCallout">
            <a:avLst>
              <a:gd name="adj1" fmla="val -427777"/>
              <a:gd name="adj2" fmla="val -131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5680" y="5548320"/>
            <a:ext cx="6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62120" y="5752800"/>
            <a:ext cx="590400" cy="2286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42680" y="54338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33680" y="55054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07320" y="614844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47800" y="5562720"/>
            <a:ext cx="133560" cy="133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8628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4808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6114960"/>
            <a:ext cx="3621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7204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66" idx="4"/>
            <a:endCxn id="467" idx="1"/>
          </p:cNvCxnSpPr>
          <p:nvPr/>
        </p:nvCxnSpPr>
        <p:spPr>
          <a:xfrm flipH="1" rot="16200000">
            <a:off x="2590920" y="5819400"/>
            <a:ext cx="619920" cy="372240"/>
          </a:xfrm>
          <a:prstGeom prst="curvedConnector2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5450040" y="23209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ections = new Vec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89960" y="29671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64560" y="471960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03280" y="5653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Constructors and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84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stead of passing arguments into a constructor to initialize the attributes for an object, we may have the constructor fetch data from a databa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ttribute details omitted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nstructo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dent(String ssn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9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use ssn as a primary key to look up this student's record in the database's Student table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f (record found)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etrieve record and initialize all attribut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based on this recor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46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238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.enroll(s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enroll(sec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2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ec.enroll(s2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3754"/>
              <a:gd name="adj2" fmla="val 1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4680"/>
              <a:gd name="adj2" fmla="val -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89" idx="6"/>
            <a:endCxn id="493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0" idx="6"/>
            <a:endCxn id="497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877080" y="516240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38480" y="2724120"/>
            <a:ext cx="13356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503" idx="4"/>
            <a:endCxn id="481" idx="0"/>
          </p:cNvCxnSpPr>
          <p:nvPr/>
        </p:nvCxnSpPr>
        <p:spPr>
          <a:xfrm flipV="1" rot="16200000">
            <a:off x="4513320" y="2865600"/>
            <a:ext cx="726120" cy="4134240"/>
          </a:xfrm>
          <a:prstGeom prst="curvedConnector5">
            <a:avLst>
              <a:gd name="adj1" fmla="val -31498"/>
              <a:gd name="adj2" fmla="val 49995"/>
              <a:gd name="adj3" fmla="val -3149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4" idx="4"/>
            <a:endCxn id="482" idx="0"/>
          </p:cNvCxnSpPr>
          <p:nvPr/>
        </p:nvCxnSpPr>
        <p:spPr>
          <a:xfrm flipH="1" rot="16200000">
            <a:off x="4393440" y="2568960"/>
            <a:ext cx="1038600" cy="16149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1371600" y="5086440"/>
            <a:ext cx="1657440" cy="1104840"/>
          </a:xfrm>
          <a:prstGeom prst="cloudCallout">
            <a:avLst>
              <a:gd name="adj1" fmla="val -427777"/>
              <a:gd name="adj2" fmla="val -131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680" y="5548320"/>
            <a:ext cx="6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2120" y="5752800"/>
            <a:ext cx="5904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238880" y="5162400"/>
            <a:ext cx="133560" cy="133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"/>
          <p:cNvCxnSpPr>
            <a:stCxn id="510" idx="3"/>
            <a:endCxn id="507" idx="0"/>
          </p:cNvCxnSpPr>
          <p:nvPr/>
        </p:nvCxnSpPr>
        <p:spPr>
          <a:xfrm rot="5400000">
            <a:off x="4961160" y="3342240"/>
            <a:ext cx="362520" cy="4231440"/>
          </a:xfrm>
          <a:prstGeom prst="curvedConnector2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1642680" y="54338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33680" y="55054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47800" y="5562720"/>
            <a:ext cx="13356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8628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4808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6114960"/>
            <a:ext cx="3621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7204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514" idx="4"/>
            <a:endCxn id="515" idx="1"/>
          </p:cNvCxnSpPr>
          <p:nvPr/>
        </p:nvCxnSpPr>
        <p:spPr>
          <a:xfrm flipH="1" rot="16200000">
            <a:off x="2590920" y="5819400"/>
            <a:ext cx="619920" cy="3722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6288840" y="25113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tudents.ad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89960" y="29671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64560" y="471960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3280" y="5653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c00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emory Schematic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238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sec = new Section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.enroll(s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enroll(sec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2 = new Student(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.enroll(s2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2.enroll(sec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467160"/>
            <a:ext cx="1657440" cy="1104840"/>
          </a:xfrm>
          <a:prstGeom prst="cloudCallout">
            <a:avLst>
              <a:gd name="adj1" fmla="val -473754"/>
              <a:gd name="adj2" fmla="val 1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15000" y="3314880"/>
            <a:ext cx="1600200" cy="1161720"/>
          </a:xfrm>
          <a:prstGeom prst="cloudCallout">
            <a:avLst>
              <a:gd name="adj1" fmla="val 464680"/>
              <a:gd name="adj2" fmla="val -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52880" y="3738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71800" y="39052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43880" y="379080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23560" y="38336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6320" y="4481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62920" y="4521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86280" y="3962520"/>
            <a:ext cx="13320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77080" y="384804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486080" y="434340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162400" y="4190760"/>
            <a:ext cx="648000" cy="476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2436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616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261000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10120" y="261000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6260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2476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486560" y="5048280"/>
            <a:ext cx="362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048280"/>
            <a:ext cx="3618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7" idx="6"/>
            <a:endCxn id="541" idx="1"/>
          </p:cNvCxnSpPr>
          <p:nvPr/>
        </p:nvCxnSpPr>
        <p:spPr>
          <a:xfrm flipV="1">
            <a:off x="3219480" y="2809080"/>
            <a:ext cx="70524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38" idx="6"/>
            <a:endCxn id="545" idx="1"/>
          </p:cNvCxnSpPr>
          <p:nvPr/>
        </p:nvCxnSpPr>
        <p:spPr>
          <a:xfrm flipH="1">
            <a:off x="6762240" y="3914280"/>
            <a:ext cx="248400" cy="1334520"/>
          </a:xfrm>
          <a:prstGeom prst="curvedConnector5">
            <a:avLst>
              <a:gd name="adj1" fmla="val -92162"/>
              <a:gd name="adj2" fmla="val 22477"/>
              <a:gd name="adj3" fmla="val -9216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6877080" y="5162400"/>
            <a:ext cx="13320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038480" y="2724120"/>
            <a:ext cx="13356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51" idx="4"/>
            <a:endCxn id="529" idx="0"/>
          </p:cNvCxnSpPr>
          <p:nvPr/>
        </p:nvCxnSpPr>
        <p:spPr>
          <a:xfrm flipV="1" rot="16200000">
            <a:off x="4513320" y="2865600"/>
            <a:ext cx="726120" cy="4134240"/>
          </a:xfrm>
          <a:prstGeom prst="curvedConnector5">
            <a:avLst>
              <a:gd name="adj1" fmla="val -31498"/>
              <a:gd name="adj2" fmla="val 49995"/>
              <a:gd name="adj3" fmla="val -3149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52" idx="4"/>
            <a:endCxn id="530" idx="0"/>
          </p:cNvCxnSpPr>
          <p:nvPr/>
        </p:nvCxnSpPr>
        <p:spPr>
          <a:xfrm flipH="1" rot="16200000">
            <a:off x="4393440" y="2568960"/>
            <a:ext cx="1038600" cy="16149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1371600" y="5086440"/>
            <a:ext cx="1657440" cy="1104840"/>
          </a:xfrm>
          <a:prstGeom prst="cloudCallout">
            <a:avLst>
              <a:gd name="adj1" fmla="val -427777"/>
              <a:gd name="adj2" fmla="val -131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680" y="5548320"/>
            <a:ext cx="6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62120" y="5752800"/>
            <a:ext cx="5904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5162400"/>
            <a:ext cx="13356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"/>
          <p:cNvCxnSpPr>
            <a:stCxn id="558" idx="3"/>
            <a:endCxn id="555" idx="0"/>
          </p:cNvCxnSpPr>
          <p:nvPr/>
        </p:nvCxnSpPr>
        <p:spPr>
          <a:xfrm rot="5400000">
            <a:off x="4961160" y="3342240"/>
            <a:ext cx="362520" cy="423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1642680" y="54338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33680" y="5505480"/>
            <a:ext cx="380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47800" y="5562720"/>
            <a:ext cx="13356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8628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4808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6114960"/>
            <a:ext cx="3621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172040" y="6114960"/>
            <a:ext cx="3618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2" idx="4"/>
            <a:endCxn id="563" idx="1"/>
          </p:cNvCxnSpPr>
          <p:nvPr/>
        </p:nvCxnSpPr>
        <p:spPr>
          <a:xfrm flipH="1" rot="16200000">
            <a:off x="2590920" y="5819400"/>
            <a:ext cx="619920" cy="3722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3219480" y="6229440"/>
            <a:ext cx="13320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7"/>
            <a:endCxn id="531" idx="1"/>
          </p:cNvCxnSpPr>
          <p:nvPr/>
        </p:nvCxnSpPr>
        <p:spPr>
          <a:xfrm flipH="1" flipV="1" rot="5400000">
            <a:off x="3420000" y="3819600"/>
            <a:ext cx="2345040" cy="2518200"/>
          </a:xfrm>
          <a:prstGeom prst="curvedConnector2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6288840" y="2682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253"/>
                </a:solidFill>
                <a:latin typeface="Courier New"/>
              </a:rPr>
              <a:t>sections.ad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154960" y="30621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060440" y="2224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960" y="29671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60880" y="468144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64560" y="471960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03280" y="56530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253"/>
                </a:solidFill>
                <a:latin typeface="Courier New"/>
              </a:rPr>
              <a:t>Referential Integrity</a:t>
            </a:r>
            <a:r>
              <a:rPr b="1" lang="en-US" sz="2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c0025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c00253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ke sure that the references between objects and collections stay current as objects are created and destroyed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8:29:15Z</dcterms:created>
  <dc:creator>Office 2004 Test Drive User</dc:creator>
  <dc:description/>
  <dc:language>en-US</dc:language>
  <cp:lastModifiedBy>Office 2004 Test Drive User</cp:lastModifiedBy>
  <dcterms:modified xsi:type="dcterms:W3CDTF">2006-10-12T19:24:50Z</dcterms:modified>
  <cp:revision>2</cp:revision>
  <dc:subject/>
  <dc:title>Constructors &amp; Collections</dc:title>
</cp:coreProperties>
</file>