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93400" y="203040"/>
            <a:ext cx="81788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3400" y="4594680"/>
            <a:ext cx="817884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84160" y="213372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9340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384160" y="4594680"/>
            <a:ext cx="399096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95892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24440" y="213372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9340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95892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724440" y="4594680"/>
            <a:ext cx="2633400" cy="224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39520"/>
            <a:ext cx="8178840" cy="2032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873600"/>
            <a:ext cx="8178840" cy="977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8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6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193760" y="2133720"/>
            <a:ext cx="3936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3560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713520" indent="-271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99144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27944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4" marL="1557000" indent="-271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5" marL="1557000" indent="-27108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6" marL="1557000" indent="-27108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6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273720" y="2133720"/>
            <a:ext cx="30988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376560" indent="-23436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616320" indent="-23436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856800" indent="-23436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105560" indent="-23436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4" marL="1345680" indent="-23436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5" marL="1345680" indent="-23436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6" marL="1345680" indent="-23436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509760" indent="-325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821880" indent="-32472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2" marL="1134000" indent="-325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3" marL="1457280" indent="-32472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4" marL="1769400" indent="-32472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5" marL="1769400" indent="-32472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6" marL="1769400" indent="-32472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1"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5">
              <a:spcBef>
                <a:spcPts val="700"/>
              </a:spcBef>
              <a:buClr>
                <a:srgbClr val="2f2b2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6">
              <a:spcBef>
                <a:spcPts val="700"/>
              </a:spcBef>
              <a:buClr>
                <a:srgbClr val="2f2b2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8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5105160"/>
            <a:ext cx="8178840" cy="173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62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19340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21280" indent="-332280">
              <a:spcBef>
                <a:spcPts val="39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839880" indent="-331920">
              <a:spcBef>
                <a:spcPts val="39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2" marL="1158840" indent="-332280">
              <a:spcBef>
                <a:spcPts val="39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3" marL="1489320" indent="-331920">
              <a:spcBef>
                <a:spcPts val="39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4" marL="1808280" indent="-331920">
              <a:spcBef>
                <a:spcPts val="39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5" marL="1808280" indent="-331920">
              <a:spcBef>
                <a:spcPts val="39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6" marL="1808280" indent="-331920">
              <a:spcBef>
                <a:spcPts val="39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8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62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79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6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93760" y="2133720"/>
            <a:ext cx="393696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3560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713520" indent="-271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99144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279440" indent="-27144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4" marL="1557000" indent="-271080">
              <a:spcBef>
                <a:spcPts val="27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5" marL="1557000" indent="-27108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6" marL="1557000" indent="-271080">
              <a:spcBef>
                <a:spcPts val="27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1739520"/>
            <a:ext cx="8178840" cy="2032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2b20"/>
                </a:solidFill>
                <a:latin typeface="American Typewriter"/>
              </a:rPr>
              <a:t>Java Crash-Course</a:t>
            </a:r>
            <a:endParaRPr b="0" lang="en-US" sz="72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360" y="3873600"/>
            <a:ext cx="8178840" cy="977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Architecture Neutral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In contrast, Java source code is not compiled  for a particular platform, but rather into a special format known as byte cod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95400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Byte code is architecture neutral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95400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Byte code turns out to be the same, and hence can be run on any computer that supports   a Java Virtual Machine (JVM)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155600" y="863640"/>
            <a:ext cx="78552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917720" y="1282680"/>
            <a:ext cx="67118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765440" y="1168560"/>
            <a:ext cx="7035840" cy="52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Architecture Neutral, cont.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This is precisely why Java became so popular at the time that the World Wide Web was “exploding”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Java was used to write applets,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Downloaded to your local (client) computer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Run under control of your browser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way of providing dynamic content (annoying ads) to the web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Simple exercise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61880" indent="-2077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lace a (public) class in a file by the same name, ending with “.java ”: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.java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ay close attention to use of upper/lower case -- it must match precisely!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compi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c Simple.java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Yields a fil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.class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ru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Simpl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Now you try it...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Eclipse demo  - HELLO WORLD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ommon Error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93400" y="234936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1774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lass file missing entirely (or typo in class name)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-5652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Foo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-5652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Exception in thread "main" java.lang.NoClassDefFoundError: Foo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31640" indent="-1774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issing main() method: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-5652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Foo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-5652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Exception in thread "main"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1162080" indent="-56520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java.lang.NoSuchMethodError: main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2b20"/>
                </a:solidFill>
                <a:latin typeface="American Typewriter"/>
              </a:rPr>
              <a:t>BREAK</a:t>
            </a:r>
            <a:endParaRPr b="0" lang="en-US" sz="72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Built-in Data Type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61880" indent="-2077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umerics: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8 bit integ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(range -128 to 127)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16 bit integ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(range -32,768 to 32,767)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32 bit integ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(range -2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3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3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1)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64 bit integ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(range -2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000" spc="-1" strike="noStrike" baseline="32000">
                <a:solidFill>
                  <a:srgbClr val="000000"/>
                </a:solidFill>
                <a:latin typeface="Comic Sans MS"/>
                <a:ea typeface="Comic Sans MS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1)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32 bit floating point number 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64 bit floating point number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a single 16 bit Unicode character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704880" indent="-10800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A'; // Use single quotes to enclose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Anatomy of a Simple</a:t>
            </a:r>
            <a:br>
              <a:rPr sz="6000"/>
            </a:b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Java Program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927000" y="2882880"/>
            <a:ext cx="8693280" cy="32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Variable Initializing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9560" indent="-1854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enerally speaking, when variables of any of these data types are declared, their values are not automatically initialized</a:t>
            </a:r>
            <a:endParaRPr b="0" lang="en-US" sz="2500" spc="-1" strike="noStrike">
              <a:solidFill>
                <a:srgbClr val="806216"/>
              </a:solidFill>
              <a:latin typeface="Palatino"/>
            </a:endParaRPr>
          </a:p>
          <a:p>
            <a:pPr marL="439560" indent="-1854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ying to access variables without explicitly initializing them will result in a compilation error</a:t>
            </a:r>
            <a:endParaRPr b="0" lang="en-US" sz="2500" spc="-1" strike="noStrike">
              <a:solidFill>
                <a:srgbClr val="806216"/>
              </a:solidFill>
              <a:latin typeface="Palatino"/>
            </a:endParaRPr>
          </a:p>
          <a:p>
            <a:pPr marL="439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39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  // not automatically initialized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;  // ditto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j = i;  // compilation error!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9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53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c00253"/>
                </a:solidFill>
                <a:latin typeface="Courier New"/>
                <a:ea typeface="Courier New"/>
              </a:rPr>
              <a:t>Variable i may not have been initialized.”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39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395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String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 a series of characters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capital “S” -- this is significant, for reasons we’ll discuss later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aString = "I am a string!";  // note double quotes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plus sign (+) operator is used to concatenate Strings: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x = "foo"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y = "bar"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596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z = x + y + "!";  // z now equals "foobar!"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Initializing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376280" indent="-11221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t is a good practice to explicitly initialize all variables, primarily as a communication tool: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15746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xplicit initialization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0; 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 '; // a blank space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d = 0.0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"; // an "empty" String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tc. 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1376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Simple Control Flow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IF statement - 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xpression) 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917640" indent="-32076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917640" indent="-32076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Logical Expression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== 1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&gt;= 1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others: &lt; &gt; 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nything that will return an integer or a boolean!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Statement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single line of cod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set of lines, enclosed in “curly braces”: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lah blah blah;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IF again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==complicatedFunction(b)) 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and some mor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r do this instead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ommon bug!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=complicatedFunction(b)) 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and some mor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r do this instead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Loops!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Remember - Java starts counting from 0!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Simplest one - FOR loop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=3; i++) 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What’s wrong?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=3; i++);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omment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6346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C language style of block comments: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This is a single line C-style comment. */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y + z;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 / c;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s + c + f;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C++ single line form of comment: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y + z;   // Text of comment starts here through the end of the line.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Here is a block of C++ style comments.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is serves as an alternative to using the C style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f block comments (/* ... */).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  <a:p>
            <a:pPr marL="888840" indent="-634680">
              <a:lnSpc>
                <a:spcPct val="100000"/>
              </a:lnSpc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n * p;</a:t>
            </a:r>
            <a:endParaRPr b="0" lang="en-US" sz="1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What’s wrong here?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==3; i++);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What about here?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=3; i+1);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Printing to the Screen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1774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print text messages to the command line window: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93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lvl="1" marL="93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31640" indent="-1774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n't worry about the ‘strange’ syntax</a:t>
            </a:r>
            <a:endParaRPr b="0" lang="en-US" sz="2100" spc="-1" strike="noStrike">
              <a:solidFill>
                <a:srgbClr val="806216"/>
              </a:solidFill>
              <a:latin typeface="Palatino"/>
            </a:endParaRPr>
          </a:p>
          <a:p>
            <a:pPr marL="431640" indent="-1774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System.out.println() method can accept very complex expressions, and does its best to ultimately turn these into a single String value</a:t>
            </a:r>
            <a:endParaRPr b="0" lang="en-US" sz="23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Hi!");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i!"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);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 = "foo"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u = "bar"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 + u); // prints "foobar"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Printing to Screen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360" y="195588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4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ints "3"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x);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ints "7".  So far, so good!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x + y);  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ints "7 was the answer"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x + y + " was the answer"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hoops!  Prints "The sum is: 34"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he sum is: "  + x + y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rrectly prints "The sum is: 7"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he sum is: " + (x + y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4827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Now you try it...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Do Excercise 2 - problem 2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Your Homework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Please finish exercises on the handout!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Structured Programming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Programs break down into functional units (functions)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95400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utomate repeated tasks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95400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Each function is its own program; it should do 1 thing and do it well;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2" marL="12970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Test functions separately!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Function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85800" y="2235240"/>
          <a:ext cx="9180360" cy="4508640"/>
        </p:xfrm>
        <a:graphic>
          <a:graphicData uri="http://schemas.openxmlformats.org/drawingml/2006/table">
            <a:tbl>
              <a:tblPr/>
              <a:tblGrid>
                <a:gridCol w="9180360"/>
              </a:tblGrid>
              <a:tr h="45086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ublic static main(...) {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 i=1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 result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//do something with i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ln(result)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=2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//do something with i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ln(result)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=3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//do something with i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ln(result);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Palatino"/>
                      </a:endParaRPr>
                    </a:p>
                  </a:txBody>
                  <a:tcPr anchor="ctr" marL="38160" marR="38160">
                    <a:lnL w="12240">
                      <a:solidFill>
                        <a:srgbClr val="6c703f"/>
                      </a:solidFill>
                    </a:lnL>
                    <a:lnR w="12240">
                      <a:solidFill>
                        <a:srgbClr val="6c703f"/>
                      </a:solidFill>
                    </a:lnR>
                    <a:lnT w="12240">
                      <a:solidFill>
                        <a:srgbClr val="6c703f"/>
                      </a:solidFill>
                    </a:lnT>
                    <a:lnB w="12240">
                      <a:solidFill>
                        <a:srgbClr val="6c703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Repeated Task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doSmth(int i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 = ...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s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...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=1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=2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=3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Parameter Passing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doSmth(int i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Smth(i)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Smth(j)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Smth(k)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Anatomy of Java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Palatino"/>
              </a:rPr>
              <a:t>The main function/method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Palatino"/>
              </a:rPr>
              <a:t>Drives the program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Palatino"/>
              </a:rPr>
              <a:t>Must have the following “signature”: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  <a:p>
            <a:pPr lvl="2" marL="93996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Courier New"/>
                <a:ea typeface="Courier New"/>
              </a:rPr>
              <a:t>///Your code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6216"/>
                </a:solidFill>
                <a:latin typeface="Courier New"/>
                <a:ea typeface="Courier New"/>
              </a:rPr>
              <a:t>}</a:t>
            </a:r>
            <a:endParaRPr b="0" lang="en-US" sz="27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Repeated Tasks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178840" cy="52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doSmth(int i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do something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 = ...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s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...) {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=1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=2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=3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doSmth(i));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Anatomy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61880" indent="-2077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main method lives in a class “wrapper”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461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lvl="1" marL="88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public class </a:t>
            </a:r>
            <a:r>
              <a:rPr b="1" i="1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ClassName</a:t>
            </a:r>
            <a:r>
              <a:rPr b="1" lang="en-US" sz="1800" spc="-1" strike="noStrike">
                <a:solidFill>
                  <a:srgbClr val="c00253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253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1225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5811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code of main method goes here …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5811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88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53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88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class name starts with a capital letter; can be any non-reserved nam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-207720">
              <a:lnSpc>
                <a:spcPct val="100000"/>
              </a:lnSpc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class is typically declar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(we’ll learn the significance of this later on)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461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urly Braces and You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You will see a lot of curly braces: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lvl="1" marL="5968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Courier New"/>
                <a:ea typeface="Courier New"/>
              </a:rPr>
              <a:t>//something happens her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Courier New"/>
                <a:ea typeface="Courier New"/>
              </a:rPr>
              <a:t>Means: treat whatever is inside curly braces as a single statement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Compilation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With a compilable language like C or C++, source code must first be compiled into an executable form known as binary code or machine cod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a pattern of 1’s and 0’s understandable by the underlying hardware architecture of the computer on which the program is intended to run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346040" y="660240"/>
            <a:ext cx="78552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93400" y="203040"/>
            <a:ext cx="8178840" cy="1841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b4e2d"/>
                </a:solidFill>
                <a:latin typeface="American Typewriter"/>
              </a:rPr>
              <a:t>Platform Dependence</a:t>
            </a:r>
            <a:endParaRPr b="0" lang="en-US" sz="6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93400" y="2133720"/>
            <a:ext cx="81788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11280" indent="-357120">
              <a:lnSpc>
                <a:spcPct val="100000"/>
              </a:lnSpc>
              <a:spcBef>
                <a:spcPts val="27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216"/>
                </a:solidFill>
                <a:latin typeface="Palatino"/>
              </a:rPr>
              <a:t>Even if the original source code is written to be platform-independent, the resultant executable version will be tied to a particular platform’s architectur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