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D86-8C2A-4F49-8993-F6A4FD8A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4DF-6FE0-4688-9AAD-0DBBB984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41E-47D0-4A16-99CC-C6EDA422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A20-1096-4AF7-B445-EFD6157E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3FCE-45EE-4243-9D9C-E53FBD1D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072A-475E-4A1C-8AA5-2F01EAD6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AB4E-B2E5-42B6-8168-ADE09A8C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2A0A-C3A0-48F8-8B56-174772C8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AE96-B48E-4DDF-A930-4B523BF6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D569-7FAF-49E4-90CC-259B08E8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6B90-B39D-40F8-BA0D-73901CE6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BB7B-DE0E-4F24-891C-EBF0CD8E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B7DA-55CC-43D2-B3B1-622194F8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5470-6D25-4740-8BA2-D3EB61FB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3B67-2370-41BF-896F-5CA4E125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2F2C-84E8-4E85-9285-5B06B8A4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C92C-541F-4290-9F75-F5BF6345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BF3-676B-4AE2-86FA-A312677F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BDD-BC39-4EAB-89BA-D83DA5DC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49B-A13E-4E5B-8CA5-AD6E10A0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F0F-B3B2-46BA-B546-BCFE394B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847-ABD9-47D6-9779-409F68C8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E45-DAE3-4BE5-A2CB-FD0AE5B0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853-0AED-4518-9C36-32E02E02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2f"/>
            </a:gs>
            <a:gs pos="100000">
              <a:srgbClr val="7e7e7e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 hidden="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 hidden="1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6105600" y="0"/>
            <a:ext cx="3038040" cy="6857640"/>
          </a:xfrm>
          <a:custGeom>
            <a:avLst/>
            <a:gdLst>
              <a:gd name="textAreaLeft" fmla="*/ 0 w 3038040"/>
              <a:gd name="textAreaRight" fmla="*/ 3038400 w 30380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600" spc="-1" strike="noStrike" cap="all">
                <a:solidFill>
                  <a:srgbClr val="a1d4e6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009A5E-B85D-40C7-8C11-DCBDF5597F0E}" type="slidenum">
              <a:rPr b="0" lang="en-US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74856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456EB3-E8CE-41E7-A8CC-733C770A1EE6}" type="slidenum">
              <a:rPr b="0" lang="en-US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600" spc="-1" strike="noStrike" cap="all">
                <a:solidFill>
                  <a:srgbClr val="a1d4e6"/>
                </a:solidFill>
                <a:latin typeface="Franklin Gothic Book"/>
              </a:rPr>
              <a:t>Air Show Flight Path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33080" y="1544760"/>
            <a:ext cx="64796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neuver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C:\Work\LISA\DIB20LisaProjects\DIBFTCoreBaseline\DataSets\ProductRetrievalData\FlightPath2.jpg"/>
          <p:cNvPicPr/>
          <p:nvPr/>
        </p:nvPicPr>
        <p:blipFill>
          <a:blip r:embed="rId1"/>
          <a:stretch/>
        </p:blipFill>
        <p:spPr>
          <a:xfrm>
            <a:off x="838080" y="973080"/>
            <a:ext cx="7323480" cy="56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tact Informa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ontent Placeholder 3"/>
          <p:cNvGraphicFramePr/>
          <p:nvPr/>
        </p:nvGraphicFramePr>
        <p:xfrm>
          <a:off x="457200" y="1600200"/>
          <a:ext cx="8152920" cy="3504960"/>
        </p:xfrm>
        <a:graphic>
          <a:graphicData uri="http://schemas.openxmlformats.org/drawingml/2006/table">
            <a:tbl>
              <a:tblPr/>
              <a:tblGrid>
                <a:gridCol w="2866680"/>
                <a:gridCol w="1314000"/>
                <a:gridCol w="1882080"/>
                <a:gridCol w="2090160"/>
              </a:tblGrid>
              <a:tr h="58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Call 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T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U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8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opDog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df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df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777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df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dfe3"/>
                    </a:solidFill>
                  </a:tcPr>
                </a:tc>
              </a:tr>
              <a:tr h="58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akeOffTower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f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0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f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f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ff1"/>
                    </a:solidFill>
                  </a:tcPr>
                </a:tc>
              </a:tr>
              <a:tr h="58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irTower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df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df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777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df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dfe3"/>
                    </a:solidFill>
                  </a:tcPr>
                </a:tc>
              </a:tr>
              <a:tr h="58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andingTower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f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2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f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f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ff1"/>
                    </a:solidFill>
                  </a:tcPr>
                </a:tc>
              </a:tr>
              <a:tr h="58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road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df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77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df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777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df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df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chnic">
  <a:themeElements>
    <a:clrScheme name="Technic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chnic">
  <a:themeElements>
    <a:clrScheme name="Technic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33</TotalTime>
  <Application>LibreOffice/7.4.7.2$Linux_X86_64 LibreOffice_project/40$Build-2</Application>
  <AppVersion>15.0000</AppVersion>
  <Words>29</Words>
  <Paragraphs>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anny Tung</dc:creator>
  <dc:description/>
  <dc:language>en-US</dc:language>
  <cp:lastModifiedBy>Danny Tung</cp:lastModifiedBy>
  <dcterms:modified xsi:type="dcterms:W3CDTF">2010-03-08T16:21:18Z</dcterms:modified>
  <cp:revision>6</cp:revision>
  <dc:subject/>
  <dc:title>Air Show Flight Pat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</vt:r8>
  </property>
</Properties>
</file>