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3774400" cy="30175200"/>
  <p:notesSz cx="6858000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ABA6-A2F8-4F82-9CED-80B2EDEBA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89080" y="1209600"/>
            <a:ext cx="21396240" cy="50292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9080" y="7040520"/>
            <a:ext cx="21396240" cy="949932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89080" y="17442720"/>
            <a:ext cx="21396240" cy="949932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1B81-DAD7-4229-8BB8-E011163FB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89080" y="1209600"/>
            <a:ext cx="21396240" cy="50292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9080" y="7040520"/>
            <a:ext cx="10441080" cy="949932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152520" y="7040520"/>
            <a:ext cx="10441080" cy="949932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9080" y="17442720"/>
            <a:ext cx="10441080" cy="949932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2152520" y="17442720"/>
            <a:ext cx="10441080" cy="949932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BF84-19DF-425E-A135-F92844410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89080" y="1209600"/>
            <a:ext cx="21396240" cy="50292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9080" y="7040520"/>
            <a:ext cx="6889320" cy="949932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423280" y="7040520"/>
            <a:ext cx="6889320" cy="949932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5657480" y="7040520"/>
            <a:ext cx="6889320" cy="949932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89080" y="17442720"/>
            <a:ext cx="6889320" cy="949932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8423280" y="17442720"/>
            <a:ext cx="6889320" cy="949932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5657480" y="17442720"/>
            <a:ext cx="6889320" cy="949932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D5E9-6501-411D-9316-02020AC56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89080" y="1209600"/>
            <a:ext cx="21396240" cy="50292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89080" y="7040520"/>
            <a:ext cx="21396240" cy="199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7930-2427-448A-B1DC-BB8878B1A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89080" y="1209600"/>
            <a:ext cx="21396240" cy="50292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89080" y="7040520"/>
            <a:ext cx="21396240" cy="199152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357F-8880-4077-95AE-8362650FA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89080" y="1209600"/>
            <a:ext cx="21396240" cy="50292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9080" y="7040520"/>
            <a:ext cx="10441080" cy="199152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2152520" y="7040520"/>
            <a:ext cx="10441080" cy="199152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CF52-8105-41DE-B4B6-BD3DD7160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89080" y="1209600"/>
            <a:ext cx="21396240" cy="50292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EF33-105D-42B4-9E42-A4FDD9A3B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89080" y="1209600"/>
            <a:ext cx="21396240" cy="2331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F990-8A5B-4658-A832-B52BC149E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89080" y="1209600"/>
            <a:ext cx="21396240" cy="50292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9080" y="7040520"/>
            <a:ext cx="10441080" cy="949932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2152520" y="7040520"/>
            <a:ext cx="10441080" cy="199152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89080" y="17442720"/>
            <a:ext cx="10441080" cy="949932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F960-AA9A-4CD8-858B-023C812FF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89080" y="1209600"/>
            <a:ext cx="21396240" cy="50292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9080" y="7040520"/>
            <a:ext cx="10441080" cy="199152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2152520" y="7040520"/>
            <a:ext cx="10441080" cy="949932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52520" y="17442720"/>
            <a:ext cx="10441080" cy="949932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58C6-E343-4A0D-A50B-6B5E0B90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89080" y="1209600"/>
            <a:ext cx="21396240" cy="50292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9080" y="7040520"/>
            <a:ext cx="10441080" cy="949932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2152520" y="7040520"/>
            <a:ext cx="10441080" cy="949932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9080" y="17442720"/>
            <a:ext cx="21396240" cy="949932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286F-C8EA-48C2-900F-F9765B4D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9080" y="1209600"/>
            <a:ext cx="21396240" cy="50292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lang="en-US" sz="15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9080" y="7040520"/>
            <a:ext cx="21396240" cy="199152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marL="1176480" indent="-1176480">
              <a:spcBef>
                <a:spcPts val="2750"/>
              </a:spcBef>
              <a:buClr>
                <a:srgbClr val="000000"/>
              </a:buClr>
              <a:buFont typeface="Arial"/>
              <a:buChar char="•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  <a:p>
            <a:pPr lvl="1" marL="2548080" indent="-981360">
              <a:spcBef>
                <a:spcPts val="2750"/>
              </a:spcBef>
              <a:buClr>
                <a:srgbClr val="000000"/>
              </a:buClr>
              <a:buFont typeface="Arial"/>
              <a:buChar char="–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  <a:p>
            <a:pPr lvl="2" marL="3919680" indent="-784440">
              <a:spcBef>
                <a:spcPts val="2750"/>
              </a:spcBef>
              <a:buClr>
                <a:srgbClr val="000000"/>
              </a:buClr>
              <a:buFont typeface="Arial"/>
              <a:buChar char="•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  <a:p>
            <a:pPr lvl="3" marL="5486400" indent="-784080">
              <a:spcBef>
                <a:spcPts val="2750"/>
              </a:spcBef>
              <a:buClr>
                <a:srgbClr val="000000"/>
              </a:buClr>
              <a:buFont typeface="Arial"/>
              <a:buChar char="–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  <a:p>
            <a:pPr lvl="4" marL="7053120" indent="-782640">
              <a:spcBef>
                <a:spcPts val="2750"/>
              </a:spcBef>
              <a:buClr>
                <a:srgbClr val="000000"/>
              </a:buClr>
              <a:buFont typeface="Arial"/>
              <a:buChar char="»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  <a:p>
            <a:pPr lvl="5" marL="7053120" indent="-782640">
              <a:spcBef>
                <a:spcPts val="2750"/>
              </a:spcBef>
              <a:buClr>
                <a:srgbClr val="000000"/>
              </a:buClr>
              <a:buFont typeface="Arial"/>
              <a:buChar char="»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  <a:p>
            <a:pPr lvl="6" marL="7053120" indent="-782640">
              <a:spcBef>
                <a:spcPts val="2750"/>
              </a:spcBef>
              <a:buClr>
                <a:srgbClr val="000000"/>
              </a:buClr>
              <a:buFont typeface="Arial"/>
              <a:buChar char="»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88720" y="27479160"/>
            <a:ext cx="5546520" cy="209556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Autofit/>
          </a:bodyPr>
          <a:lstStyle>
            <a:lvl1pPr indent="0">
              <a:buNone/>
              <a:tabLst>
                <a:tab algn="l" pos="0"/>
                <a:tab algn="l" pos="3135240"/>
                <a:tab algn="l" pos="6270480"/>
                <a:tab algn="l" pos="9406080"/>
              </a:tabLst>
              <a:defRPr b="0" lang="en-US" sz="4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123400" y="27479160"/>
            <a:ext cx="7527600" cy="209556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Autofit/>
          </a:bodyPr>
          <a:lstStyle>
            <a:lvl1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  <a:defRPr b="0" lang="en-US" sz="4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7038440" y="27479160"/>
            <a:ext cx="5546520" cy="209556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Autofit/>
          </a:bodyPr>
          <a:lstStyle>
            <a:lvl1pPr indent="0" algn="r">
              <a:buNone/>
              <a:tabLst>
                <a:tab algn="l" pos="0"/>
                <a:tab algn="l" pos="3135240"/>
                <a:tab algn="l" pos="6270480"/>
                <a:tab algn="l" pos="9406080"/>
              </a:tabLst>
              <a:defRPr b="0" lang="en-US" sz="4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fld id="{C49CFF9C-82D2-4C87-AF7F-1073212746A3}" type="slidenum">
              <a:rPr b="0" lang="en-US" sz="4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524880" y="838080"/>
            <a:ext cx="1524240" cy="6098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0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0" y="2590920"/>
            <a:ext cx="914400" cy="457200"/>
          </a:xfrm>
          <a:prstGeom prst="hexagon">
            <a:avLst>
              <a:gd name="adj" fmla="val 50000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" name=""/>
          <p:cNvCxnSpPr>
            <a:stCxn id="41" idx="2"/>
            <a:endCxn id="42" idx="0"/>
          </p:cNvCxnSpPr>
          <p:nvPr/>
        </p:nvCxnSpPr>
        <p:spPr>
          <a:xfrm flipH="1">
            <a:off x="2743200" y="1447920"/>
            <a:ext cx="7544160" cy="1143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44" name=""/>
          <p:cNvSpPr/>
          <p:nvPr/>
        </p:nvSpPr>
        <p:spPr>
          <a:xfrm>
            <a:off x="6095880" y="2438280"/>
            <a:ext cx="1524240" cy="6098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1" idx="2"/>
            <a:endCxn id="44" idx="0"/>
          </p:cNvCxnSpPr>
          <p:nvPr/>
        </p:nvCxnSpPr>
        <p:spPr>
          <a:xfrm flipH="1">
            <a:off x="6858000" y="1447920"/>
            <a:ext cx="3429360" cy="9907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46" name=""/>
          <p:cNvSpPr/>
          <p:nvPr/>
        </p:nvSpPr>
        <p:spPr>
          <a:xfrm>
            <a:off x="15163920" y="2438280"/>
            <a:ext cx="1523880" cy="6098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1" idx="2"/>
            <a:endCxn id="46" idx="0"/>
          </p:cNvCxnSpPr>
          <p:nvPr/>
        </p:nvCxnSpPr>
        <p:spPr>
          <a:xfrm>
            <a:off x="10287000" y="1447920"/>
            <a:ext cx="5639040" cy="9907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48" name=""/>
          <p:cNvCxnSpPr/>
          <p:nvPr/>
        </p:nvCxnSpPr>
        <p:spPr>
          <a:xfrm flipH="1">
            <a:off x="18059040" y="380520"/>
            <a:ext cx="745200" cy="762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49" name=""/>
          <p:cNvCxnSpPr/>
          <p:nvPr/>
        </p:nvCxnSpPr>
        <p:spPr>
          <a:xfrm>
            <a:off x="18803520" y="380520"/>
            <a:ext cx="1080" cy="708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50" name=""/>
          <p:cNvCxnSpPr/>
          <p:nvPr/>
        </p:nvCxnSpPr>
        <p:spPr>
          <a:xfrm>
            <a:off x="18803880" y="380520"/>
            <a:ext cx="704160" cy="708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8045000" y="4935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516600" y="623880"/>
            <a:ext cx="24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9259640" y="457200"/>
            <a:ext cx="24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>
            <a:stCxn id="44" idx="2"/>
          </p:cNvCxnSpPr>
          <p:nvPr/>
        </p:nvCxnSpPr>
        <p:spPr>
          <a:xfrm flipH="1">
            <a:off x="5180760" y="3048120"/>
            <a:ext cx="1677600" cy="9907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55" name=""/>
          <p:cNvSpPr/>
          <p:nvPr/>
        </p:nvSpPr>
        <p:spPr>
          <a:xfrm>
            <a:off x="4572000" y="3886200"/>
            <a:ext cx="685800" cy="68580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44" idx="2"/>
            <a:endCxn id="57" idx="0"/>
          </p:cNvCxnSpPr>
          <p:nvPr/>
        </p:nvCxnSpPr>
        <p:spPr>
          <a:xfrm flipH="1">
            <a:off x="6363000" y="3048120"/>
            <a:ext cx="495360" cy="838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57" name=""/>
          <p:cNvSpPr/>
          <p:nvPr/>
        </p:nvSpPr>
        <p:spPr>
          <a:xfrm>
            <a:off x="6019920" y="3886200"/>
            <a:ext cx="1676160" cy="685800"/>
          </a:xfrm>
          <a:custGeom>
            <a:avLst/>
            <a:gdLst>
              <a:gd name="textAreaLeft" fmla="*/ 212040 w 1676160"/>
              <a:gd name="textAreaRight" fmla="*/ 1464120 w 1676160"/>
              <a:gd name="textAreaTop" fmla="*/ 212040 h 685800"/>
              <a:gd name="textAreaBottom" fmla="*/ 473760 h 685800"/>
            </a:gdLst>
            <a:ahLst/>
            <a:rect l="textAreaLeft" t="textAreaTop" r="textAreaRight" b="textAreaBottom"/>
            <a:pathLst>
              <a:path w="52776" h="21600">
                <a:moveTo>
                  <a:pt x="9450" y="0"/>
                </a:moveTo>
                <a:arcTo wR="9450" hR="9450" stAng="0" swAng="5400000"/>
                <a:lnTo>
                  <a:pt x="0" y="12150"/>
                </a:lnTo>
                <a:arcTo wR="9450" hR="9450" stAng="16200000" swAng="5400000"/>
                <a:lnTo>
                  <a:pt x="43326" y="21600"/>
                </a:lnTo>
                <a:arcTo wR="9450" hR="9450" stAng="10800000" swAng="5400000"/>
                <a:lnTo>
                  <a:pt x="52776" y="9450"/>
                </a:lnTo>
                <a:arcTo wR="9450" hR="945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2801600" y="4038480"/>
            <a:ext cx="914400" cy="457200"/>
          </a:xfrm>
          <a:prstGeom prst="hexagon">
            <a:avLst>
              <a:gd name="adj" fmla="val 50000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6" idx="2"/>
            <a:endCxn id="58" idx="0"/>
          </p:cNvCxnSpPr>
          <p:nvPr/>
        </p:nvCxnSpPr>
        <p:spPr>
          <a:xfrm flipH="1">
            <a:off x="13258800" y="3048120"/>
            <a:ext cx="2667240" cy="9907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60" name=""/>
          <p:cNvSpPr/>
          <p:nvPr/>
        </p:nvSpPr>
        <p:spPr>
          <a:xfrm>
            <a:off x="14096880" y="3886200"/>
            <a:ext cx="1676520" cy="685800"/>
          </a:xfrm>
          <a:custGeom>
            <a:avLst/>
            <a:gdLst>
              <a:gd name="textAreaLeft" fmla="*/ 212040 w 1676520"/>
              <a:gd name="textAreaRight" fmla="*/ 1464480 w 1676520"/>
              <a:gd name="textAreaTop" fmla="*/ 212040 h 685800"/>
              <a:gd name="textAreaBottom" fmla="*/ 473760 h 685800"/>
            </a:gdLst>
            <a:ahLst/>
            <a:rect l="textAreaLeft" t="textAreaTop" r="textAreaRight" b="textAreaBottom"/>
            <a:pathLst>
              <a:path w="52787" h="21600">
                <a:moveTo>
                  <a:pt x="9450" y="0"/>
                </a:moveTo>
                <a:arcTo wR="9450" hR="9450" stAng="0" swAng="5400000"/>
                <a:lnTo>
                  <a:pt x="0" y="12150"/>
                </a:lnTo>
                <a:arcTo wR="9450" hR="9450" stAng="16200000" swAng="5400000"/>
                <a:lnTo>
                  <a:pt x="43337" y="21600"/>
                </a:lnTo>
                <a:arcTo wR="9450" hR="9450" stAng="10800000" swAng="5400000"/>
                <a:lnTo>
                  <a:pt x="52787" y="9450"/>
                </a:lnTo>
                <a:arcTo wR="9450" hR="945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"/>
          <p:cNvCxnSpPr>
            <a:stCxn id="46" idx="2"/>
            <a:endCxn id="60" idx="0"/>
          </p:cNvCxnSpPr>
          <p:nvPr/>
        </p:nvCxnSpPr>
        <p:spPr>
          <a:xfrm flipH="1">
            <a:off x="14439960" y="3048120"/>
            <a:ext cx="1486080" cy="838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62" name=""/>
          <p:cNvSpPr/>
          <p:nvPr/>
        </p:nvSpPr>
        <p:spPr>
          <a:xfrm>
            <a:off x="8610480" y="3886200"/>
            <a:ext cx="1524240" cy="6094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"/>
          <p:cNvCxnSpPr>
            <a:stCxn id="44" idx="2"/>
            <a:endCxn id="62" idx="0"/>
          </p:cNvCxnSpPr>
          <p:nvPr/>
        </p:nvCxnSpPr>
        <p:spPr>
          <a:xfrm>
            <a:off x="6858000" y="3048120"/>
            <a:ext cx="2514960" cy="838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64" name=""/>
          <p:cNvSpPr/>
          <p:nvPr/>
        </p:nvSpPr>
        <p:spPr>
          <a:xfrm>
            <a:off x="17068680" y="3962520"/>
            <a:ext cx="1524240" cy="6094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"/>
          <p:cNvCxnSpPr>
            <a:stCxn id="46" idx="2"/>
            <a:endCxn id="64" idx="0"/>
          </p:cNvCxnSpPr>
          <p:nvPr/>
        </p:nvCxnSpPr>
        <p:spPr>
          <a:xfrm>
            <a:off x="15925680" y="3048120"/>
            <a:ext cx="1905480" cy="914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66" name=""/>
          <p:cNvSpPr/>
          <p:nvPr/>
        </p:nvSpPr>
        <p:spPr>
          <a:xfrm>
            <a:off x="671400" y="1763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0920" y="32608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95080" y="48880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705720" y="5715000"/>
            <a:ext cx="914400" cy="457200"/>
          </a:xfrm>
          <a:prstGeom prst="hexagon">
            <a:avLst>
              <a:gd name="adj" fmla="val 50000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2" idx="2"/>
            <a:endCxn id="69" idx="0"/>
          </p:cNvCxnSpPr>
          <p:nvPr/>
        </p:nvCxnSpPr>
        <p:spPr>
          <a:xfrm flipH="1">
            <a:off x="7162920" y="4495680"/>
            <a:ext cx="2210040" cy="1219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71" name=""/>
          <p:cNvSpPr/>
          <p:nvPr/>
        </p:nvSpPr>
        <p:spPr>
          <a:xfrm>
            <a:off x="8534520" y="5562720"/>
            <a:ext cx="1676160" cy="685800"/>
          </a:xfrm>
          <a:custGeom>
            <a:avLst/>
            <a:gdLst>
              <a:gd name="textAreaLeft" fmla="*/ 212040 w 1676160"/>
              <a:gd name="textAreaRight" fmla="*/ 1464120 w 1676160"/>
              <a:gd name="textAreaTop" fmla="*/ 212040 h 685800"/>
              <a:gd name="textAreaBottom" fmla="*/ 473760 h 685800"/>
            </a:gdLst>
            <a:ahLst/>
            <a:rect l="textAreaLeft" t="textAreaTop" r="textAreaRight" b="textAreaBottom"/>
            <a:pathLst>
              <a:path w="52776" h="21600">
                <a:moveTo>
                  <a:pt x="9450" y="0"/>
                </a:moveTo>
                <a:arcTo wR="9450" hR="9450" stAng="0" swAng="5400000"/>
                <a:lnTo>
                  <a:pt x="0" y="12150"/>
                </a:lnTo>
                <a:arcTo wR="9450" hR="9450" stAng="16200000" swAng="5400000"/>
                <a:lnTo>
                  <a:pt x="43326" y="21600"/>
                </a:lnTo>
                <a:arcTo wR="9450" hR="9450" stAng="10800000" swAng="5400000"/>
                <a:lnTo>
                  <a:pt x="52776" y="9450"/>
                </a:lnTo>
                <a:arcTo wR="9450" hR="945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2" idx="2"/>
            <a:endCxn id="71" idx="0"/>
          </p:cNvCxnSpPr>
          <p:nvPr/>
        </p:nvCxnSpPr>
        <p:spPr>
          <a:xfrm flipH="1">
            <a:off x="8877600" y="4495680"/>
            <a:ext cx="495360" cy="1067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73" name=""/>
          <p:cNvSpPr/>
          <p:nvPr/>
        </p:nvSpPr>
        <p:spPr>
          <a:xfrm>
            <a:off x="10820520" y="5638680"/>
            <a:ext cx="1523880" cy="6098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"/>
          <p:cNvCxnSpPr>
            <a:stCxn id="62" idx="2"/>
            <a:endCxn id="73" idx="0"/>
          </p:cNvCxnSpPr>
          <p:nvPr/>
        </p:nvCxnSpPr>
        <p:spPr>
          <a:xfrm>
            <a:off x="9372600" y="4495680"/>
            <a:ext cx="2210040" cy="1143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75" name=""/>
          <p:cNvSpPr/>
          <p:nvPr/>
        </p:nvSpPr>
        <p:spPr>
          <a:xfrm>
            <a:off x="15621120" y="5715000"/>
            <a:ext cx="914400" cy="457200"/>
          </a:xfrm>
          <a:prstGeom prst="hexagon">
            <a:avLst>
              <a:gd name="adj" fmla="val 50000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64" idx="2"/>
            <a:endCxn id="75" idx="0"/>
          </p:cNvCxnSpPr>
          <p:nvPr/>
        </p:nvCxnSpPr>
        <p:spPr>
          <a:xfrm flipH="1">
            <a:off x="16078320" y="4572000"/>
            <a:ext cx="1752840" cy="1143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77" name=""/>
          <p:cNvSpPr/>
          <p:nvPr/>
        </p:nvSpPr>
        <p:spPr>
          <a:xfrm>
            <a:off x="16992720" y="5562720"/>
            <a:ext cx="1676160" cy="685800"/>
          </a:xfrm>
          <a:custGeom>
            <a:avLst/>
            <a:gdLst>
              <a:gd name="textAreaLeft" fmla="*/ 212040 w 1676160"/>
              <a:gd name="textAreaRight" fmla="*/ 1464120 w 1676160"/>
              <a:gd name="textAreaTop" fmla="*/ 212040 h 685800"/>
              <a:gd name="textAreaBottom" fmla="*/ 473760 h 685800"/>
            </a:gdLst>
            <a:ahLst/>
            <a:rect l="textAreaLeft" t="textAreaTop" r="textAreaRight" b="textAreaBottom"/>
            <a:pathLst>
              <a:path w="52776" h="21600">
                <a:moveTo>
                  <a:pt x="9450" y="0"/>
                </a:moveTo>
                <a:arcTo wR="9450" hR="9450" stAng="0" swAng="5400000"/>
                <a:lnTo>
                  <a:pt x="0" y="12150"/>
                </a:lnTo>
                <a:arcTo wR="9450" hR="9450" stAng="16200000" swAng="5400000"/>
                <a:lnTo>
                  <a:pt x="43326" y="21600"/>
                </a:lnTo>
                <a:arcTo wR="9450" hR="9450" stAng="10800000" swAng="5400000"/>
                <a:lnTo>
                  <a:pt x="52776" y="9450"/>
                </a:lnTo>
                <a:arcTo wR="9450" hR="945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"/>
          <p:cNvCxnSpPr>
            <a:stCxn id="64" idx="2"/>
            <a:endCxn id="77" idx="0"/>
          </p:cNvCxnSpPr>
          <p:nvPr/>
        </p:nvCxnSpPr>
        <p:spPr>
          <a:xfrm flipH="1">
            <a:off x="17335800" y="4572000"/>
            <a:ext cx="495360" cy="99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79" name=""/>
          <p:cNvSpPr/>
          <p:nvPr/>
        </p:nvSpPr>
        <p:spPr>
          <a:xfrm>
            <a:off x="19278720" y="5638680"/>
            <a:ext cx="1523880" cy="6098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"/>
          <p:cNvCxnSpPr>
            <a:stCxn id="64" idx="2"/>
            <a:endCxn id="79" idx="0"/>
          </p:cNvCxnSpPr>
          <p:nvPr/>
        </p:nvCxnSpPr>
        <p:spPr>
          <a:xfrm>
            <a:off x="17830800" y="4572000"/>
            <a:ext cx="2210040" cy="10670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81" name=""/>
          <p:cNvSpPr/>
          <p:nvPr/>
        </p:nvSpPr>
        <p:spPr>
          <a:xfrm>
            <a:off x="17373600" y="7238880"/>
            <a:ext cx="914400" cy="457200"/>
          </a:xfrm>
          <a:prstGeom prst="hexagon">
            <a:avLst>
              <a:gd name="adj" fmla="val 50000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"/>
          <p:cNvCxnSpPr>
            <a:stCxn id="79" idx="2"/>
            <a:endCxn id="81" idx="0"/>
          </p:cNvCxnSpPr>
          <p:nvPr/>
        </p:nvCxnSpPr>
        <p:spPr>
          <a:xfrm flipH="1">
            <a:off x="17830800" y="6248520"/>
            <a:ext cx="2210040" cy="9907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83" name=""/>
          <p:cNvSpPr/>
          <p:nvPr/>
        </p:nvSpPr>
        <p:spPr>
          <a:xfrm>
            <a:off x="19202400" y="7086600"/>
            <a:ext cx="1676520" cy="685800"/>
          </a:xfrm>
          <a:custGeom>
            <a:avLst/>
            <a:gdLst>
              <a:gd name="textAreaLeft" fmla="*/ 212040 w 1676520"/>
              <a:gd name="textAreaRight" fmla="*/ 1464480 w 1676520"/>
              <a:gd name="textAreaTop" fmla="*/ 212040 h 685800"/>
              <a:gd name="textAreaBottom" fmla="*/ 473760 h 685800"/>
            </a:gdLst>
            <a:ahLst/>
            <a:rect l="textAreaLeft" t="textAreaTop" r="textAreaRight" b="textAreaBottom"/>
            <a:pathLst>
              <a:path w="52787" h="21600">
                <a:moveTo>
                  <a:pt x="9450" y="0"/>
                </a:moveTo>
                <a:arcTo wR="9450" hR="9450" stAng="0" swAng="5400000"/>
                <a:lnTo>
                  <a:pt x="0" y="12150"/>
                </a:lnTo>
                <a:arcTo wR="9450" hR="9450" stAng="16200000" swAng="5400000"/>
                <a:lnTo>
                  <a:pt x="43337" y="21600"/>
                </a:lnTo>
                <a:arcTo wR="9450" hR="9450" stAng="10800000" swAng="5400000"/>
                <a:lnTo>
                  <a:pt x="52787" y="9450"/>
                </a:lnTo>
                <a:arcTo wR="9450" hR="945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9" idx="2"/>
            <a:endCxn id="83" idx="0"/>
          </p:cNvCxnSpPr>
          <p:nvPr/>
        </p:nvCxnSpPr>
        <p:spPr>
          <a:xfrm flipH="1">
            <a:off x="19545480" y="6248520"/>
            <a:ext cx="495360" cy="838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85" name=""/>
          <p:cNvSpPr/>
          <p:nvPr/>
        </p:nvSpPr>
        <p:spPr>
          <a:xfrm>
            <a:off x="9296280" y="7162920"/>
            <a:ext cx="914400" cy="457200"/>
          </a:xfrm>
          <a:prstGeom prst="hexagon">
            <a:avLst>
              <a:gd name="adj" fmla="val 50000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73" idx="2"/>
            <a:endCxn id="85" idx="0"/>
          </p:cNvCxnSpPr>
          <p:nvPr/>
        </p:nvCxnSpPr>
        <p:spPr>
          <a:xfrm flipH="1">
            <a:off x="9753480" y="6248520"/>
            <a:ext cx="1829160" cy="914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87" name=""/>
          <p:cNvSpPr/>
          <p:nvPr/>
        </p:nvSpPr>
        <p:spPr>
          <a:xfrm>
            <a:off x="610920" y="64008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744200" y="7086600"/>
            <a:ext cx="1676520" cy="685800"/>
          </a:xfrm>
          <a:custGeom>
            <a:avLst/>
            <a:gdLst>
              <a:gd name="textAreaLeft" fmla="*/ 212040 w 1676520"/>
              <a:gd name="textAreaRight" fmla="*/ 1464480 w 1676520"/>
              <a:gd name="textAreaTop" fmla="*/ 212040 h 685800"/>
              <a:gd name="textAreaBottom" fmla="*/ 473760 h 685800"/>
            </a:gdLst>
            <a:ahLst/>
            <a:rect l="textAreaLeft" t="textAreaTop" r="textAreaRight" b="textAreaBottom"/>
            <a:pathLst>
              <a:path w="52787" h="21600">
                <a:moveTo>
                  <a:pt x="9450" y="0"/>
                </a:moveTo>
                <a:arcTo wR="9450" hR="9450" stAng="0" swAng="5400000"/>
                <a:lnTo>
                  <a:pt x="0" y="12150"/>
                </a:lnTo>
                <a:arcTo wR="9450" hR="9450" stAng="16200000" swAng="5400000"/>
                <a:lnTo>
                  <a:pt x="43337" y="21600"/>
                </a:lnTo>
                <a:arcTo wR="9450" hR="9450" stAng="10800000" swAng="5400000"/>
                <a:lnTo>
                  <a:pt x="52787" y="9450"/>
                </a:lnTo>
                <a:arcTo wR="9450" hR="945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stCxn id="73" idx="2"/>
            <a:endCxn id="88" idx="0"/>
          </p:cNvCxnSpPr>
          <p:nvPr/>
        </p:nvCxnSpPr>
        <p:spPr>
          <a:xfrm flipH="1">
            <a:off x="11087280" y="6248520"/>
            <a:ext cx="495360" cy="838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90" name=""/>
          <p:cNvSpPr/>
          <p:nvPr/>
        </p:nvSpPr>
        <p:spPr>
          <a:xfrm>
            <a:off x="12953880" y="7162920"/>
            <a:ext cx="1524240" cy="6094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"/>
          <p:cNvCxnSpPr>
            <a:stCxn id="73" idx="2"/>
            <a:endCxn id="90" idx="0"/>
          </p:cNvCxnSpPr>
          <p:nvPr/>
        </p:nvCxnSpPr>
        <p:spPr>
          <a:xfrm>
            <a:off x="11582280" y="6248520"/>
            <a:ext cx="2134080" cy="914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92" name=""/>
          <p:cNvSpPr/>
          <p:nvPr/>
        </p:nvSpPr>
        <p:spPr>
          <a:xfrm>
            <a:off x="11430000" y="8534520"/>
            <a:ext cx="914400" cy="457200"/>
          </a:xfrm>
          <a:prstGeom prst="hexagon">
            <a:avLst>
              <a:gd name="adj" fmla="val 50000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"/>
          <p:cNvCxnSpPr>
            <a:stCxn id="90" idx="2"/>
            <a:endCxn id="92" idx="0"/>
          </p:cNvCxnSpPr>
          <p:nvPr/>
        </p:nvCxnSpPr>
        <p:spPr>
          <a:xfrm flipH="1">
            <a:off x="11887200" y="7772400"/>
            <a:ext cx="1829160" cy="76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94" name=""/>
          <p:cNvSpPr/>
          <p:nvPr/>
        </p:nvSpPr>
        <p:spPr>
          <a:xfrm>
            <a:off x="12877920" y="8534520"/>
            <a:ext cx="1676160" cy="685800"/>
          </a:xfrm>
          <a:custGeom>
            <a:avLst/>
            <a:gdLst>
              <a:gd name="textAreaLeft" fmla="*/ 212040 w 1676160"/>
              <a:gd name="textAreaRight" fmla="*/ 1464120 w 1676160"/>
              <a:gd name="textAreaTop" fmla="*/ 212040 h 685800"/>
              <a:gd name="textAreaBottom" fmla="*/ 473760 h 685800"/>
            </a:gdLst>
            <a:ahLst/>
            <a:rect l="textAreaLeft" t="textAreaTop" r="textAreaRight" b="textAreaBottom"/>
            <a:pathLst>
              <a:path w="52776" h="21600">
                <a:moveTo>
                  <a:pt x="9450" y="0"/>
                </a:moveTo>
                <a:arcTo wR="9450" hR="9450" stAng="0" swAng="5400000"/>
                <a:lnTo>
                  <a:pt x="0" y="12150"/>
                </a:lnTo>
                <a:arcTo wR="9450" hR="9450" stAng="16200000" swAng="5400000"/>
                <a:lnTo>
                  <a:pt x="43326" y="21600"/>
                </a:lnTo>
                <a:arcTo wR="9450" hR="9450" stAng="10800000" swAng="5400000"/>
                <a:lnTo>
                  <a:pt x="52776" y="9450"/>
                </a:lnTo>
                <a:arcTo wR="9450" hR="945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"/>
          <p:cNvCxnSpPr>
            <a:stCxn id="90" idx="2"/>
            <a:endCxn id="94" idx="0"/>
          </p:cNvCxnSpPr>
          <p:nvPr/>
        </p:nvCxnSpPr>
        <p:spPr>
          <a:xfrm flipH="1">
            <a:off x="13221000" y="7772400"/>
            <a:ext cx="495360" cy="76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96" name=""/>
          <p:cNvSpPr/>
          <p:nvPr/>
        </p:nvSpPr>
        <p:spPr>
          <a:xfrm>
            <a:off x="610920" y="79088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534520" y="9448920"/>
            <a:ext cx="1523880" cy="7617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+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+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"/>
          <p:cNvCxnSpPr>
            <a:stCxn id="97" idx="2"/>
          </p:cNvCxnSpPr>
          <p:nvPr/>
        </p:nvCxnSpPr>
        <p:spPr>
          <a:xfrm flipH="1">
            <a:off x="1751760" y="10210680"/>
            <a:ext cx="7544880" cy="1143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99" name=""/>
          <p:cNvCxnSpPr>
            <a:stCxn id="97" idx="2"/>
            <a:endCxn id="100" idx="0"/>
          </p:cNvCxnSpPr>
          <p:nvPr/>
        </p:nvCxnSpPr>
        <p:spPr>
          <a:xfrm flipH="1">
            <a:off x="5867280" y="10210680"/>
            <a:ext cx="3429360" cy="914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101" name=""/>
          <p:cNvCxnSpPr>
            <a:stCxn id="97" idx="2"/>
            <a:endCxn id="102" idx="0"/>
          </p:cNvCxnSpPr>
          <p:nvPr/>
        </p:nvCxnSpPr>
        <p:spPr>
          <a:xfrm>
            <a:off x="9296280" y="10210680"/>
            <a:ext cx="5639040" cy="8388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103" name=""/>
          <p:cNvCxnSpPr>
            <a:stCxn id="100" idx="2"/>
          </p:cNvCxnSpPr>
          <p:nvPr/>
        </p:nvCxnSpPr>
        <p:spPr>
          <a:xfrm flipH="1">
            <a:off x="4114440" y="11887200"/>
            <a:ext cx="1753200" cy="915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104" name=""/>
          <p:cNvCxnSpPr>
            <a:stCxn id="100" idx="2"/>
            <a:endCxn id="105" idx="0"/>
          </p:cNvCxnSpPr>
          <p:nvPr/>
        </p:nvCxnSpPr>
        <p:spPr>
          <a:xfrm flipH="1">
            <a:off x="5334120" y="11887200"/>
            <a:ext cx="533520" cy="686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105" name=""/>
          <p:cNvSpPr/>
          <p:nvPr/>
        </p:nvSpPr>
        <p:spPr>
          <a:xfrm>
            <a:off x="4876920" y="12573000"/>
            <a:ext cx="1981080" cy="914400"/>
          </a:xfrm>
          <a:custGeom>
            <a:avLst/>
            <a:gdLst>
              <a:gd name="textAreaLeft" fmla="*/ 282960 w 1981080"/>
              <a:gd name="textAreaRight" fmla="*/ 1698120 w 1981080"/>
              <a:gd name="textAreaTop" fmla="*/ 282960 h 914400"/>
              <a:gd name="textAreaBottom" fmla="*/ 631440 h 914400"/>
            </a:gdLst>
            <a:ahLst/>
            <a:rect l="textAreaLeft" t="textAreaTop" r="textAreaRight" b="textAreaBottom"/>
            <a:pathLst>
              <a:path w="46787" h="21600">
                <a:moveTo>
                  <a:pt x="9450" y="0"/>
                </a:moveTo>
                <a:arcTo wR="9450" hR="9450" stAng="0" swAng="5400000"/>
                <a:lnTo>
                  <a:pt x="0" y="12150"/>
                </a:lnTo>
                <a:arcTo wR="9450" hR="9450" stAng="16200000" swAng="5400000"/>
                <a:lnTo>
                  <a:pt x="37337" y="21600"/>
                </a:lnTo>
                <a:arcTo wR="9450" hR="9450" stAng="10800000" swAng="5400000"/>
                <a:lnTo>
                  <a:pt x="46787" y="9450"/>
                </a:lnTo>
                <a:arcTo wR="9450" hR="945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+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+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0" idx="2"/>
            <a:endCxn id="107" idx="0"/>
          </p:cNvCxnSpPr>
          <p:nvPr/>
        </p:nvCxnSpPr>
        <p:spPr>
          <a:xfrm>
            <a:off x="5867280" y="11887200"/>
            <a:ext cx="2514960" cy="76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108" name=""/>
          <p:cNvSpPr/>
          <p:nvPr/>
        </p:nvSpPr>
        <p:spPr>
          <a:xfrm>
            <a:off x="671400" y="105267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0920" y="12023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95080" y="136508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715000" y="14478120"/>
            <a:ext cx="914400" cy="457200"/>
          </a:xfrm>
          <a:prstGeom prst="hexagon">
            <a:avLst>
              <a:gd name="adj" fmla="val 50000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"/>
          <p:cNvCxnSpPr>
            <a:stCxn id="107" idx="2"/>
            <a:endCxn id="111" idx="0"/>
          </p:cNvCxnSpPr>
          <p:nvPr/>
        </p:nvCxnSpPr>
        <p:spPr>
          <a:xfrm flipH="1">
            <a:off x="6172200" y="13411080"/>
            <a:ext cx="2210040" cy="1067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113" name=""/>
          <p:cNvCxnSpPr>
            <a:stCxn id="107" idx="2"/>
            <a:endCxn id="114" idx="0"/>
          </p:cNvCxnSpPr>
          <p:nvPr/>
        </p:nvCxnSpPr>
        <p:spPr>
          <a:xfrm flipH="1">
            <a:off x="7848720" y="13411080"/>
            <a:ext cx="533520" cy="914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115" name=""/>
          <p:cNvCxnSpPr>
            <a:stCxn id="107" idx="2"/>
            <a:endCxn id="116" idx="0"/>
          </p:cNvCxnSpPr>
          <p:nvPr/>
        </p:nvCxnSpPr>
        <p:spPr>
          <a:xfrm>
            <a:off x="8381880" y="13411080"/>
            <a:ext cx="2210040" cy="99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117" name=""/>
          <p:cNvSpPr/>
          <p:nvPr/>
        </p:nvSpPr>
        <p:spPr>
          <a:xfrm>
            <a:off x="7848720" y="16002000"/>
            <a:ext cx="1371600" cy="457200"/>
          </a:xfrm>
          <a:prstGeom prst="hexagon">
            <a:avLst>
              <a:gd name="adj" fmla="val 75000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+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"/>
          <p:cNvCxnSpPr>
            <a:stCxn id="116" idx="2"/>
            <a:endCxn id="117" idx="0"/>
          </p:cNvCxnSpPr>
          <p:nvPr/>
        </p:nvCxnSpPr>
        <p:spPr>
          <a:xfrm flipH="1">
            <a:off x="8534520" y="15163920"/>
            <a:ext cx="2057400" cy="838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119" name=""/>
          <p:cNvSpPr/>
          <p:nvPr/>
        </p:nvSpPr>
        <p:spPr>
          <a:xfrm>
            <a:off x="610920" y="15163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"/>
          <p:cNvCxnSpPr>
            <a:stCxn id="116" idx="2"/>
            <a:endCxn id="121" idx="0"/>
          </p:cNvCxnSpPr>
          <p:nvPr/>
        </p:nvCxnSpPr>
        <p:spPr>
          <a:xfrm flipH="1">
            <a:off x="10058400" y="15163920"/>
            <a:ext cx="533520" cy="609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122" name=""/>
          <p:cNvCxnSpPr>
            <a:stCxn id="116" idx="2"/>
            <a:endCxn id="123" idx="0"/>
          </p:cNvCxnSpPr>
          <p:nvPr/>
        </p:nvCxnSpPr>
        <p:spPr>
          <a:xfrm>
            <a:off x="10591560" y="15163920"/>
            <a:ext cx="2134080" cy="686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124" name=""/>
          <p:cNvSpPr/>
          <p:nvPr/>
        </p:nvSpPr>
        <p:spPr>
          <a:xfrm>
            <a:off x="9677520" y="17373600"/>
            <a:ext cx="1066680" cy="457200"/>
          </a:xfrm>
          <a:prstGeom prst="hexagon">
            <a:avLst>
              <a:gd name="adj" fmla="val 58327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+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"/>
          <p:cNvCxnSpPr>
            <a:stCxn id="123" idx="2"/>
            <a:endCxn id="124" idx="0"/>
          </p:cNvCxnSpPr>
          <p:nvPr/>
        </p:nvCxnSpPr>
        <p:spPr>
          <a:xfrm flipH="1">
            <a:off x="10211040" y="16611480"/>
            <a:ext cx="2514600" cy="76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126" name=""/>
          <p:cNvCxnSpPr>
            <a:stCxn id="123" idx="2"/>
            <a:endCxn id="127" idx="0"/>
          </p:cNvCxnSpPr>
          <p:nvPr/>
        </p:nvCxnSpPr>
        <p:spPr>
          <a:xfrm flipH="1">
            <a:off x="12192120" y="16611480"/>
            <a:ext cx="533520" cy="61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128" name=""/>
          <p:cNvSpPr/>
          <p:nvPr/>
        </p:nvSpPr>
        <p:spPr>
          <a:xfrm>
            <a:off x="610920" y="16671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195280" y="304920"/>
            <a:ext cx="135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= dea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43000" y="11277720"/>
            <a:ext cx="838080" cy="83808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1125080"/>
            <a:ext cx="152388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+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+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00400" y="12649320"/>
            <a:ext cx="990720" cy="83808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620120" y="12649320"/>
            <a:ext cx="1523880" cy="7617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+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+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391520" y="14325480"/>
            <a:ext cx="1981080" cy="914400"/>
          </a:xfrm>
          <a:custGeom>
            <a:avLst/>
            <a:gdLst>
              <a:gd name="textAreaLeft" fmla="*/ 282960 w 1981080"/>
              <a:gd name="textAreaRight" fmla="*/ 1698120 w 1981080"/>
              <a:gd name="textAreaTop" fmla="*/ 282960 h 914400"/>
              <a:gd name="textAreaBottom" fmla="*/ 631440 h 914400"/>
            </a:gdLst>
            <a:ahLst/>
            <a:rect l="textAreaLeft" t="textAreaTop" r="textAreaRight" b="textAreaBottom"/>
            <a:pathLst>
              <a:path w="46787" h="21600">
                <a:moveTo>
                  <a:pt x="9450" y="0"/>
                </a:moveTo>
                <a:arcTo wR="9450" hR="9450" stAng="0" swAng="5400000"/>
                <a:lnTo>
                  <a:pt x="0" y="12150"/>
                </a:lnTo>
                <a:arcTo wR="9450" hR="9450" stAng="16200000" swAng="5400000"/>
                <a:lnTo>
                  <a:pt x="37337" y="21600"/>
                </a:lnTo>
                <a:arcTo wR="9450" hR="9450" stAng="10800000" swAng="5400000"/>
                <a:lnTo>
                  <a:pt x="46787" y="9450"/>
                </a:lnTo>
                <a:arcTo wR="9450" hR="945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+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+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829800" y="14401800"/>
            <a:ext cx="152388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+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+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601200" y="15773400"/>
            <a:ext cx="1981080" cy="914400"/>
          </a:xfrm>
          <a:custGeom>
            <a:avLst/>
            <a:gdLst>
              <a:gd name="textAreaLeft" fmla="*/ 282960 w 1981080"/>
              <a:gd name="textAreaRight" fmla="*/ 1698120 w 1981080"/>
              <a:gd name="textAreaTop" fmla="*/ 282960 h 914400"/>
              <a:gd name="textAreaBottom" fmla="*/ 631440 h 914400"/>
            </a:gdLst>
            <a:ahLst/>
            <a:rect l="textAreaLeft" t="textAreaTop" r="textAreaRight" b="textAreaBottom"/>
            <a:pathLst>
              <a:path w="46787" h="21600">
                <a:moveTo>
                  <a:pt x="9450" y="0"/>
                </a:moveTo>
                <a:arcTo wR="9450" hR="9450" stAng="0" swAng="5400000"/>
                <a:lnTo>
                  <a:pt x="0" y="12150"/>
                </a:lnTo>
                <a:arcTo wR="9450" hR="9450" stAng="16200000" swAng="5400000"/>
                <a:lnTo>
                  <a:pt x="37337" y="21600"/>
                </a:lnTo>
                <a:arcTo wR="9450" hR="9450" stAng="10800000" swAng="5400000"/>
                <a:lnTo>
                  <a:pt x="46787" y="9450"/>
                </a:lnTo>
                <a:arcTo wR="9450" hR="945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+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+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963520" y="15849720"/>
            <a:ext cx="1523880" cy="7617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+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+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734920" y="17221320"/>
            <a:ext cx="1981080" cy="914400"/>
          </a:xfrm>
          <a:custGeom>
            <a:avLst/>
            <a:gdLst>
              <a:gd name="textAreaLeft" fmla="*/ 282960 w 1981080"/>
              <a:gd name="textAreaRight" fmla="*/ 1698120 w 1981080"/>
              <a:gd name="textAreaTop" fmla="*/ 282960 h 914400"/>
              <a:gd name="textAreaBottom" fmla="*/ 631440 h 914400"/>
            </a:gdLst>
            <a:ahLst/>
            <a:rect l="textAreaLeft" t="textAreaTop" r="textAreaRight" b="textAreaBottom"/>
            <a:pathLst>
              <a:path w="46787" h="21600">
                <a:moveTo>
                  <a:pt x="9450" y="0"/>
                </a:moveTo>
                <a:arcTo wR="9450" hR="9450" stAng="0" swAng="5400000"/>
                <a:lnTo>
                  <a:pt x="0" y="12150"/>
                </a:lnTo>
                <a:arcTo wR="9450" hR="9450" stAng="16200000" swAng="5400000"/>
                <a:lnTo>
                  <a:pt x="37337" y="21600"/>
                </a:lnTo>
                <a:arcTo wR="9450" hR="9450" stAng="10800000" swAng="5400000"/>
                <a:lnTo>
                  <a:pt x="46787" y="9450"/>
                </a:lnTo>
                <a:arcTo wR="9450" hR="945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+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+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115800" y="18897480"/>
            <a:ext cx="1295280" cy="457200"/>
          </a:xfrm>
          <a:prstGeom prst="hexagon">
            <a:avLst>
              <a:gd name="adj" fmla="val 70827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+ 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"/>
          <p:cNvCxnSpPr>
            <a:stCxn id="134" idx="2"/>
            <a:endCxn id="132" idx="0"/>
          </p:cNvCxnSpPr>
          <p:nvPr/>
        </p:nvCxnSpPr>
        <p:spPr>
          <a:xfrm flipH="1">
            <a:off x="12763440" y="18135720"/>
            <a:ext cx="2629080" cy="762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135" name=""/>
          <p:cNvCxnSpPr>
            <a:stCxn id="134" idx="2"/>
            <a:endCxn id="136" idx="0"/>
          </p:cNvCxnSpPr>
          <p:nvPr/>
        </p:nvCxnSpPr>
        <p:spPr>
          <a:xfrm flipH="1">
            <a:off x="14859000" y="18135720"/>
            <a:ext cx="533520" cy="609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134" name=""/>
          <p:cNvSpPr/>
          <p:nvPr/>
        </p:nvSpPr>
        <p:spPr>
          <a:xfrm>
            <a:off x="14630400" y="17373600"/>
            <a:ext cx="152388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+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+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401800" y="18745200"/>
            <a:ext cx="1981080" cy="914400"/>
          </a:xfrm>
          <a:custGeom>
            <a:avLst/>
            <a:gdLst>
              <a:gd name="textAreaLeft" fmla="*/ 282960 w 1981080"/>
              <a:gd name="textAreaRight" fmla="*/ 1698120 w 1981080"/>
              <a:gd name="textAreaTop" fmla="*/ 282960 h 914400"/>
              <a:gd name="textAreaBottom" fmla="*/ 631440 h 914400"/>
            </a:gdLst>
            <a:ahLst/>
            <a:rect l="textAreaLeft" t="textAreaTop" r="textAreaRight" b="textAreaBottom"/>
            <a:pathLst>
              <a:path w="46787" h="21600">
                <a:moveTo>
                  <a:pt x="9450" y="0"/>
                </a:moveTo>
                <a:arcTo wR="9450" hR="9450" stAng="0" swAng="5400000"/>
                <a:lnTo>
                  <a:pt x="0" y="12150"/>
                </a:lnTo>
                <a:arcTo wR="9450" hR="9450" stAng="16200000" swAng="5400000"/>
                <a:lnTo>
                  <a:pt x="37337" y="21600"/>
                </a:lnTo>
                <a:arcTo wR="9450" hR="9450" stAng="10800000" swAng="5400000"/>
                <a:lnTo>
                  <a:pt x="46787" y="9450"/>
                </a:lnTo>
                <a:arcTo wR="9450" hR="945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+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+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23" idx="2"/>
            <a:endCxn id="134" idx="0"/>
          </p:cNvCxnSpPr>
          <p:nvPr/>
        </p:nvCxnSpPr>
        <p:spPr>
          <a:xfrm>
            <a:off x="12725280" y="16611480"/>
            <a:ext cx="2667240" cy="76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138" name=""/>
          <p:cNvSpPr/>
          <p:nvPr/>
        </p:nvSpPr>
        <p:spPr>
          <a:xfrm>
            <a:off x="12268080" y="12953880"/>
            <a:ext cx="914400" cy="457200"/>
          </a:xfrm>
          <a:prstGeom prst="hexagon">
            <a:avLst>
              <a:gd name="adj" fmla="val 50000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02" idx="2"/>
            <a:endCxn id="138" idx="0"/>
          </p:cNvCxnSpPr>
          <p:nvPr/>
        </p:nvCxnSpPr>
        <p:spPr>
          <a:xfrm flipH="1">
            <a:off x="12725280" y="11810880"/>
            <a:ext cx="2210040" cy="1143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140" name=""/>
          <p:cNvCxnSpPr>
            <a:stCxn id="102" idx="2"/>
            <a:endCxn id="141" idx="0"/>
          </p:cNvCxnSpPr>
          <p:nvPr/>
        </p:nvCxnSpPr>
        <p:spPr>
          <a:xfrm flipH="1">
            <a:off x="14401800" y="11810880"/>
            <a:ext cx="533520" cy="914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142" name=""/>
          <p:cNvCxnSpPr>
            <a:stCxn id="102" idx="2"/>
            <a:endCxn id="143" idx="0"/>
          </p:cNvCxnSpPr>
          <p:nvPr/>
        </p:nvCxnSpPr>
        <p:spPr>
          <a:xfrm>
            <a:off x="14934960" y="11810880"/>
            <a:ext cx="2210400" cy="99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144" name=""/>
          <p:cNvSpPr/>
          <p:nvPr/>
        </p:nvSpPr>
        <p:spPr>
          <a:xfrm>
            <a:off x="14401800" y="14401800"/>
            <a:ext cx="1371600" cy="457200"/>
          </a:xfrm>
          <a:prstGeom prst="hexagon">
            <a:avLst>
              <a:gd name="adj" fmla="val 75000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+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3" idx="2"/>
            <a:endCxn id="144" idx="0"/>
          </p:cNvCxnSpPr>
          <p:nvPr/>
        </p:nvCxnSpPr>
        <p:spPr>
          <a:xfrm flipH="1">
            <a:off x="15087600" y="13563720"/>
            <a:ext cx="2057760" cy="838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146" name=""/>
          <p:cNvCxnSpPr>
            <a:stCxn id="143" idx="2"/>
            <a:endCxn id="147" idx="0"/>
          </p:cNvCxnSpPr>
          <p:nvPr/>
        </p:nvCxnSpPr>
        <p:spPr>
          <a:xfrm flipH="1">
            <a:off x="16611480" y="13563720"/>
            <a:ext cx="533880" cy="609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148" name=""/>
          <p:cNvCxnSpPr>
            <a:stCxn id="143" idx="2"/>
            <a:endCxn id="149" idx="0"/>
          </p:cNvCxnSpPr>
          <p:nvPr/>
        </p:nvCxnSpPr>
        <p:spPr>
          <a:xfrm>
            <a:off x="17145000" y="13563720"/>
            <a:ext cx="2133720" cy="686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150" name=""/>
          <p:cNvSpPr/>
          <p:nvPr/>
        </p:nvSpPr>
        <p:spPr>
          <a:xfrm>
            <a:off x="15849720" y="15773400"/>
            <a:ext cx="1447560" cy="457200"/>
          </a:xfrm>
          <a:prstGeom prst="hexagon">
            <a:avLst>
              <a:gd name="adj" fmla="val 79154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+ 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1" name=""/>
          <p:cNvCxnSpPr>
            <a:stCxn id="149" idx="2"/>
            <a:endCxn id="150" idx="0"/>
          </p:cNvCxnSpPr>
          <p:nvPr/>
        </p:nvCxnSpPr>
        <p:spPr>
          <a:xfrm flipH="1">
            <a:off x="16573680" y="15011280"/>
            <a:ext cx="2705040" cy="76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152" name=""/>
          <p:cNvCxnSpPr>
            <a:stCxn id="149" idx="2"/>
            <a:endCxn id="153" idx="0"/>
          </p:cNvCxnSpPr>
          <p:nvPr/>
        </p:nvCxnSpPr>
        <p:spPr>
          <a:xfrm flipH="1">
            <a:off x="18745200" y="15011280"/>
            <a:ext cx="533520" cy="61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102" name=""/>
          <p:cNvSpPr/>
          <p:nvPr/>
        </p:nvSpPr>
        <p:spPr>
          <a:xfrm>
            <a:off x="14173200" y="11049120"/>
            <a:ext cx="1523880" cy="7617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+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+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3944600" y="12725280"/>
            <a:ext cx="1981080" cy="914400"/>
          </a:xfrm>
          <a:custGeom>
            <a:avLst/>
            <a:gdLst>
              <a:gd name="textAreaLeft" fmla="*/ 282960 w 1981080"/>
              <a:gd name="textAreaRight" fmla="*/ 1698120 w 1981080"/>
              <a:gd name="textAreaTop" fmla="*/ 282960 h 914400"/>
              <a:gd name="textAreaBottom" fmla="*/ 631440 h 914400"/>
            </a:gdLst>
            <a:ahLst/>
            <a:rect l="textAreaLeft" t="textAreaTop" r="textAreaRight" b="textAreaBottom"/>
            <a:pathLst>
              <a:path w="46787" h="21600">
                <a:moveTo>
                  <a:pt x="9450" y="0"/>
                </a:moveTo>
                <a:arcTo wR="9450" hR="9450" stAng="0" swAng="5400000"/>
                <a:lnTo>
                  <a:pt x="0" y="12150"/>
                </a:lnTo>
                <a:arcTo wR="9450" hR="9450" stAng="16200000" swAng="5400000"/>
                <a:lnTo>
                  <a:pt x="37337" y="21600"/>
                </a:lnTo>
                <a:arcTo wR="9450" hR="9450" stAng="10800000" swAng="5400000"/>
                <a:lnTo>
                  <a:pt x="46787" y="9450"/>
                </a:lnTo>
                <a:arcTo wR="9450" hR="945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+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+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6382880" y="12801600"/>
            <a:ext cx="152424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+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+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154280" y="14173200"/>
            <a:ext cx="1981440" cy="914400"/>
          </a:xfrm>
          <a:custGeom>
            <a:avLst/>
            <a:gdLst>
              <a:gd name="textAreaLeft" fmla="*/ 282960 w 1981440"/>
              <a:gd name="textAreaRight" fmla="*/ 1698480 w 1981440"/>
              <a:gd name="textAreaTop" fmla="*/ 282960 h 914400"/>
              <a:gd name="textAreaBottom" fmla="*/ 631440 h 914400"/>
            </a:gdLst>
            <a:ahLst/>
            <a:rect l="textAreaLeft" t="textAreaTop" r="textAreaRight" b="textAreaBottom"/>
            <a:pathLst>
              <a:path w="46796" h="21600">
                <a:moveTo>
                  <a:pt x="9450" y="0"/>
                </a:moveTo>
                <a:arcTo wR="9450" hR="9450" stAng="0" swAng="5400000"/>
                <a:lnTo>
                  <a:pt x="0" y="12150"/>
                </a:lnTo>
                <a:arcTo wR="9450" hR="9450" stAng="16200000" swAng="5400000"/>
                <a:lnTo>
                  <a:pt x="37346" y="21600"/>
                </a:lnTo>
                <a:arcTo wR="9450" hR="9450" stAng="10800000" swAng="5400000"/>
                <a:lnTo>
                  <a:pt x="46796" y="9450"/>
                </a:lnTo>
                <a:arcTo wR="9450" hR="945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+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+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8516600" y="14249520"/>
            <a:ext cx="1523880" cy="7617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+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+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8288000" y="15621120"/>
            <a:ext cx="1981080" cy="914400"/>
          </a:xfrm>
          <a:custGeom>
            <a:avLst/>
            <a:gdLst>
              <a:gd name="textAreaLeft" fmla="*/ 282960 w 1981080"/>
              <a:gd name="textAreaRight" fmla="*/ 1698120 w 1981080"/>
              <a:gd name="textAreaTop" fmla="*/ 282960 h 914400"/>
              <a:gd name="textAreaBottom" fmla="*/ 631440 h 914400"/>
            </a:gdLst>
            <a:ahLst/>
            <a:rect l="textAreaLeft" t="textAreaTop" r="textAreaRight" b="textAreaBottom"/>
            <a:pathLst>
              <a:path w="46787" h="21600">
                <a:moveTo>
                  <a:pt x="9450" y="0"/>
                </a:moveTo>
                <a:arcTo wR="9450" hR="9450" stAng="0" swAng="5400000"/>
                <a:lnTo>
                  <a:pt x="0" y="12150"/>
                </a:lnTo>
                <a:arcTo wR="9450" hR="9450" stAng="16200000" swAng="5400000"/>
                <a:lnTo>
                  <a:pt x="37337" y="21600"/>
                </a:lnTo>
                <a:arcTo wR="9450" hR="9450" stAng="10800000" swAng="5400000"/>
                <a:lnTo>
                  <a:pt x="46787" y="9450"/>
                </a:lnTo>
                <a:arcTo wR="9450" hR="945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+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+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8668880" y="17297280"/>
            <a:ext cx="1295640" cy="457200"/>
          </a:xfrm>
          <a:prstGeom prst="hexagon">
            <a:avLst>
              <a:gd name="adj" fmla="val 70846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+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5" name=""/>
          <p:cNvCxnSpPr>
            <a:stCxn id="156" idx="2"/>
            <a:endCxn id="154" idx="0"/>
          </p:cNvCxnSpPr>
          <p:nvPr/>
        </p:nvCxnSpPr>
        <p:spPr>
          <a:xfrm flipH="1">
            <a:off x="19316880" y="16535520"/>
            <a:ext cx="2629080" cy="762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157" name=""/>
          <p:cNvCxnSpPr>
            <a:stCxn id="156" idx="2"/>
            <a:endCxn id="158" idx="0"/>
          </p:cNvCxnSpPr>
          <p:nvPr/>
        </p:nvCxnSpPr>
        <p:spPr>
          <a:xfrm flipH="1">
            <a:off x="21412080" y="16535520"/>
            <a:ext cx="533880" cy="609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156" name=""/>
          <p:cNvSpPr/>
          <p:nvPr/>
        </p:nvSpPr>
        <p:spPr>
          <a:xfrm>
            <a:off x="21183480" y="15773400"/>
            <a:ext cx="152424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+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+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0954880" y="17145000"/>
            <a:ext cx="1981440" cy="914400"/>
          </a:xfrm>
          <a:custGeom>
            <a:avLst/>
            <a:gdLst>
              <a:gd name="textAreaLeft" fmla="*/ 282960 w 1981440"/>
              <a:gd name="textAreaRight" fmla="*/ 1698480 w 1981440"/>
              <a:gd name="textAreaTop" fmla="*/ 282960 h 914400"/>
              <a:gd name="textAreaBottom" fmla="*/ 631440 h 914400"/>
            </a:gdLst>
            <a:ahLst/>
            <a:rect l="textAreaLeft" t="textAreaTop" r="textAreaRight" b="textAreaBottom"/>
            <a:pathLst>
              <a:path w="46796" h="21600">
                <a:moveTo>
                  <a:pt x="9450" y="0"/>
                </a:moveTo>
                <a:arcTo wR="9450" hR="9450" stAng="0" swAng="5400000"/>
                <a:lnTo>
                  <a:pt x="0" y="12150"/>
                </a:lnTo>
                <a:arcTo wR="9450" hR="9450" stAng="16200000" swAng="5400000"/>
                <a:lnTo>
                  <a:pt x="37346" y="21600"/>
                </a:lnTo>
                <a:arcTo wR="9450" hR="9450" stAng="10800000" swAng="5400000"/>
                <a:lnTo>
                  <a:pt x="46796" y="9450"/>
                </a:lnTo>
                <a:arcTo wR="9450" hR="945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+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+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49" idx="2"/>
            <a:endCxn id="156" idx="0"/>
          </p:cNvCxnSpPr>
          <p:nvPr/>
        </p:nvCxnSpPr>
        <p:spPr>
          <a:xfrm>
            <a:off x="19278360" y="15011280"/>
            <a:ext cx="2667600" cy="76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grpSp>
        <p:nvGrpSpPr>
          <p:cNvPr id="160" name=""/>
          <p:cNvGrpSpPr/>
          <p:nvPr/>
        </p:nvGrpSpPr>
        <p:grpSpPr>
          <a:xfrm>
            <a:off x="1066320" y="1980720"/>
            <a:ext cx="22174560" cy="6145920"/>
            <a:chOff x="1066320" y="1980720"/>
            <a:chExt cx="22174560" cy="6145920"/>
          </a:xfrm>
        </p:grpSpPr>
        <p:cxnSp>
          <p:nvCxnSpPr>
            <p:cNvPr id="161" name=""/>
            <p:cNvCxnSpPr/>
            <p:nvPr/>
          </p:nvCxnSpPr>
          <p:spPr>
            <a:xfrm>
              <a:off x="1147320" y="1980720"/>
              <a:ext cx="220939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162" name=""/>
            <p:cNvCxnSpPr/>
            <p:nvPr/>
          </p:nvCxnSpPr>
          <p:spPr>
            <a:xfrm>
              <a:off x="1083240" y="3477960"/>
              <a:ext cx="220939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163" name=""/>
            <p:cNvCxnSpPr/>
            <p:nvPr/>
          </p:nvCxnSpPr>
          <p:spPr>
            <a:xfrm>
              <a:off x="1066320" y="5105160"/>
              <a:ext cx="220942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164" name=""/>
            <p:cNvCxnSpPr/>
            <p:nvPr/>
          </p:nvCxnSpPr>
          <p:spPr>
            <a:xfrm>
              <a:off x="1083240" y="6617880"/>
              <a:ext cx="220939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165" name=""/>
            <p:cNvCxnSpPr/>
            <p:nvPr/>
          </p:nvCxnSpPr>
          <p:spPr>
            <a:xfrm>
              <a:off x="1083240" y="8125920"/>
              <a:ext cx="220939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</p:cxnSp>
      </p:grpSp>
      <p:grpSp>
        <p:nvGrpSpPr>
          <p:cNvPr id="166" name=""/>
          <p:cNvGrpSpPr/>
          <p:nvPr/>
        </p:nvGrpSpPr>
        <p:grpSpPr>
          <a:xfrm>
            <a:off x="1066680" y="10743840"/>
            <a:ext cx="22250160" cy="7669800"/>
            <a:chOff x="1066680" y="10743840"/>
            <a:chExt cx="22250160" cy="7669800"/>
          </a:xfrm>
        </p:grpSpPr>
        <p:cxnSp>
          <p:nvCxnSpPr>
            <p:cNvPr id="167" name=""/>
            <p:cNvCxnSpPr/>
            <p:nvPr/>
          </p:nvCxnSpPr>
          <p:spPr>
            <a:xfrm>
              <a:off x="1147320" y="10743840"/>
              <a:ext cx="221698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168" name=""/>
            <p:cNvCxnSpPr/>
            <p:nvPr/>
          </p:nvCxnSpPr>
          <p:spPr>
            <a:xfrm>
              <a:off x="1082880" y="12240720"/>
              <a:ext cx="221698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169" name=""/>
            <p:cNvCxnSpPr/>
            <p:nvPr/>
          </p:nvCxnSpPr>
          <p:spPr>
            <a:xfrm>
              <a:off x="1066680" y="13867920"/>
              <a:ext cx="2217024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170" name=""/>
            <p:cNvCxnSpPr/>
            <p:nvPr/>
          </p:nvCxnSpPr>
          <p:spPr>
            <a:xfrm>
              <a:off x="1082880" y="15380640"/>
              <a:ext cx="221698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171" name=""/>
            <p:cNvCxnSpPr/>
            <p:nvPr/>
          </p:nvCxnSpPr>
          <p:spPr>
            <a:xfrm>
              <a:off x="1082880" y="16889040"/>
              <a:ext cx="221698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172" name=""/>
            <p:cNvCxnSpPr/>
            <p:nvPr/>
          </p:nvCxnSpPr>
          <p:spPr>
            <a:xfrm>
              <a:off x="1082880" y="18412920"/>
              <a:ext cx="221698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</p:cxnSp>
      </p:grpSp>
      <p:sp>
        <p:nvSpPr>
          <p:cNvPr id="173" name=""/>
          <p:cNvSpPr/>
          <p:nvPr/>
        </p:nvSpPr>
        <p:spPr>
          <a:xfrm>
            <a:off x="610920" y="181958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550360" y="19507320"/>
            <a:ext cx="1523880" cy="7617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+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+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" name=""/>
          <p:cNvCxnSpPr>
            <a:stCxn id="174" idx="2"/>
          </p:cNvCxnSpPr>
          <p:nvPr/>
        </p:nvCxnSpPr>
        <p:spPr>
          <a:xfrm flipH="1">
            <a:off x="1767600" y="20269080"/>
            <a:ext cx="7544880" cy="1143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176" name=""/>
          <p:cNvCxnSpPr>
            <a:stCxn id="174" idx="2"/>
            <a:endCxn id="177" idx="0"/>
          </p:cNvCxnSpPr>
          <p:nvPr/>
        </p:nvCxnSpPr>
        <p:spPr>
          <a:xfrm flipH="1">
            <a:off x="5883120" y="20269080"/>
            <a:ext cx="3429360" cy="914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178" name=""/>
          <p:cNvCxnSpPr>
            <a:stCxn id="174" idx="2"/>
            <a:endCxn id="179" idx="0"/>
          </p:cNvCxnSpPr>
          <p:nvPr/>
        </p:nvCxnSpPr>
        <p:spPr>
          <a:xfrm>
            <a:off x="9312120" y="20269080"/>
            <a:ext cx="5639040" cy="8388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180" name=""/>
          <p:cNvCxnSpPr>
            <a:stCxn id="177" idx="2"/>
          </p:cNvCxnSpPr>
          <p:nvPr/>
        </p:nvCxnSpPr>
        <p:spPr>
          <a:xfrm flipH="1">
            <a:off x="4130280" y="21945600"/>
            <a:ext cx="1753200" cy="915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181" name=""/>
          <p:cNvCxnSpPr>
            <a:stCxn id="177" idx="2"/>
            <a:endCxn id="182" idx="0"/>
          </p:cNvCxnSpPr>
          <p:nvPr/>
        </p:nvCxnSpPr>
        <p:spPr>
          <a:xfrm flipH="1">
            <a:off x="5349960" y="21945600"/>
            <a:ext cx="533520" cy="686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182" name=""/>
          <p:cNvSpPr/>
          <p:nvPr/>
        </p:nvSpPr>
        <p:spPr>
          <a:xfrm>
            <a:off x="4892760" y="22631400"/>
            <a:ext cx="1981080" cy="914400"/>
          </a:xfrm>
          <a:custGeom>
            <a:avLst/>
            <a:gdLst>
              <a:gd name="textAreaLeft" fmla="*/ 282960 w 1981080"/>
              <a:gd name="textAreaRight" fmla="*/ 1698120 w 1981080"/>
              <a:gd name="textAreaTop" fmla="*/ 282960 h 914400"/>
              <a:gd name="textAreaBottom" fmla="*/ 631440 h 914400"/>
            </a:gdLst>
            <a:ahLst/>
            <a:rect l="textAreaLeft" t="textAreaTop" r="textAreaRight" b="textAreaBottom"/>
            <a:pathLst>
              <a:path w="46787" h="21600">
                <a:moveTo>
                  <a:pt x="9450" y="0"/>
                </a:moveTo>
                <a:arcTo wR="9450" hR="9450" stAng="0" swAng="5400000"/>
                <a:lnTo>
                  <a:pt x="0" y="12150"/>
                </a:lnTo>
                <a:arcTo wR="9450" hR="9450" stAng="16200000" swAng="5400000"/>
                <a:lnTo>
                  <a:pt x="37337" y="21600"/>
                </a:lnTo>
                <a:arcTo wR="9450" hR="9450" stAng="10800000" swAng="5400000"/>
                <a:lnTo>
                  <a:pt x="46787" y="9450"/>
                </a:lnTo>
                <a:arcTo wR="9450" hR="945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+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+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"/>
          <p:cNvCxnSpPr>
            <a:stCxn id="177" idx="2"/>
            <a:endCxn id="184" idx="0"/>
          </p:cNvCxnSpPr>
          <p:nvPr/>
        </p:nvCxnSpPr>
        <p:spPr>
          <a:xfrm>
            <a:off x="5883120" y="21945600"/>
            <a:ext cx="2514960" cy="76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185" name=""/>
          <p:cNvSpPr/>
          <p:nvPr/>
        </p:nvSpPr>
        <p:spPr>
          <a:xfrm>
            <a:off x="687240" y="205851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26760" y="220820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10920" y="237092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30840" y="24536520"/>
            <a:ext cx="914400" cy="457200"/>
          </a:xfrm>
          <a:prstGeom prst="hexagon">
            <a:avLst>
              <a:gd name="adj" fmla="val 50000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84" idx="2"/>
            <a:endCxn id="188" idx="0"/>
          </p:cNvCxnSpPr>
          <p:nvPr/>
        </p:nvCxnSpPr>
        <p:spPr>
          <a:xfrm flipH="1">
            <a:off x="6188040" y="23469480"/>
            <a:ext cx="2210040" cy="1067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190" name=""/>
          <p:cNvCxnSpPr>
            <a:stCxn id="184" idx="2"/>
            <a:endCxn id="191" idx="0"/>
          </p:cNvCxnSpPr>
          <p:nvPr/>
        </p:nvCxnSpPr>
        <p:spPr>
          <a:xfrm flipH="1">
            <a:off x="7864560" y="23469480"/>
            <a:ext cx="533520" cy="914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192" name=""/>
          <p:cNvCxnSpPr>
            <a:stCxn id="184" idx="2"/>
            <a:endCxn id="193" idx="0"/>
          </p:cNvCxnSpPr>
          <p:nvPr/>
        </p:nvCxnSpPr>
        <p:spPr>
          <a:xfrm>
            <a:off x="8397720" y="23469480"/>
            <a:ext cx="2210040" cy="99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194" name=""/>
          <p:cNvSpPr/>
          <p:nvPr/>
        </p:nvSpPr>
        <p:spPr>
          <a:xfrm>
            <a:off x="7864560" y="26060400"/>
            <a:ext cx="1371600" cy="457200"/>
          </a:xfrm>
          <a:prstGeom prst="hexagon">
            <a:avLst>
              <a:gd name="adj" fmla="val 75000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+ 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"/>
          <p:cNvCxnSpPr>
            <a:stCxn id="193" idx="2"/>
            <a:endCxn id="194" idx="0"/>
          </p:cNvCxnSpPr>
          <p:nvPr/>
        </p:nvCxnSpPr>
        <p:spPr>
          <a:xfrm flipH="1">
            <a:off x="8550360" y="25222320"/>
            <a:ext cx="2057400" cy="838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196" name=""/>
          <p:cNvSpPr/>
          <p:nvPr/>
        </p:nvSpPr>
        <p:spPr>
          <a:xfrm>
            <a:off x="626760" y="252223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" name=""/>
          <p:cNvCxnSpPr>
            <a:stCxn id="193" idx="2"/>
            <a:endCxn id="198" idx="0"/>
          </p:cNvCxnSpPr>
          <p:nvPr/>
        </p:nvCxnSpPr>
        <p:spPr>
          <a:xfrm flipH="1">
            <a:off x="10074240" y="25222320"/>
            <a:ext cx="533520" cy="609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199" name=""/>
          <p:cNvCxnSpPr>
            <a:stCxn id="193" idx="2"/>
            <a:endCxn id="200" idx="0"/>
          </p:cNvCxnSpPr>
          <p:nvPr/>
        </p:nvCxnSpPr>
        <p:spPr>
          <a:xfrm>
            <a:off x="10607400" y="25222320"/>
            <a:ext cx="2134080" cy="686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201" name=""/>
          <p:cNvSpPr/>
          <p:nvPr/>
        </p:nvSpPr>
        <p:spPr>
          <a:xfrm>
            <a:off x="9693360" y="27432000"/>
            <a:ext cx="1066680" cy="457200"/>
          </a:xfrm>
          <a:prstGeom prst="hexagon">
            <a:avLst>
              <a:gd name="adj" fmla="val 58327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+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2" name=""/>
          <p:cNvCxnSpPr>
            <a:stCxn id="200" idx="2"/>
            <a:endCxn id="201" idx="0"/>
          </p:cNvCxnSpPr>
          <p:nvPr/>
        </p:nvCxnSpPr>
        <p:spPr>
          <a:xfrm flipH="1">
            <a:off x="10226880" y="26669880"/>
            <a:ext cx="2514600" cy="76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203" name=""/>
          <p:cNvCxnSpPr>
            <a:stCxn id="200" idx="2"/>
            <a:endCxn id="204" idx="0"/>
          </p:cNvCxnSpPr>
          <p:nvPr/>
        </p:nvCxnSpPr>
        <p:spPr>
          <a:xfrm flipH="1">
            <a:off x="12207960" y="26669880"/>
            <a:ext cx="533520" cy="61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205" name=""/>
          <p:cNvSpPr/>
          <p:nvPr/>
        </p:nvSpPr>
        <p:spPr>
          <a:xfrm>
            <a:off x="626760" y="26730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158840" y="21336120"/>
            <a:ext cx="838080" cy="83808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21360" y="21183480"/>
            <a:ext cx="152388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+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+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16240" y="22707720"/>
            <a:ext cx="990720" cy="83808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35960" y="22707720"/>
            <a:ext cx="1523880" cy="7617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+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+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407360" y="24383880"/>
            <a:ext cx="1981080" cy="914400"/>
          </a:xfrm>
          <a:custGeom>
            <a:avLst/>
            <a:gdLst>
              <a:gd name="textAreaLeft" fmla="*/ 282960 w 1981080"/>
              <a:gd name="textAreaRight" fmla="*/ 1698120 w 1981080"/>
              <a:gd name="textAreaTop" fmla="*/ 282960 h 914400"/>
              <a:gd name="textAreaBottom" fmla="*/ 631440 h 914400"/>
            </a:gdLst>
            <a:ahLst/>
            <a:rect l="textAreaLeft" t="textAreaTop" r="textAreaRight" b="textAreaBottom"/>
            <a:pathLst>
              <a:path w="46787" h="21600">
                <a:moveTo>
                  <a:pt x="9450" y="0"/>
                </a:moveTo>
                <a:arcTo wR="9450" hR="9450" stAng="0" swAng="5400000"/>
                <a:lnTo>
                  <a:pt x="0" y="12150"/>
                </a:lnTo>
                <a:arcTo wR="9450" hR="9450" stAng="16200000" swAng="5400000"/>
                <a:lnTo>
                  <a:pt x="37337" y="21600"/>
                </a:lnTo>
                <a:arcTo wR="9450" hR="9450" stAng="10800000" swAng="5400000"/>
                <a:lnTo>
                  <a:pt x="46787" y="9450"/>
                </a:lnTo>
                <a:arcTo wR="9450" hR="945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+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+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9845640" y="24460200"/>
            <a:ext cx="152388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+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+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617040" y="25831800"/>
            <a:ext cx="1981080" cy="914400"/>
          </a:xfrm>
          <a:custGeom>
            <a:avLst/>
            <a:gdLst>
              <a:gd name="textAreaLeft" fmla="*/ 282960 w 1981080"/>
              <a:gd name="textAreaRight" fmla="*/ 1698120 w 1981080"/>
              <a:gd name="textAreaTop" fmla="*/ 282960 h 914400"/>
              <a:gd name="textAreaBottom" fmla="*/ 631440 h 914400"/>
            </a:gdLst>
            <a:ahLst/>
            <a:rect l="textAreaLeft" t="textAreaTop" r="textAreaRight" b="textAreaBottom"/>
            <a:pathLst>
              <a:path w="46787" h="21600">
                <a:moveTo>
                  <a:pt x="9450" y="0"/>
                </a:moveTo>
                <a:arcTo wR="9450" hR="9450" stAng="0" swAng="5400000"/>
                <a:lnTo>
                  <a:pt x="0" y="12150"/>
                </a:lnTo>
                <a:arcTo wR="9450" hR="9450" stAng="16200000" swAng="5400000"/>
                <a:lnTo>
                  <a:pt x="37337" y="21600"/>
                </a:lnTo>
                <a:arcTo wR="9450" hR="9450" stAng="10800000" swAng="5400000"/>
                <a:lnTo>
                  <a:pt x="46787" y="9450"/>
                </a:lnTo>
                <a:arcTo wR="9450" hR="945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+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+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1979360" y="25908120"/>
            <a:ext cx="1523880" cy="7617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+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+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750760" y="27279720"/>
            <a:ext cx="1981080" cy="914400"/>
          </a:xfrm>
          <a:custGeom>
            <a:avLst/>
            <a:gdLst>
              <a:gd name="textAreaLeft" fmla="*/ 282960 w 1981080"/>
              <a:gd name="textAreaRight" fmla="*/ 1698120 w 1981080"/>
              <a:gd name="textAreaTop" fmla="*/ 282960 h 914400"/>
              <a:gd name="textAreaBottom" fmla="*/ 631440 h 914400"/>
            </a:gdLst>
            <a:ahLst/>
            <a:rect l="textAreaLeft" t="textAreaTop" r="textAreaRight" b="textAreaBottom"/>
            <a:pathLst>
              <a:path w="46787" h="21600">
                <a:moveTo>
                  <a:pt x="9450" y="0"/>
                </a:moveTo>
                <a:arcTo wR="9450" hR="9450" stAng="0" swAng="5400000"/>
                <a:lnTo>
                  <a:pt x="0" y="12150"/>
                </a:lnTo>
                <a:arcTo wR="9450" hR="9450" stAng="16200000" swAng="5400000"/>
                <a:lnTo>
                  <a:pt x="37337" y="21600"/>
                </a:lnTo>
                <a:arcTo wR="9450" hR="9450" stAng="10800000" swAng="5400000"/>
                <a:lnTo>
                  <a:pt x="46787" y="9450"/>
                </a:lnTo>
                <a:arcTo wR="9450" hR="945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+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+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2131640" y="28955880"/>
            <a:ext cx="1295280" cy="457200"/>
          </a:xfrm>
          <a:prstGeom prst="hexagon">
            <a:avLst>
              <a:gd name="adj" fmla="val 70827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+ 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210" idx="2"/>
            <a:endCxn id="208" idx="0"/>
          </p:cNvCxnSpPr>
          <p:nvPr/>
        </p:nvCxnSpPr>
        <p:spPr>
          <a:xfrm flipH="1">
            <a:off x="12779280" y="28194120"/>
            <a:ext cx="2629080" cy="762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211" name=""/>
          <p:cNvCxnSpPr>
            <a:stCxn id="210" idx="2"/>
            <a:endCxn id="212" idx="0"/>
          </p:cNvCxnSpPr>
          <p:nvPr/>
        </p:nvCxnSpPr>
        <p:spPr>
          <a:xfrm flipH="1">
            <a:off x="14874840" y="28194120"/>
            <a:ext cx="533520" cy="609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210" name=""/>
          <p:cNvSpPr/>
          <p:nvPr/>
        </p:nvSpPr>
        <p:spPr>
          <a:xfrm>
            <a:off x="14646240" y="27432000"/>
            <a:ext cx="152388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+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+ 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4417640" y="28803600"/>
            <a:ext cx="1981080" cy="914400"/>
          </a:xfrm>
          <a:custGeom>
            <a:avLst/>
            <a:gdLst>
              <a:gd name="textAreaLeft" fmla="*/ 282960 w 1981080"/>
              <a:gd name="textAreaRight" fmla="*/ 1698120 w 1981080"/>
              <a:gd name="textAreaTop" fmla="*/ 282960 h 914400"/>
              <a:gd name="textAreaBottom" fmla="*/ 631440 h 914400"/>
            </a:gdLst>
            <a:ahLst/>
            <a:rect l="textAreaLeft" t="textAreaTop" r="textAreaRight" b="textAreaBottom"/>
            <a:pathLst>
              <a:path w="46787" h="21600">
                <a:moveTo>
                  <a:pt x="9450" y="0"/>
                </a:moveTo>
                <a:arcTo wR="9450" hR="9450" stAng="0" swAng="5400000"/>
                <a:lnTo>
                  <a:pt x="0" y="12150"/>
                </a:lnTo>
                <a:arcTo wR="9450" hR="9450" stAng="16200000" swAng="5400000"/>
                <a:lnTo>
                  <a:pt x="37337" y="21600"/>
                </a:lnTo>
                <a:arcTo wR="9450" hR="9450" stAng="10800000" swAng="5400000"/>
                <a:lnTo>
                  <a:pt x="46787" y="9450"/>
                </a:lnTo>
                <a:arcTo wR="9450" hR="945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+ 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+ 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"/>
          <p:cNvCxnSpPr>
            <a:stCxn id="200" idx="2"/>
            <a:endCxn id="210" idx="0"/>
          </p:cNvCxnSpPr>
          <p:nvPr/>
        </p:nvCxnSpPr>
        <p:spPr>
          <a:xfrm>
            <a:off x="12741120" y="26669880"/>
            <a:ext cx="2667240" cy="76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214" name=""/>
          <p:cNvSpPr/>
          <p:nvPr/>
        </p:nvSpPr>
        <p:spPr>
          <a:xfrm>
            <a:off x="12283920" y="23012280"/>
            <a:ext cx="914400" cy="457200"/>
          </a:xfrm>
          <a:prstGeom prst="hexagon">
            <a:avLst>
              <a:gd name="adj" fmla="val 50000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5" name=""/>
          <p:cNvCxnSpPr>
            <a:stCxn id="179" idx="2"/>
            <a:endCxn id="214" idx="0"/>
          </p:cNvCxnSpPr>
          <p:nvPr/>
        </p:nvCxnSpPr>
        <p:spPr>
          <a:xfrm flipH="1">
            <a:off x="12741120" y="21869280"/>
            <a:ext cx="2210040" cy="1143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216" name=""/>
          <p:cNvCxnSpPr>
            <a:stCxn id="179" idx="2"/>
            <a:endCxn id="217" idx="0"/>
          </p:cNvCxnSpPr>
          <p:nvPr/>
        </p:nvCxnSpPr>
        <p:spPr>
          <a:xfrm flipH="1">
            <a:off x="14417640" y="21869280"/>
            <a:ext cx="533520" cy="914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218" name=""/>
          <p:cNvCxnSpPr>
            <a:stCxn id="179" idx="2"/>
            <a:endCxn id="219" idx="0"/>
          </p:cNvCxnSpPr>
          <p:nvPr/>
        </p:nvCxnSpPr>
        <p:spPr>
          <a:xfrm>
            <a:off x="14950800" y="21869280"/>
            <a:ext cx="2210400" cy="99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220" name=""/>
          <p:cNvSpPr/>
          <p:nvPr/>
        </p:nvSpPr>
        <p:spPr>
          <a:xfrm>
            <a:off x="14417640" y="24460200"/>
            <a:ext cx="1371600" cy="457200"/>
          </a:xfrm>
          <a:prstGeom prst="hexagon">
            <a:avLst>
              <a:gd name="adj" fmla="val 75000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+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1" name=""/>
          <p:cNvCxnSpPr>
            <a:stCxn id="219" idx="2"/>
            <a:endCxn id="220" idx="0"/>
          </p:cNvCxnSpPr>
          <p:nvPr/>
        </p:nvCxnSpPr>
        <p:spPr>
          <a:xfrm flipH="1">
            <a:off x="15103440" y="23622120"/>
            <a:ext cx="2057760" cy="838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222" name=""/>
          <p:cNvCxnSpPr>
            <a:stCxn id="219" idx="2"/>
            <a:endCxn id="223" idx="0"/>
          </p:cNvCxnSpPr>
          <p:nvPr/>
        </p:nvCxnSpPr>
        <p:spPr>
          <a:xfrm flipH="1">
            <a:off x="16627320" y="23622120"/>
            <a:ext cx="533880" cy="609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224" name=""/>
          <p:cNvCxnSpPr>
            <a:stCxn id="219" idx="2"/>
            <a:endCxn id="225" idx="0"/>
          </p:cNvCxnSpPr>
          <p:nvPr/>
        </p:nvCxnSpPr>
        <p:spPr>
          <a:xfrm>
            <a:off x="17160840" y="23622120"/>
            <a:ext cx="2133720" cy="686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226" name=""/>
          <p:cNvSpPr/>
          <p:nvPr/>
        </p:nvSpPr>
        <p:spPr>
          <a:xfrm>
            <a:off x="15865560" y="25831800"/>
            <a:ext cx="1447560" cy="457200"/>
          </a:xfrm>
          <a:prstGeom prst="hexagon">
            <a:avLst>
              <a:gd name="adj" fmla="val 79154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+ 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7" name=""/>
          <p:cNvCxnSpPr>
            <a:stCxn id="225" idx="2"/>
            <a:endCxn id="226" idx="0"/>
          </p:cNvCxnSpPr>
          <p:nvPr/>
        </p:nvCxnSpPr>
        <p:spPr>
          <a:xfrm flipH="1">
            <a:off x="16589520" y="25069680"/>
            <a:ext cx="2705040" cy="76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228" name=""/>
          <p:cNvCxnSpPr>
            <a:stCxn id="225" idx="2"/>
            <a:endCxn id="229" idx="0"/>
          </p:cNvCxnSpPr>
          <p:nvPr/>
        </p:nvCxnSpPr>
        <p:spPr>
          <a:xfrm flipH="1">
            <a:off x="18761040" y="25069680"/>
            <a:ext cx="533520" cy="61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179" name=""/>
          <p:cNvSpPr/>
          <p:nvPr/>
        </p:nvSpPr>
        <p:spPr>
          <a:xfrm>
            <a:off x="14189040" y="21107520"/>
            <a:ext cx="1523880" cy="7617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+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+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3960440" y="22783680"/>
            <a:ext cx="1981080" cy="914400"/>
          </a:xfrm>
          <a:custGeom>
            <a:avLst/>
            <a:gdLst>
              <a:gd name="textAreaLeft" fmla="*/ 282960 w 1981080"/>
              <a:gd name="textAreaRight" fmla="*/ 1698120 w 1981080"/>
              <a:gd name="textAreaTop" fmla="*/ 282960 h 914400"/>
              <a:gd name="textAreaBottom" fmla="*/ 631440 h 914400"/>
            </a:gdLst>
            <a:ahLst/>
            <a:rect l="textAreaLeft" t="textAreaTop" r="textAreaRight" b="textAreaBottom"/>
            <a:pathLst>
              <a:path w="46787" h="21600">
                <a:moveTo>
                  <a:pt x="9450" y="0"/>
                </a:moveTo>
                <a:arcTo wR="9450" hR="9450" stAng="0" swAng="5400000"/>
                <a:lnTo>
                  <a:pt x="0" y="12150"/>
                </a:lnTo>
                <a:arcTo wR="9450" hR="9450" stAng="16200000" swAng="5400000"/>
                <a:lnTo>
                  <a:pt x="37337" y="21600"/>
                </a:lnTo>
                <a:arcTo wR="9450" hR="9450" stAng="10800000" swAng="5400000"/>
                <a:lnTo>
                  <a:pt x="46787" y="9450"/>
                </a:lnTo>
                <a:arcTo wR="9450" hR="945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+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+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6398720" y="22860000"/>
            <a:ext cx="152424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+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+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6170120" y="24231600"/>
            <a:ext cx="1981440" cy="914400"/>
          </a:xfrm>
          <a:custGeom>
            <a:avLst/>
            <a:gdLst>
              <a:gd name="textAreaLeft" fmla="*/ 282960 w 1981440"/>
              <a:gd name="textAreaRight" fmla="*/ 1698480 w 1981440"/>
              <a:gd name="textAreaTop" fmla="*/ 282960 h 914400"/>
              <a:gd name="textAreaBottom" fmla="*/ 631440 h 914400"/>
            </a:gdLst>
            <a:ahLst/>
            <a:rect l="textAreaLeft" t="textAreaTop" r="textAreaRight" b="textAreaBottom"/>
            <a:pathLst>
              <a:path w="46796" h="21600">
                <a:moveTo>
                  <a:pt x="9450" y="0"/>
                </a:moveTo>
                <a:arcTo wR="9450" hR="9450" stAng="0" swAng="5400000"/>
                <a:lnTo>
                  <a:pt x="0" y="12150"/>
                </a:lnTo>
                <a:arcTo wR="9450" hR="9450" stAng="16200000" swAng="5400000"/>
                <a:lnTo>
                  <a:pt x="37346" y="21600"/>
                </a:lnTo>
                <a:arcTo wR="9450" hR="9450" stAng="10800000" swAng="5400000"/>
                <a:lnTo>
                  <a:pt x="46796" y="9450"/>
                </a:lnTo>
                <a:arcTo wR="9450" hR="945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+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+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8532440" y="24307920"/>
            <a:ext cx="1523880" cy="7617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+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+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303840" y="25679520"/>
            <a:ext cx="1981080" cy="914400"/>
          </a:xfrm>
          <a:custGeom>
            <a:avLst/>
            <a:gdLst>
              <a:gd name="textAreaLeft" fmla="*/ 282960 w 1981080"/>
              <a:gd name="textAreaRight" fmla="*/ 1698120 w 1981080"/>
              <a:gd name="textAreaTop" fmla="*/ 282960 h 914400"/>
              <a:gd name="textAreaBottom" fmla="*/ 631440 h 914400"/>
            </a:gdLst>
            <a:ahLst/>
            <a:rect l="textAreaLeft" t="textAreaTop" r="textAreaRight" b="textAreaBottom"/>
            <a:pathLst>
              <a:path w="46787" h="21600">
                <a:moveTo>
                  <a:pt x="9450" y="0"/>
                </a:moveTo>
                <a:arcTo wR="9450" hR="9450" stAng="0" swAng="5400000"/>
                <a:lnTo>
                  <a:pt x="0" y="12150"/>
                </a:lnTo>
                <a:arcTo wR="9450" hR="9450" stAng="16200000" swAng="5400000"/>
                <a:lnTo>
                  <a:pt x="37337" y="21600"/>
                </a:lnTo>
                <a:arcTo wR="9450" hR="9450" stAng="10800000" swAng="5400000"/>
                <a:lnTo>
                  <a:pt x="46787" y="9450"/>
                </a:lnTo>
                <a:arcTo wR="9450" hR="945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+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+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684720" y="27355680"/>
            <a:ext cx="1295640" cy="457200"/>
          </a:xfrm>
          <a:prstGeom prst="hexagon">
            <a:avLst>
              <a:gd name="adj" fmla="val 70846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+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1" name=""/>
          <p:cNvCxnSpPr>
            <a:stCxn id="232" idx="2"/>
            <a:endCxn id="230" idx="0"/>
          </p:cNvCxnSpPr>
          <p:nvPr/>
        </p:nvCxnSpPr>
        <p:spPr>
          <a:xfrm flipH="1">
            <a:off x="19332720" y="26593920"/>
            <a:ext cx="2629080" cy="762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233" name=""/>
          <p:cNvCxnSpPr>
            <a:stCxn id="232" idx="2"/>
            <a:endCxn id="234" idx="0"/>
          </p:cNvCxnSpPr>
          <p:nvPr/>
        </p:nvCxnSpPr>
        <p:spPr>
          <a:xfrm flipH="1">
            <a:off x="21427920" y="26593920"/>
            <a:ext cx="533880" cy="609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232" name=""/>
          <p:cNvSpPr/>
          <p:nvPr/>
        </p:nvSpPr>
        <p:spPr>
          <a:xfrm>
            <a:off x="21199320" y="25831800"/>
            <a:ext cx="152424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+ 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+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970720" y="27203400"/>
            <a:ext cx="1981440" cy="914400"/>
          </a:xfrm>
          <a:custGeom>
            <a:avLst/>
            <a:gdLst>
              <a:gd name="textAreaLeft" fmla="*/ 282960 w 1981440"/>
              <a:gd name="textAreaRight" fmla="*/ 1698480 w 1981440"/>
              <a:gd name="textAreaTop" fmla="*/ 282960 h 914400"/>
              <a:gd name="textAreaBottom" fmla="*/ 631440 h 914400"/>
            </a:gdLst>
            <a:ahLst/>
            <a:rect l="textAreaLeft" t="textAreaTop" r="textAreaRight" b="textAreaBottom"/>
            <a:pathLst>
              <a:path w="46796" h="21600">
                <a:moveTo>
                  <a:pt x="9450" y="0"/>
                </a:moveTo>
                <a:arcTo wR="9450" hR="9450" stAng="0" swAng="5400000"/>
                <a:lnTo>
                  <a:pt x="0" y="12150"/>
                </a:lnTo>
                <a:arcTo wR="9450" hR="9450" stAng="16200000" swAng="5400000"/>
                <a:lnTo>
                  <a:pt x="37346" y="21600"/>
                </a:lnTo>
                <a:arcTo wR="9450" hR="9450" stAng="10800000" swAng="5400000"/>
                <a:lnTo>
                  <a:pt x="46796" y="9450"/>
                </a:lnTo>
                <a:arcTo wR="9450" hR="945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+ 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+ 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" name=""/>
          <p:cNvCxnSpPr>
            <a:stCxn id="225" idx="2"/>
            <a:endCxn id="232" idx="0"/>
          </p:cNvCxnSpPr>
          <p:nvPr/>
        </p:nvCxnSpPr>
        <p:spPr>
          <a:xfrm>
            <a:off x="19294200" y="25069680"/>
            <a:ext cx="2667600" cy="76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grpSp>
        <p:nvGrpSpPr>
          <p:cNvPr id="236" name=""/>
          <p:cNvGrpSpPr/>
          <p:nvPr/>
        </p:nvGrpSpPr>
        <p:grpSpPr>
          <a:xfrm>
            <a:off x="1082160" y="20802240"/>
            <a:ext cx="22082760" cy="7669800"/>
            <a:chOff x="1082160" y="20802240"/>
            <a:chExt cx="22082760" cy="7669800"/>
          </a:xfrm>
        </p:grpSpPr>
        <p:cxnSp>
          <p:nvCxnSpPr>
            <p:cNvPr id="237" name=""/>
            <p:cNvCxnSpPr/>
            <p:nvPr/>
          </p:nvCxnSpPr>
          <p:spPr>
            <a:xfrm>
              <a:off x="1162800" y="20802240"/>
              <a:ext cx="220024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238" name=""/>
            <p:cNvCxnSpPr/>
            <p:nvPr/>
          </p:nvCxnSpPr>
          <p:spPr>
            <a:xfrm>
              <a:off x="1099080" y="22299120"/>
              <a:ext cx="220024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239" name=""/>
            <p:cNvCxnSpPr/>
            <p:nvPr/>
          </p:nvCxnSpPr>
          <p:spPr>
            <a:xfrm>
              <a:off x="1082160" y="23926320"/>
              <a:ext cx="2200284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240" name=""/>
            <p:cNvCxnSpPr/>
            <p:nvPr/>
          </p:nvCxnSpPr>
          <p:spPr>
            <a:xfrm>
              <a:off x="1099080" y="25439040"/>
              <a:ext cx="220024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241" name=""/>
            <p:cNvCxnSpPr/>
            <p:nvPr/>
          </p:nvCxnSpPr>
          <p:spPr>
            <a:xfrm>
              <a:off x="1099080" y="26947440"/>
              <a:ext cx="220024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242" name=""/>
            <p:cNvCxnSpPr/>
            <p:nvPr/>
          </p:nvCxnSpPr>
          <p:spPr>
            <a:xfrm>
              <a:off x="1099080" y="28471320"/>
              <a:ext cx="220024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</p:cxnSp>
      </p:grpSp>
      <p:sp>
        <p:nvSpPr>
          <p:cNvPr id="243" name=""/>
          <p:cNvSpPr/>
          <p:nvPr/>
        </p:nvSpPr>
        <p:spPr>
          <a:xfrm>
            <a:off x="626760" y="282542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977760" y="49680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boardc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009440" y="914400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boardc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93240" y="19354680"/>
            <a:ext cx="221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,5 boardc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2997880" y="10177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2937760" y="25146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921920" y="41418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2937760" y="56545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2937760" y="7162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3013720" y="9753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2953600" y="112507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2937760" y="12877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2953600" y="1439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2953600" y="15898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3069520" y="174340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3013720" y="198277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2953600" y="21324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2937760" y="229521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2953600" y="244648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2953600" y="25972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3069520" y="275083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17:16:40Z</dcterms:created>
  <dc:creator>Adam M Smith</dc:creator>
  <dc:description/>
  <dc:language>en-US</dc:language>
  <cp:lastModifiedBy>Adam M Smith</cp:lastModifiedBy>
  <dcterms:modified xsi:type="dcterms:W3CDTF">2005-06-26T13:26:26Z</dcterms:modified>
  <cp:revision>7</cp:revision>
  <dc:subject/>
  <dc:title>Slide 1</dc:title>
</cp:coreProperties>
</file>