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ACB5-ABEC-4AE9-90F9-31DD47728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8E11-7053-4793-BFCE-620A7ED2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1141-0783-4926-8B83-31E337E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2602-EB85-4CC0-B4DD-0DB918CAB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5DAB-CB2E-4308-B56C-D912920A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37A8-55AC-45D3-8871-1AAF8AC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9913-73A5-4EB6-AAA8-D7E9F26F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1C0C-E7EF-4090-AC84-1C94725C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286920"/>
            <a:ext cx="84931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A1D1-1AEB-437E-A505-9F37A6A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203C-B400-467D-976A-4382E44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43BE-4AA7-4919-B03E-120DAC7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86560"/>
            <a:ext cx="849312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996D-5E25-4AC0-BDC8-254DB2BC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31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800" y="72230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ny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40360" y="719928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AFFBF6-73F8-40F7-BDBD-7F8138030F35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28800" y="2652840"/>
            <a:ext cx="695016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8000" spc="-1" strike="noStrike">
                <a:solidFill>
                  <a:srgbClr val="000000"/>
                </a:solidFill>
                <a:latin typeface="Arial"/>
              </a:rPr>
              <a:t>Meaningful</a:t>
            </a:r>
            <a:br>
              <a:rPr sz="8000"/>
            </a:br>
            <a:r>
              <a:rPr b="0" lang="en-AU" sz="8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731880"/>
            <a:ext cx="74073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3840" y="1096920"/>
            <a:ext cx="508788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class Lengt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 .toMeter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raise "Oops - you invoked an abstract class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class Inches(Leng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 .toMeter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tag Meters (* .self 0.025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class Meters(Leng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 .toMeters() .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 .add(ot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tag 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+ (.to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other (.to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9280" y="179280"/>
            <a:ext cx="5087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ine a-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tag Meter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define a-foot (tag Inches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eq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a-foot (.add a-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Courier 10 Pitch"/>
              </a:rPr>
              <a:t>1.3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2280" y="1633680"/>
            <a:ext cx="9306000" cy="399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pen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6440" y="204840"/>
            <a:ext cx="973944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3840" y="477720"/>
            <a:ext cx="58024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@prefix foaf 'http://xmlns.com/foaf/0.1/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 foaf:Person 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 .valid? (obj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# simple type inference from foaf:age to foaf: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ob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bound? ^.foaf: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 Kid (foaf:Pers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 .valid? (obj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ob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&lt; .foaf:age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 Senior (foaf:Pers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 .valid? (obj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ob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between 60 .foaf:age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 Boomer (foaf:Pers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 .valid? (obj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ob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between 45 .foaf:age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38400" y="660240"/>
            <a:ext cx="580212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ine ne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foaf:name = "Neil Wheedon Watkins Py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foaf:age  = 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bong =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ine vyvy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foaf:name = "Vyvya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foaf:age  = 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3840" y="477720"/>
            <a:ext cx="58024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 foaf: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efine ri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d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.name = (tag foaf:name "Rick") # not legal in RDF 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6240" y="457200"/>
            <a:ext cx="580212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ify foaf:Person ne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classify foaf:Person vyvy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as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is-instance? neil Hipp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is-instance? vyvyan Boo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    </a:t>
            </a:r>
            <a:r>
              <a:rPr b="0" lang="en-AU" sz="2200" spc="-1" strike="noStrike">
                <a:solidFill>
                  <a:srgbClr val="000000"/>
                </a:solidFill>
                <a:latin typeface="Courier 10 Pitch"/>
              </a:rPr>
              <a:t>is-instance? rick!name foaf: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96920" y="1096920"/>
            <a:ext cx="722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escription Log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35000" y="1511280"/>
          <a:ext cx="9069120" cy="1614600"/>
        </p:xfrm>
        <a:graphic>
          <a:graphicData uri="http://schemas.openxmlformats.org/drawingml/2006/table">
            <a:tbl>
              <a:tblPr/>
              <a:tblGrid>
                <a:gridCol w="3022920"/>
                <a:gridCol w="3023280"/>
                <a:gridCol w="302292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OW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Geny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Indiv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Axi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RDF, OW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: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Triplestor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- 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639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: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Rules Engin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Subsumption</a:t>
                      </a:r>
                      <a:br>
                        <a:rPr sz="1800"/>
                      </a:b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Instance Che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Role Checking</a:t>
                      </a:r>
                      <a:br>
                        <a:rPr sz="1800"/>
                      </a:b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Class Consistency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mantic Web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029960"/>
            <a:ext cx="906948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viduals are globally identified by URI and are called 'resources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iples: Subject → Predicate →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ources can belong to man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xioms about classes of individuals are collected into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tologies are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80"/>
                </a:solidFill>
                <a:latin typeface="Arial"/>
              </a:rPr>
              <a:t>'Triplification' of data → 'Linked Data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80"/>
                </a:solidFill>
                <a:latin typeface="Arial"/>
              </a:rPr>
              <a:t>'Webizing' of programming languages – Use URIs for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80"/>
                </a:solidFill>
                <a:latin typeface="Arial"/>
              </a:rPr>
              <a:t>Favour </a:t>
            </a:r>
            <a:r>
              <a:rPr b="0" i="1" lang="en-AU" sz="2800" spc="-1" strike="noStrike">
                <a:solidFill>
                  <a:srgbClr val="000080"/>
                </a:solidFill>
                <a:latin typeface="Arial"/>
              </a:rPr>
              <a:t>Categorization</a:t>
            </a:r>
            <a:r>
              <a:rPr b="0" lang="en-AU" sz="2800" spc="-1" strike="noStrike">
                <a:solidFill>
                  <a:srgbClr val="000080"/>
                </a:solidFill>
                <a:latin typeface="Arial"/>
              </a:rPr>
              <a:t> over </a:t>
            </a:r>
            <a:r>
              <a:rPr b="0" i="1" lang="en-AU" sz="2800" spc="-1" strike="noStrike">
                <a:solidFill>
                  <a:srgbClr val="00008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 assume that someone else created the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51040" y="2651040"/>
            <a:ext cx="53942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8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99964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6280" y="61920"/>
            <a:ext cx="3573720" cy="76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@prefix : "http://www.genyris.org/lang/types#"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lass :ProperAtom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# atomic atoms 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def .valid?(obj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s-instance? obj St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s-instance? obj Bign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s-instance? obj Symb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lass :Record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# a list of proper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def .valid?(obj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(is-instance? obj Pai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obj!right  # end of the lis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:ProperAtom!valid? obj!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:Record!valid? obj!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:ProperAtom!valid? obj!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def .same-type?(type recor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s-instance? record!left ty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record!right  # more in the lis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:Record!same-type? type record!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def .unique?(recor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not (member? record!left record!right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record!right  # more in the lis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:Record!unique? record!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9640" y="0"/>
            <a:ext cx="4209840" cy="79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ass :SequenceOfRecord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A list of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f .valid?(ob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is-instance? obj P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bj!right  # end of the li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Record!valid? obj!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SequenceOfRecords!valid? obj!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Record!valid? obj!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ass :Table(:SequenceOfReco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A list of equal-length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f .valid?(ob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fine mylength (length obj!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bj!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equal? mylength (:Table!valid? obj!righ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y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lse   # end of the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y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method returns the width of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f .width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ength (.self .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ass :HeadedTable(: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A list of equal-length records with a first-r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header of unique strings or 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f .valid?(ob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Record!unique? obj!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Record!same-type? String obj!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:Record!same-type? Symbol obj!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9623520" cy="6834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9360" y="30240"/>
            <a:ext cx="916776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6080"/>
            <a:ext cx="964404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7480" y="596880"/>
            <a:ext cx="10078920" cy="64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06560" y="365040"/>
            <a:ext cx="8229600" cy="67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8494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s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Lisp, all objects had 'attribute lists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MACLISP this was reduced to 'getprop' and 'putprop' which allows Symbols to hav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3:21:28Z</dcterms:created>
  <dc:creator>Peter Birch</dc:creator>
  <dc:description/>
  <dc:language>en-US</dc:language>
  <cp:lastModifiedBy>Peter Birch</cp:lastModifiedBy>
  <dcterms:modified xsi:type="dcterms:W3CDTF">2010-11-25T23:50:47Z</dcterms:modified>
  <cp:revision>4</cp:revision>
  <dc:subject/>
  <dc:title/>
</cp:coreProperties>
</file>