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6DC-201C-41D4-8D9A-4E9A7B04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5AD-3395-40F8-901B-9C5F5112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768-5359-4580-A22A-33743BAB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49C-DFAC-4D68-BD7F-B5D9E01F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F548-083D-4EEA-AA20-DD20E823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3F7D-67BD-4380-BA17-11043292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B95D-1BF1-417E-AB6A-96180911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F21A-91A3-43C1-A807-4B1C5BF2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E7CE-E7EE-43D4-94A6-7F3A507E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772B-550A-4B14-90B6-F378BBC1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9F7D-50C1-429F-AFB3-045AC7FB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B20-29E8-46C8-BF58-CC69C639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48D6-DE2B-4ED7-B0EF-327F37AE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1B87-4AED-4311-9CAB-6375E48C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F57A-0CFB-4462-BA93-F2EFAE7E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489F-41DA-4D10-92A3-3D797F9A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2E88-CDBB-4C24-83FA-B0025598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FDA-80AF-42CF-8D86-AE8D2ACA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269-8EC6-4602-BB7E-8D3A9595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E3C-3C00-4B7A-AB92-708E8B1A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B93-5610-4E3D-9138-AF3C3C04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683-06CC-4B02-8AE9-B4B054EE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57A1-7A1B-4CF1-9525-66024630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628-7AC3-43F2-8CCB-E4781F6A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7866-508A-46C0-A3DF-897C02F5CE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E87B-4029-404F-97A8-79D6E15872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jdon.org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https://github.com/banq/jdonframework/blob/master/src/com/jdon/sample/test/domain/onecase/DomainEvent.java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s://github.com/banq/jdonframework/blob/master/src/com/jdon/sample/test/domain/onecase/MyDomainEventHandler.java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github.com/banq/jdonframework/blob/master/src/com/jdon/SampleAppTest.java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artinfowler.com/articles/lmax.html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don.com/jdonframework/SimpleJdonFrameworkTest.rar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de.google.com/p/jivejdon/downloads/detail?name=SimpleJdonFrameworkTest.rar&amp;can=2&amp;q=" TargetMode="External"/><Relationship Id="rId3" Type="http://schemas.openxmlformats.org/officeDocument/2006/relationships/hyperlink" Target="http://code.google.com/p/jdonmvc/" TargetMode="External"/><Relationship Id="rId4" Type="http://schemas.openxmlformats.org/officeDocument/2006/relationships/hyperlink" Target="http://code.google.com/p/jivejdon/" TargetMode="External"/><Relationship Id="rId5" Type="http://schemas.openxmlformats.org/officeDocument/2006/relationships/hyperlink" Target="http://code.google.com/p/jivejdon/" TargetMode="External"/><Relationship Id="rId6" Type="http://schemas.openxmlformats.org/officeDocument/2006/relationships/hyperlink" Target="http://code.google.com/p/jivejdon/" TargetMode="External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hyperlink" Target="https://github.com/banq/jdonframework/blob/master/src/com/jdon/sample/test/domain/onecase/repository/RepositoryImp.java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Jdon Framework 6.5 </a:t>
            </a:r>
            <a:br>
              <a:rPr sz="40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Domain-Driven Design Framework for Jav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Arial"/>
                <a:hlinkClick r:id="rId2"/>
              </a:rPr>
              <a:t>http://www.jdon.org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/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924360" y="3645000"/>
            <a:ext cx="1143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Event-driven or Event Sourcing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 does @Model drive  @Component/@Service or Repositor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 does @Model communicate with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 is Domain Events. Also is Event Sour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Why Event Sourcing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aptures the essence of business domains while staying decoupled from platform complexity or hard performance issu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o Block concurrent, No Lock ,so fast. fit for multi-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Ignoran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,Flexibility, Messaging Capabilities, Sca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1557360"/>
            <a:ext cx="7921440" cy="46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omain Model + Even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87640" y="2492280"/>
            <a:ext cx="2160720" cy="1657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 Mod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@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27640" y="4797360"/>
            <a:ext cx="180036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ther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@Comp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4797360"/>
            <a:ext cx="172872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@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2276640"/>
            <a:ext cx="1224000" cy="107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16720" y="1989000"/>
            <a:ext cx="172872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@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804600">
            <a:off x="2831400" y="4235760"/>
            <a:ext cx="574560" cy="503280"/>
          </a:xfrm>
          <a:prstGeom prst="leftArrow">
            <a:avLst>
              <a:gd name="adj1" fmla="val 50000"/>
              <a:gd name="adj2" fmla="val 285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850600">
            <a:off x="5510160" y="2626920"/>
            <a:ext cx="900000" cy="485640"/>
          </a:xfrm>
          <a:prstGeom prst="rightArrow">
            <a:avLst>
              <a:gd name="adj1" fmla="val 50000"/>
              <a:gd name="adj2" fmla="val 4633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56000">
            <a:off x="5076720" y="43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22160" y="198900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sy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9240" y="450864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sy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6520" y="364500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sy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70720" y="157644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2313000" y="2808000"/>
            <a:ext cx="48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t is CQR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2205000"/>
            <a:ext cx="395928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3213000"/>
            <a:ext cx="1944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4076640"/>
            <a:ext cx="1944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5013360"/>
            <a:ext cx="223200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/Message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5013360"/>
            <a:ext cx="15112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3284640"/>
            <a:ext cx="129708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292428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378936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465300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35440" y="28735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5440" y="37368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2560" y="4600440"/>
            <a:ext cx="1676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3640" y="2924280"/>
            <a:ext cx="360360" cy="3286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4653000"/>
            <a:ext cx="360360" cy="3286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ommand/Domain Event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48000" y="2060640"/>
            <a:ext cx="2016000" cy="158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 Mod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@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95640" y="2781360"/>
            <a:ext cx="1079280" cy="431640"/>
          </a:xfrm>
          <a:prstGeom prst="rightArrow">
            <a:avLst>
              <a:gd name="adj1" fmla="val 50000"/>
              <a:gd name="adj2" fmla="val 6251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227664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2276640"/>
            <a:ext cx="1728720" cy="107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@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77080" y="2349360"/>
            <a:ext cx="172872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@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@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51640" y="2781360"/>
            <a:ext cx="1079280" cy="431640"/>
          </a:xfrm>
          <a:prstGeom prst="rightArrow">
            <a:avLst>
              <a:gd name="adj1" fmla="val 50000"/>
              <a:gd name="adj2" fmla="val 6251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07280" y="24210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092000" y="3717000"/>
            <a:ext cx="865440" cy="43200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4581360"/>
            <a:ext cx="2016000" cy="158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 Mod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@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84720" y="3716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ommand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2637000"/>
            <a:ext cx="2016360" cy="158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 Mod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@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2421000"/>
            <a:ext cx="1295280" cy="25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ru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24000" y="3357720"/>
            <a:ext cx="1079640" cy="431640"/>
          </a:xfrm>
          <a:prstGeom prst="rightArrow">
            <a:avLst>
              <a:gd name="adj1" fmla="val 50000"/>
              <a:gd name="adj2" fmla="val 62531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50920" y="292428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32360" y="3284640"/>
            <a:ext cx="1079640" cy="431640"/>
          </a:xfrm>
          <a:prstGeom prst="rightArrow">
            <a:avLst>
              <a:gd name="adj1" fmla="val 50000"/>
              <a:gd name="adj2" fmla="val 62531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285264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3141720"/>
            <a:ext cx="1728720" cy="107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@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@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omain Events typ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99920"/>
            <a:ext cx="85406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DotumChe"/>
              </a:rPr>
              <a:t>Producer-Consumer or Publisher-Subscriber patterns; Asynchronous; topic or queue (1:N or 1:1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DotumChe"/>
              </a:rPr>
              <a:t>@Se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DotumChe"/>
              </a:rPr>
              <a:t>(topicName) =&gt;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DotumChe"/>
              </a:rPr>
              <a:t>@Consum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DotumChe"/>
              </a:rPr>
              <a:t>(topic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DotumChe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DotumChe"/>
              </a:rPr>
              <a:t>this mode is powered by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isruptor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that can handle 6 million orders per second on a single thread in  LMAX  recommended by Martin Fow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DotumChe"/>
              </a:rPr>
              <a:t>@Se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DotumChe"/>
              </a:rPr>
              <a:t>(topicName) =&gt;@Component(topic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DotumChe"/>
              </a:rPr>
              <a:t>This mode is powered by JDK FurtureT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How Domain Events work?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2997360"/>
            <a:ext cx="2089080" cy="143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 Mod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@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2852640"/>
            <a:ext cx="172872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@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@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2349360"/>
            <a:ext cx="1295280" cy="252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ru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3284640"/>
            <a:ext cx="1079640" cy="431640"/>
          </a:xfrm>
          <a:prstGeom prst="rightArrow">
            <a:avLst>
              <a:gd name="adj1" fmla="val 50000"/>
              <a:gd name="adj2" fmla="val 62531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3357720"/>
            <a:ext cx="718920" cy="358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41840" y="292428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omain Events: Step 1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4064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 .  annotate producer class with @Model and @Introduce("message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 .  annotate the method with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@Se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"mychannel") of the produce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6335640" cy="3736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26920" y="6093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ource :</a:t>
            </a: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3"/>
              </a:rPr>
              <a:t>com.jdon.sample.test.domain.onecase.DomainEv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omain Events: Step 1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@Introduce(“message”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"message"  is the om.jdon.domain.message.MessageInterceptor configured in aspect.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t means introducing a MessageInterceptor for this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Sen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"mychannel")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" mychannel " is your topic name that equals to the " mychannel " in @Consumer("mychanne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 this method, you must marshal your data into a DomainMessag that can be unmarshal in consu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Evans DDD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168560" y="1752480"/>
          <a:ext cx="6805440" cy="427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68560" y="1752480"/>
                    <a:ext cx="680544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omain Events: Step 2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84232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) . annotate consumer class with@Consumer(" mychannel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2). the consumer class need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m.jdon.domain.message.DomainEvent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8247240" cy="2879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11280" y="59500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3"/>
              </a:rPr>
              <a:t>com.jdon.sample.test.domain.onecase.MyDomainEventHandl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2808000" cy="2593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724360" y="3429000"/>
            <a:ext cx="3024360" cy="2257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276720" y="3141720"/>
            <a:ext cx="1942920" cy="93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y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43280" y="350028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342900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1557360"/>
            <a:ext cx="705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484280"/>
            <a:ext cx="70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@Se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"mychannel") will push the DomainMessage into the Queue, And the consumer will fetch it from the Que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onsumer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DotumChe"/>
              </a:rPr>
              <a:t>In topic model, action order is in   alphabetical by the class name of @Consu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EventHandler is before BEventHandler is before CEv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ou can get the data by event.getDomainMessage() that producer set in its @Send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onsumer return the resul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f you return the result, you can set the result into the DomainMessage of the event in DomainEventHandle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onEvent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ventDisruptor even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endOfBatch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Exception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//return the result  “eventMessage=hell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etDomainMessag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)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EventResul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"eventMessage="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myMode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etI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omain Events Clien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lient can be not only  Servlet or Jsp or other WebFramework, but also can be a Java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/init jdon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ntainerSetupScript css = new ContainerSetupScrip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ss.prepare("com.jdon.jdonframework.xml", d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ppUtil appUtill = new AppUtil("com.jdon.jdonframework.xml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ServiceSample serviceSample = (IServiceSample) appUtil.getService("serviceSample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we got the result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ventMessage=hell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ring res = (String) serviceSample.eventPointEntry("hello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ssert.assertEquals(res, "eventMessage=hello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ource :</a:t>
            </a:r>
            <a:r>
              <a:rPr b="0" lang="zh-CN" sz="2400" spc="-1" strike="noStrike" u="sng">
                <a:solidFill>
                  <a:srgbClr val="800080"/>
                </a:solidFill>
                <a:uFillTx/>
                <a:latin typeface="Arial"/>
                <a:hlinkClick r:id="rId2"/>
              </a:rPr>
              <a:t>com.jdon.SampleApp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benefits of @Consumer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rtin fowler :</a:t>
            </a:r>
            <a:r>
              <a:rPr b="0" lang="zh-CN" sz="3200" spc="-1" strike="noStrike" u="sng">
                <a:solidFill>
                  <a:srgbClr val="800080"/>
                </a:solidFill>
                <a:uFillTx/>
                <a:latin typeface="Arial"/>
                <a:hlinkClick r:id="rId2"/>
              </a:rPr>
              <a:t>LMAX Architectu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instead of transaction database or conver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tomi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parate a transaction into single event proc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ave something to database and lucene file that have different latency; we can implement it with two EventHand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omain Events:   Queu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94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@Send(topic) ==&gt; @Component(topi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consumer  is a class wit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@Componen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topic) that need implement com.jdon.domain.message.Message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efore V6.4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00720" y="1557360"/>
          <a:ext cx="4332240" cy="471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1557360"/>
                    <a:ext cx="433224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wo kind of Consumer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@Consum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:N topic or 1:1 queu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echanism is Disruptor that faster than Actor Mod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or lightweight small or atomic or stateless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@Compone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ly 1:1 queue; it is singleton like other componentw registered in J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or weight stateful and no return tas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203640" y="1628640"/>
            <a:ext cx="2736720" cy="252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Domain Events(DE) apply in JE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360" y="2781360"/>
            <a:ext cx="1079640" cy="100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1916280"/>
            <a:ext cx="576000" cy="57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284720" y="242064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59280" y="3213000"/>
            <a:ext cx="504720" cy="576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342900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5280" y="1628640"/>
            <a:ext cx="792000" cy="4104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00360" y="2421000"/>
            <a:ext cx="43164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508640"/>
            <a:ext cx="1800000" cy="1225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35280" y="5013360"/>
            <a:ext cx="86544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00360" y="494172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1700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450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812000" y="1557360"/>
            <a:ext cx="647640" cy="424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2492280"/>
            <a:ext cx="1727280" cy="432000"/>
          </a:xfrm>
          <a:prstGeom prst="rightArrow">
            <a:avLst>
              <a:gd name="adj1" fmla="val 50000"/>
              <a:gd name="adj2" fmla="val 999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64000" y="4797360"/>
            <a:ext cx="2087640" cy="432000"/>
          </a:xfrm>
          <a:prstGeom prst="rightArrow">
            <a:avLst>
              <a:gd name="adj1" fmla="val 50000"/>
              <a:gd name="adj2" fmla="val 1208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omain Events Pattern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se Coup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logic is separate from technology architecture. decouple "What" From "Ho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-driven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event-driven archit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ynchron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zy-lo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lazy evaluation of functional languag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 out on multi-core or multiple nodes using asynchronous message passing ( JM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About DDD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58960" y="1752480"/>
          <a:ext cx="7424640" cy="427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8960" y="1752480"/>
                    <a:ext cx="742464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ample 1: Concurrency pattern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752120"/>
            <a:ext cx="854064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o domain events cod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PU kill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ublic int getMessageCount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nt messageCount = xxxx; // complex computing, high CPU usage, CPU ki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eturn message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omain events  can pre-load or pre-run the complex computi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ublic int getMessageCount(DomainEvents domainEvents) {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(messageCount == -1) {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(messageCountAsyncResult ==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) {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messageCountAsyncResult =       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domainEvents.computeCount(account.getUserIdLong());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}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{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messageCount = (Integer)  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messageCountAsyncResult.getEventResult();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}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}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messageCount;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Example 2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synchronous 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Lazy load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10364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 invoking ‘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getMessageCoun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’ will send a message to ‘computeCount’ of Repository  by domainEv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 again invoking ‘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getMessageCoun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’ will return last step result.(such as by AJAX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2"/>
              </a:rPr>
              <a:t>Download Sample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284720" y="2276640"/>
            <a:ext cx="4643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Lazy load Benefit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oad any data on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unctions are not evaluated until their results are nee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 Hibernate LazyInitialization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 Open Session in View anti-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16000" y="1701720"/>
            <a:ext cx="2016000" cy="18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Scale to distributed system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60360" y="2349360"/>
            <a:ext cx="1513080" cy="1081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84720" y="2278080"/>
            <a:ext cx="431640" cy="30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1989000"/>
            <a:ext cx="1800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27640" y="3141720"/>
            <a:ext cx="1800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27640" y="4365720"/>
            <a:ext cx="1800360" cy="93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87640" y="2565360"/>
            <a:ext cx="1152720" cy="503280"/>
          </a:xfrm>
          <a:prstGeom prst="rightArrow">
            <a:avLst>
              <a:gd name="adj1" fmla="val 50000"/>
              <a:gd name="adj2" fmla="val 5726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3430440"/>
            <a:ext cx="863640" cy="505080"/>
          </a:xfrm>
          <a:prstGeom prst="rightArrow">
            <a:avLst>
              <a:gd name="adj1" fmla="val 50000"/>
              <a:gd name="adj2" fmla="val 4274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3933720"/>
            <a:ext cx="2016000" cy="19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4149720"/>
            <a:ext cx="1512720" cy="1081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60720" y="4294080"/>
            <a:ext cx="1079640" cy="503280"/>
          </a:xfrm>
          <a:prstGeom prst="rightArrow">
            <a:avLst>
              <a:gd name="adj1" fmla="val 50000"/>
              <a:gd name="adj2" fmla="val 536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16000" y="177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16000" y="530064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stributed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erformance test resul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erformance test result for opensource jivejdon with Jdon Fra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add1 is add/insert function ,and HTTPedit is a edit/update function, HttP1.2.3 is a Read/Query func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ll these operations performance is almost equals to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se operations only happened on the domain object in memory, database writing only occurs asynchronous in a consumer of domain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73454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Events Challeng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rogrammers are good at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nchron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e that be executed sequentially in a th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 is a non-blocking concurrent programming mode, that maybe is harder to most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omain business need be executed sequentially , so we can do it by domain events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Blocking problem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 a blocking system, wait thread is idle but continue to consume system resour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is will very costs resource, for high transaction volum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he number of idle threads =(arrival_rate * processing_time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result can be a very big number if the arrival_rate is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locking system is running under a very ineffective mode. No high throughout, no high CPU 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on-Blocking concurren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call which returns a result.  don't need to use the result until at a much later stage of your proc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't need to wait immediately after making the call, instead you can proceed to do other things until you reach the point where you need to use the resu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ll itself will return a "future" handle immediately. The caller can go off doing other things and later poll the "future" handle to see if the response if rea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JdonFramework </a:t>
            </a:r>
            <a:br>
              <a:rPr sz="4000"/>
            </a:b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Non-Blocking concurrent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omain Model sends events  to  another thread(a consumer) by RingBuffer in Disruptor, so threads can communicates through ev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fter consumer done, it will put the result in another RingBuffer that publisher can read or blocking read it, decided by business is or not executed sequenti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Higher abstract of concurren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Blocking’s concurrent programming is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velop a concurrent app. easi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or Model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 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like domain events, messages are sent asynchronously and non-blocking in a “fire-and-forget” manner. But LMAX team of the Disruptor thinks Actor model has bottlen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I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I is easy to be understood. It’s abstract level is high than domain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DD Benefits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8360" y="1413000"/>
          <a:ext cx="7775640" cy="47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413000"/>
                    <a:ext cx="777564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CI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CI: Data, Context, Interactions is a programming paradigm invented by Trygve Reenskau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keep our core model classes very thi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ogic/behaviour should be kept in rol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omain Events is a Interactions, Events Producer is the R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Model Injection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donFramework  can inject  Domain Events into  domain model at runtime, this is maybe like Mixin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omain Events is Interactions of  Roles, so Roles are then assigned(Injected) to data objects at runtime, only when required within given Con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DCI 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：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752120"/>
            <a:ext cx="854064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omain Model is the DATA of DCI, no logic no beh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8540640" cy="26845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68360" y="59500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ource: com.jdon.sample.test.domain.simplecase.My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CI : Role and Interactions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042920" y="2708280"/>
            <a:ext cx="7102440" cy="2951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26920" y="148428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is a Role of DC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includes the interactions of DCI. It is event produ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1400" y="5753160"/>
            <a:ext cx="74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ource:com.jdon.sample.test.domain.simplecase.MyModelDomain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DCI 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： 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Context,The Role will be injected into th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/after fetching the myModel object, it has been injected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yModel myModel = repository.getModel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Long(10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/ call myModel’s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yModel .myModelDomainEvent.asyncFindName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ull example download: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SimpleJdonFrameworkTest.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DCI(No Domain Events)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320" y="1752480"/>
            <a:ext cx="38386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ject domain events into the model, so it can directly publish events.If there is no domain events in domain model, we can publish events in Con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 is a data model of D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2498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Role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Until the role implements a interface,  our Mixin can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84360" y="3213000"/>
            <a:ext cx="756108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5406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com.jdon.domain.dci.RoleAssign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m.jdon.domain.dci.RoleAssigner is a Role assigner that can inject(Mixin) any interface into a data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en using RoleAssigner, it is not necessary that fetch a object of  data model by a repository annotated with @Introduce("modelCache") and its get method with @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ifferent  DCI style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f we already hold on a model object, we can implements various functions by its domain events,such as modify/update a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therw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create a context, and there we inject events or functions into a new model object by RoleAssigner,such as create or delete a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Jdon Framework (JF)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omain model + In-memory + Events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DD + DCI + Domain Events or Event Sourcing or CQ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OC or Dependency injection (DI) 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OP intercept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light-weight framework for developing Domain-Driven Design applications in the spirit of Evan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87280" y="1052640"/>
            <a:ext cx="5616720" cy="50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08720" y="1341360"/>
            <a:ext cx="863640" cy="107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32000" y="1413000"/>
            <a:ext cx="1511280" cy="1079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51280" y="4797360"/>
            <a:ext cx="2303280" cy="1079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4797360"/>
            <a:ext cx="863280" cy="107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35280" y="1341360"/>
            <a:ext cx="2592360" cy="1008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leAssi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64000" y="3213000"/>
            <a:ext cx="1439640" cy="8654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40360" y="3213000"/>
            <a:ext cx="1439640" cy="8654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4548960" y="2443680"/>
            <a:ext cx="592200" cy="546120"/>
          </a:xfrm>
          <a:prstGeom prst="rightArrow">
            <a:avLst>
              <a:gd name="adj1" fmla="val 50000"/>
              <a:gd name="adj2" fmla="val 271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ix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72360" y="1628640"/>
            <a:ext cx="718920" cy="648000"/>
          </a:xfrm>
          <a:prstGeom prst="leftArrow">
            <a:avLst>
              <a:gd name="adj1" fmla="val 50000"/>
              <a:gd name="adj2" fmla="val 2773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4941720"/>
            <a:ext cx="718920" cy="648000"/>
          </a:xfrm>
          <a:prstGeom prst="leftArrow">
            <a:avLst>
              <a:gd name="adj1" fmla="val 50000"/>
              <a:gd name="adj2" fmla="val 2773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5084640"/>
            <a:ext cx="1008360" cy="505080"/>
          </a:xfrm>
          <a:prstGeom prst="leftArrow">
            <a:avLst>
              <a:gd name="adj1" fmla="val 50000"/>
              <a:gd name="adj2" fmla="val 499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58920" y="4508640"/>
            <a:ext cx="1440000" cy="865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32000" y="4941720"/>
            <a:ext cx="1439640" cy="8654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43280" y="1557360"/>
            <a:ext cx="649080" cy="576360"/>
          </a:xfrm>
          <a:prstGeom prst="leftArrow">
            <a:avLst>
              <a:gd name="adj1" fmla="val 50000"/>
              <a:gd name="adj2" fmla="val 2815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oncurrent programming is easy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Jdonframework makes an exploratory to promote non-blocking concurrent programming paradigm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CI and Domain Events are different abstract levels based concurrent programming 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CI and UML colors analysis method can successfully docking, it is the highest level of abstraction of business-ori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lp most programmers quietly going to the way of non-blocking concurrent programming when they thinking in DD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Example for DDD and DCI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84360" y="2060640"/>
          <a:ext cx="7848360" cy="369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060640"/>
                    <a:ext cx="78483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DD Entity Model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772632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roles-and-responsibilitie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nowing what; doing what;deciding w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obot know what? Do wha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obot can feel or see or hear and det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eeling  and seeing and  hearing is the responsibilities as a intelligent robot r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Where responsibilities will be?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1680" y="1752480"/>
            <a:ext cx="48466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sponsibilities are designed as methods of Robot Ent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ill be a big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I says 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348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CI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292360" y="2060280"/>
            <a:ext cx="34066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bilities should be interactions of a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ill be injected into data model in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4897440" cy="39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Robot’s JdonFramework Impl.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tails in DDD DCI and Domain Event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obot.z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obot example source down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JdonFramework: flexibility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ependency Injection(DI or IO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@Service or @Component can inject with each other by class construction(not supports setter inje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@Service or @Component can be inected into @Model  or by domain ev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spect-oriented programming(A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ith annotation @Introdu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@Service or @Component can introduce each others as its interceptor. @Model can introduce any POJO or @Component as its intercep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@Model mechanism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63640" y="1484280"/>
            <a:ext cx="5472360" cy="482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9280" y="2492280"/>
            <a:ext cx="1297080" cy="93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x.getA(“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19280" y="2708280"/>
            <a:ext cx="2448000" cy="216000"/>
          </a:xfrm>
          <a:prstGeom prst="rightArrow">
            <a:avLst>
              <a:gd name="adj1" fmla="val 50000"/>
              <a:gd name="adj2" fmla="val 283333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067280" y="2060640"/>
            <a:ext cx="1368360" cy="1081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95640" y="2276640"/>
            <a:ext cx="144360" cy="309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00360" y="2276640"/>
            <a:ext cx="144360" cy="309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35280" y="5516640"/>
            <a:ext cx="165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45640" y="546588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eptor f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@Introdu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67280" y="4869000"/>
            <a:ext cx="1584360" cy="115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 that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as @Intro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16360" y="3213000"/>
            <a:ext cx="360360" cy="1368360"/>
          </a:xfrm>
          <a:prstGeom prst="upArrow">
            <a:avLst>
              <a:gd name="adj1" fmla="val 50000"/>
              <a:gd name="adj2" fmla="val 9493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005440" y="342900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ject proxy of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24360" y="4149720"/>
            <a:ext cx="230508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22520" y="414972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eptor f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@Intro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87800" y="150480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ache In-mem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56360" y="530064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308720" y="1557360"/>
            <a:ext cx="1656000" cy="345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101080" y="1916280"/>
            <a:ext cx="647640" cy="86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08720" y="2349360"/>
            <a:ext cx="2592360" cy="142920"/>
          </a:xfrm>
          <a:prstGeom prst="leftArrow">
            <a:avLst>
              <a:gd name="adj1" fmla="val 50000"/>
              <a:gd name="adj2" fmla="val 453463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24720" y="1773360"/>
            <a:ext cx="216000" cy="16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08720" y="193680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ject proxy of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454880" y="4005360"/>
            <a:ext cx="13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n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27240" y="30686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Featur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omain model is like D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omain models drive the technical components to finish the business logic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don framework make domain model easy to living in memory of a  softwar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don fra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kes our software systems more scalable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be better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ject a interceptor in @Model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332000" y="1700280"/>
          <a:ext cx="6010200" cy="439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700280"/>
                    <a:ext cx="601020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Living spac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@Model lives in cache that default is ehca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@Component/@Service lives in a context such as servletcon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ll @Component can be injected into @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@Component mechanism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63640" y="1484280"/>
            <a:ext cx="5616720" cy="482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9280" y="2492280"/>
            <a:ext cx="1297080" cy="93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x.getA(“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19280" y="2708280"/>
            <a:ext cx="2448000" cy="216000"/>
          </a:xfrm>
          <a:prstGeom prst="rightArrow">
            <a:avLst>
              <a:gd name="adj1" fmla="val 50000"/>
              <a:gd name="adj2" fmla="val 283333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84720" y="2276640"/>
            <a:ext cx="1368360" cy="1081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50920" y="2276640"/>
            <a:ext cx="144720" cy="309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68360" y="2276640"/>
            <a:ext cx="144720" cy="309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82920" y="2276640"/>
            <a:ext cx="144360" cy="309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698920" y="2276640"/>
            <a:ext cx="144360" cy="309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35280" y="5516640"/>
            <a:ext cx="165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46000" y="5465880"/>
            <a:ext cx="19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tercep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oincut=serv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284720" y="4869000"/>
            <a:ext cx="1584360" cy="115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 that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59280" y="3429000"/>
            <a:ext cx="358920" cy="1152360"/>
          </a:xfrm>
          <a:prstGeom prst="upArrow">
            <a:avLst>
              <a:gd name="adj1" fmla="val 50000"/>
              <a:gd name="adj2" fmla="val 80266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49800" y="342900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ject proxy of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11640" y="4005360"/>
            <a:ext cx="230508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22520" y="414972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eptor for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@Intro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188520" y="150480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ntext container (Servlet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56360" y="530064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@Service/@Componen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@Service("testService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ublic class TestServicePOJOImp implements TestServic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ivate final UserRepository userReposito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ublic TestServicePOJOImp(UserRepository userRepositor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his.userRepository = userReposito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@Componen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ublic class UserReposito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fference between @Service and @Component is that the @Service  class must have a interface then can be called by outside client beyond jd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@Servic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@Service expose to the client, has several  kind instances: singleton , prototype or pool that have them annotations, default is prototype(spring default is singleton 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di"/>
          <p:cNvPicPr/>
          <p:nvPr/>
        </p:nvPicPr>
        <p:blipFill>
          <a:blip r:embed="rId2"/>
          <a:stretch/>
        </p:blipFill>
        <p:spPr>
          <a:xfrm>
            <a:off x="1258920" y="2852640"/>
            <a:ext cx="663588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AOP: @Introduce mechanism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24000" y="1700280"/>
          <a:ext cx="8496000" cy="448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700280"/>
                    <a:ext cx="84960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-Memory Model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hen a domain model object with @Model is fetch from repository, we need use @Introduce(“modelCache”) to mak the object live in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re are two cache interceptors existed before and after domain lay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omain events need  annotation @Introduce(“modelCache”)  in the place that domain model objects are created or reconstructed from persistence or other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JdonFramework Cach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2276640"/>
            <a:ext cx="1368360" cy="28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95640" y="2060640"/>
            <a:ext cx="1368360" cy="28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308720" y="2060640"/>
            <a:ext cx="1368720" cy="28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95640" y="3284640"/>
            <a:ext cx="576000" cy="431640"/>
          </a:xfrm>
          <a:prstGeom prst="rightArrow">
            <a:avLst>
              <a:gd name="adj1" fmla="val 50000"/>
              <a:gd name="adj2" fmla="val 3336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43280" y="2276640"/>
            <a:ext cx="287280" cy="28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348000" y="3284640"/>
            <a:ext cx="576360" cy="431640"/>
          </a:xfrm>
          <a:prstGeom prst="rightArrow">
            <a:avLst>
              <a:gd name="adj1" fmla="val 50000"/>
              <a:gd name="adj2" fmla="val 333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95440" y="53928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ache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 aspect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580000" y="3213000"/>
            <a:ext cx="576360" cy="432000"/>
          </a:xfrm>
          <a:prstGeom prst="rightArrow">
            <a:avLst>
              <a:gd name="adj1" fmla="val 50000"/>
              <a:gd name="adj2" fmla="val 3335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2060640"/>
            <a:ext cx="287640" cy="28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32720" y="3213000"/>
            <a:ext cx="576000" cy="4320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19640" y="515772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omainCacheInt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@Introduce(“modelCach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enable in memeory model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042920" y="2924280"/>
          <a:ext cx="6242040" cy="312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924280"/>
                    <a:ext cx="624204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900000" y="177336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@Introduce(“modelCache”) must be annotat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posotory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hat @Model objects are created or reconstructed This step is very important for domain events 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What time it is in memeory?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hen we first time call the mehtod “getModel”  of the interface of RepositoryImp, the framework will do two th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put the return value(model) in cache. So next time can get it from ca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inject domain events into this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our cache need configure to live in memory without auto re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ext time, we call it again, we will get the model instance from ca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5 component  models in JF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 Entity Model with @Mode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Service with @ Serv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 Component with @Compon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 Prodcuer-Consumer mode with @send @Consu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 Interceptor with @ Interceptor, need with @Introdu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ll  in com.jdon.annotation.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Start jdonFramework in WEB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f all is annotation, no jdonframework.xml, no need this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nfiguration in Web.xm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&lt;context-para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&lt;param-name&gt; modelmapping-config &lt;/param-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&lt;param-value&gt; jdonframework.xml &lt;/param-valu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&lt;/context-para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&lt;listen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&lt;listener-class&gt;com.jdon.container.startup.ServletContainerListener&lt;/listener-clas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&lt;/listen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How to use in application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ppUtil appUtil = new AppUtil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// xxx is value of @Service(“xxx”) annotation on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XXXService xxxService = appUtil.getService(“xxx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xxxService.metho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f there is jdonframework.xm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ppUtil appUtil = new AppUtil("com.jdon.jdonframework.xml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Other features</a:t>
            </a:r>
            <a:br>
              <a:rPr sz="4000"/>
            </a:b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in JdonAccessory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5406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apid development, template toolkit. JDBC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liminate “Controller/Action” ,No controller code of MVC  (only supports Struts 1.x)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atch Query, auto paginati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MVC Controller configuration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n jdonframework.xml(struts1.x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95" name="" descr="mapping"/>
          <p:cNvPicPr/>
          <p:nvPr/>
        </p:nvPicPr>
        <p:blipFill>
          <a:blip r:embed="rId2"/>
          <a:stretch/>
        </p:blipFill>
        <p:spPr>
          <a:xfrm>
            <a:off x="611280" y="1700280"/>
            <a:ext cx="806616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Jdonframework MVC(struts1.x)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2060640"/>
            <a:ext cx="115128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40360" y="4797360"/>
            <a:ext cx="11509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564000" y="1844640"/>
            <a:ext cx="2089080" cy="180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</a:rPr>
              <a:t>Jdonframework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68360" y="2421000"/>
            <a:ext cx="1008360" cy="503280"/>
          </a:xfrm>
          <a:prstGeom prst="rightArrow">
            <a:avLst>
              <a:gd name="adj1" fmla="val 50000"/>
              <a:gd name="adj2" fmla="val 5008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00720" y="3860640"/>
            <a:ext cx="576000" cy="576360"/>
          </a:xfrm>
          <a:prstGeom prst="downArrow">
            <a:avLst>
              <a:gd name="adj1" fmla="val 50000"/>
              <a:gd name="adj2" fmla="val 2501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68360" y="1700280"/>
            <a:ext cx="1151280" cy="576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ction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940360" y="1700280"/>
            <a:ext cx="1150920" cy="576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12000" y="2421000"/>
            <a:ext cx="934920" cy="431640"/>
          </a:xfrm>
          <a:prstGeom prst="leftRightArrow">
            <a:avLst>
              <a:gd name="adj1" fmla="val 50000"/>
              <a:gd name="adj2" fmla="val 4311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08720" y="2060640"/>
            <a:ext cx="1150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Batch Query in jdon-jdbcTemp.jar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ache suppo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uto pag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presentation lay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xtends com.jdon.strutsutil.ModelList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persistence lay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all getDatas of com.jdon.controller.model.PageIt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REST in JdonMVC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5530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More detail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3026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ST + DCI + Domain events Example dowload </a:t>
            </a:r>
            <a:r>
              <a:rPr b="0" lang="zh-CN" sz="2400" spc="-1" strike="noStrike" u="sng">
                <a:solidFill>
                  <a:srgbClr val="800080"/>
                </a:solidFill>
                <a:uFillTx/>
                <a:latin typeface="Arial"/>
                <a:hlinkClick r:id="rId2"/>
              </a:rPr>
              <a:t>SimpleJdonFrameworkTest.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0080"/>
                </a:solidFill>
                <a:uFillTx/>
                <a:latin typeface="Arial"/>
                <a:hlinkClick r:id="rId3"/>
              </a:rPr>
              <a:t>JdonMV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 REST for Jdon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ivejdon (BBS or Forum software with JdonFrame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 u="sng">
                <a:solidFill>
                  <a:srgbClr val="800080"/>
                </a:solidFill>
                <a:uFillTx/>
                <a:latin typeface="Arial"/>
                <a:hlinkClick r:id="rId4"/>
              </a:rPr>
              <a:t>http://</a:t>
            </a:r>
            <a:r>
              <a:rPr b="0" lang="zh-CN" sz="2400" spc="-1" strike="noStrike" u="sng">
                <a:solidFill>
                  <a:srgbClr val="800080"/>
                </a:solidFill>
                <a:uFillTx/>
                <a:latin typeface="Arial"/>
                <a:hlinkClick r:id="rId5"/>
              </a:rPr>
              <a:t>code.google.com/p/jivejdon</a:t>
            </a:r>
            <a:r>
              <a:rPr b="0" lang="zh-CN" sz="2400" spc="-1" strike="noStrike" u="sng">
                <a:solidFill>
                  <a:srgbClr val="800080"/>
                </a:solidFill>
                <a:uFillTx/>
                <a:latin typeface="Arial"/>
                <a:hlinkClick r:id="rId6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donFramework english: http://www.jdo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Jdon on Githu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@Model in-memory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0000"/>
                </a:solidFill>
                <a:latin typeface="Arial"/>
              </a:rPr>
              <a:t>@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public class MyModel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private String userI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private String n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 class with @Model will live in memory, default is Cache (Ehcache). Or Key-value store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enable model in memeory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42920" y="2637000"/>
          <a:ext cx="6242040" cy="312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637000"/>
                    <a:ext cx="624204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900000" y="155736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@Introduce(“modelCache”) must be annotat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pository that @Model objects are fetched or reconstructed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This step is very important for domain events 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595008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4"/>
              </a:rPr>
              <a:t>com.jdon.sample.test.domain.onecase.repository.RepositoryI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4T01:01:09Z</dcterms:created>
  <dc:creator>USER</dc:creator>
  <dc:description/>
  <dc:language>en-US</dc:language>
  <cp:lastModifiedBy>SkyUN.Org</cp:lastModifiedBy>
  <dcterms:modified xsi:type="dcterms:W3CDTF">2013-09-21T10:33:45Z</dcterms:modified>
  <cp:revision>730</cp:revision>
  <dc:subject/>
  <dc:title>Jdon Framework</dc:title>
</cp:coreProperties>
</file>