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5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1.jpeg" ContentType="image/jpeg"/>
  <Override PartName="/ppt/media/image25.png" ContentType="image/png"/>
  <Override PartName="/ppt/media/image4.png" ContentType="image/png"/>
  <Override PartName="/ppt/media/image27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DDE-AC4D-4E90-A4AB-9AF963C4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1C1-9BB8-484C-843F-7BE7390B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4F9-6075-4C3F-89DF-7684368B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EF3-08BE-46D2-9ECC-DEFF13ED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AF2F-DC15-4687-BF5E-EE286BDF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189A-2FDC-44E8-B243-52937E95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CB40-1BA9-4212-9AF3-D3372566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5C12-7F3A-4555-A76B-1DBF2500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0FE2-E492-4E95-B971-01D322ED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5425-B414-4880-84D6-AC009AA3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262D-F7D1-4857-AA8F-49BCF7B6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503-586F-4F4E-A811-ED32750F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D5F4-BE28-4E8A-BED0-22ED2FC7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5EA8-B6FD-401D-B684-A062108E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F7FD-0D78-4CFF-A27F-DB006CAF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373A-8E3A-4102-8AB4-0CA3DFDA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2D87-3689-42BF-94D1-2C3DFCDF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783-F04A-43CE-85A3-1E1A50DD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7AC-A882-4226-8CE5-608D6E1D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887-BAEB-4D2B-9CEC-C0450D38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FBD-C3DA-4472-87E9-9634A56A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FB7-9929-468E-AAA7-88A26C88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A46-A4BD-40D7-8401-7DEBF62A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CEE-A612-4918-88CF-B631265D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CE60-C82F-45F1-B371-846EC35AB2B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83CE-E5F5-4BB4-86C2-3E40644525E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jdon.com/jivejdon/thread/39737" TargetMode="External"/><Relationship Id="rId3" Type="http://schemas.openxmlformats.org/officeDocument/2006/relationships/hyperlink" Target="http://www.jdon.com/jivejdon/thread/39737" TargetMode="External"/><Relationship Id="rId4" Type="http://schemas.openxmlformats.org/officeDocument/2006/relationships/hyperlink" Target="http://www.jdon.com/jivejdon/thread/39737" TargetMode="External"/><Relationship Id="rId5" Type="http://schemas.openxmlformats.org/officeDocument/2006/relationships/hyperlink" Target="http://www.jdon.com/jivejdon/thread/39737" TargetMode="Externa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jdon.com/eda.html" TargetMode="External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jdon.com/44815" TargetMode="External"/><Relationship Id="rId3" Type="http://schemas.openxmlformats.org/officeDocument/2006/relationships/hyperlink" Target="https://github.com/banq/jdonframework/tree/master/example/cqrs%2Bes" TargetMode="External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jdon.com/eda.html" TargetMode="External"/><Relationship Id="rId3" Type="http://schemas.openxmlformats.org/officeDocument/2006/relationships/hyperlink" Target="http://www.jdon.com/eda.html" TargetMode="External"/><Relationship Id="rId4" Type="http://schemas.openxmlformats.org/officeDocument/2006/relationships/hyperlink" Target="https://github.com/reactor/reactor" TargetMode="External"/><Relationship Id="rId5" Type="http://schemas.openxmlformats.org/officeDocument/2006/relationships/hyperlink" Target="https://github.com/reactor/reactor" TargetMode="External"/><Relationship Id="rId6" Type="http://schemas.openxmlformats.org/officeDocument/2006/relationships/hyperlink" Target="https://github.com/reactor/reactor" TargetMode="External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github.com/banq/jdonframework" TargetMode="External"/><Relationship Id="rId3" Type="http://schemas.openxmlformats.org/officeDocument/2006/relationships/hyperlink" Target="https://github.com/banq/jdonframework" TargetMode="External"/><Relationship Id="rId4" Type="http://schemas.openxmlformats.org/officeDocument/2006/relationships/hyperlink" Target="https://github.com/reactor/reactor" TargetMode="External"/><Relationship Id="rId5" Type="http://schemas.openxmlformats.org/officeDocument/2006/relationships/hyperlink" Target="http://www.osforce.cn/?p=558" TargetMode="External"/><Relationship Id="rId6" Type="http://schemas.openxmlformats.org/officeDocument/2006/relationships/hyperlink" Target="http://pan.baidu.com/share/link?shareid=3047664762&amp;uk=741026074" TargetMode="External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事件驱动编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板桥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ban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http://banq.jdon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基于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NIO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的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Servl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Verdana"/>
              </a:rPr>
              <a:t>J2SE 1.4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开始引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非堵塞</a:t>
            </a:r>
            <a:r>
              <a:rPr b="0" lang="en-IE" sz="2600" spc="-1" strike="noStrike">
                <a:solidFill>
                  <a:srgbClr val="000000"/>
                </a:solidFill>
                <a:latin typeface="Verdana"/>
              </a:rPr>
              <a:t>I/O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IE" sz="2600" spc="-1" strike="noStrike">
                <a:solidFill>
                  <a:srgbClr val="000000"/>
                </a:solidFill>
                <a:latin typeface="Verdana"/>
              </a:rPr>
              <a:t>Nonblocking I/O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提供了基于</a:t>
            </a:r>
            <a:r>
              <a:rPr b="0" lang="en-IE" sz="2600" spc="-1" strike="noStrike">
                <a:solidFill>
                  <a:srgbClr val="000000"/>
                </a:solidFill>
                <a:latin typeface="Verdana"/>
              </a:rPr>
              <a:t>Reactor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模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观察者模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Verdana"/>
              </a:rPr>
              <a:t>Selecto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事件类型有：是否有接受的连接（</a:t>
            </a:r>
            <a:r>
              <a:rPr b="0" lang="en-IE" sz="2600" spc="-1" strike="noStrike">
                <a:solidFill>
                  <a:srgbClr val="000000"/>
                </a:solidFill>
                <a:latin typeface="Verdana"/>
              </a:rPr>
              <a:t>OP_ACCEPT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、是否可以连接（</a:t>
            </a:r>
            <a:r>
              <a:rPr b="0" lang="en-IE" sz="2600" spc="-1" strike="noStrike">
                <a:solidFill>
                  <a:srgbClr val="000000"/>
                </a:solidFill>
                <a:latin typeface="Verdana"/>
              </a:rPr>
              <a:t>OP_CONNECT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、是否可以读取（</a:t>
            </a:r>
            <a:r>
              <a:rPr b="0" lang="en-IE" sz="2600" spc="-1" strike="noStrike">
                <a:solidFill>
                  <a:srgbClr val="000000"/>
                </a:solidFill>
                <a:latin typeface="Verdana"/>
              </a:rPr>
              <a:t>OP_READ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和是否可以写入（</a:t>
            </a:r>
            <a:r>
              <a:rPr b="0" lang="en-IE" sz="2600" spc="-1" strike="noStrike">
                <a:solidFill>
                  <a:srgbClr val="000000"/>
                </a:solidFill>
                <a:latin typeface="Verdana"/>
              </a:rPr>
              <a:t>OP_WRITE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571500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面向事件驱动编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界面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Javascript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事件驱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业务逻辑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Event Sourcing + CQ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交互响应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U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5238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僵化的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CRUD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界面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480060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响应式设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命令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命令就是让服务器做事情。表达用户的意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关注命令，能够同时关注领域行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用消息封装命令，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UI --&gt;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命令是一种写方向，查询是反方向读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CQRS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架构</a:t>
            </a:r>
            <a:br>
              <a:rPr sz="3800"/>
            </a:b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Command Query Responsibility Segregation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2118960"/>
            <a:ext cx="80010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读写分离；更加伸缩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写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== Command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命令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==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主要是改变模型状态，无返回结果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读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== Querie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查询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==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纯粹读取，不改变任何模型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CQR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开源框架</a:t>
            </a:r>
            <a:r>
              <a:rPr b="0" lang="zh-CN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xon</a:t>
            </a:r>
            <a:r>
              <a:rPr b="0" lang="zh-CN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和</a:t>
            </a:r>
            <a:r>
              <a:rPr b="0" lang="zh-CN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Jdon</a:t>
            </a:r>
            <a:r>
              <a:rPr b="0" lang="zh-CN" sz="3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框架比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CQRS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架构图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01760" y="1752480"/>
            <a:ext cx="4729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领域模型的行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关注对象行为是事件驱动编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血模型：没有业务行为 只有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etter/get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没有行为保护的数据字段没有逻辑性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行为保证数据的逻辑一致性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事件定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一种语义词语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动词：代表过去发生的事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事件既是技术架构概念，也是业务概念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nny event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以事件为驱动的编程模型称为事件驱动架构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ED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失血模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vans DD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378080" y="1752480"/>
          <a:ext cx="637668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8080" y="1752480"/>
                    <a:ext cx="63766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vans DD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00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Eric Evan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发表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omain-Driven Design –Tackling Complexity in the Heart of Software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领域驱动设计 ）简称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Evans DD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领域建模是一种艺术的技术，它是用来解决复杂软件快速应付变化的解决之道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DD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优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413000"/>
          <a:ext cx="7775640" cy="47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413000"/>
                    <a:ext cx="777564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找出业务需求中的聚合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5077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聚合根类似状态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DD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落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44956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In-memory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数据操作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3465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6197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锁的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A thread in a critical section"/>
          <p:cNvPicPr/>
          <p:nvPr/>
        </p:nvPicPr>
        <p:blipFill>
          <a:blip r:embed="rId2"/>
          <a:stretch/>
        </p:blipFill>
        <p:spPr>
          <a:xfrm>
            <a:off x="838080" y="2286000"/>
            <a:ext cx="76201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高并发性能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Apache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等的传统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ocket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模型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81080" y="2819520"/>
            <a:ext cx="54864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Actor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模型适合聚合根实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305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Actor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与外界通过消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752480" y="2438280"/>
            <a:ext cx="502920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Actor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模型优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核心是异步消息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无共享状态，无锁，无堵塞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异步 高并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这些特点天然符合事件定义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可控，并发，随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聚合根的设计要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39092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聚合根设计落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聚合根代表业务核心，是大脑，两个设计要求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聚合根内部状态切换必须是无锁非堵塞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聚合根需要与外界解耦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Actor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模型符合聚合根的落地要求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DDD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聚合根与外界通过消息联系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领域事件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omain Ev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事情代表过去发生的事情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事件代表过去发生的动词，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CustomerRelocated, CargoShipped, or InventoryLossageRecorde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领域事件是领域中发生的事件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领域事件将领域模型的改变显式化，突出暴露出来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11280" y="1557360"/>
            <a:ext cx="7921440" cy="4608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领域事件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omain Ev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2492280"/>
            <a:ext cx="2160720" cy="1657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 Mod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b2c1"/>
                </a:solidFill>
                <a:latin typeface="Arial"/>
              </a:rPr>
              <a:t>@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27640" y="4797360"/>
            <a:ext cx="1800360" cy="10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the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@Comp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4797360"/>
            <a:ext cx="1728720" cy="1079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@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2276640"/>
            <a:ext cx="1224000" cy="107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16720" y="1989000"/>
            <a:ext cx="1728720" cy="1079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@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8804600">
            <a:off x="2831400" y="4235760"/>
            <a:ext cx="574560" cy="503280"/>
          </a:xfrm>
          <a:prstGeom prst="leftArrow">
            <a:avLst>
              <a:gd name="adj1" fmla="val 50000"/>
              <a:gd name="adj2" fmla="val 2854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850600">
            <a:off x="5510160" y="2626920"/>
            <a:ext cx="900000" cy="485640"/>
          </a:xfrm>
          <a:prstGeom prst="rightArrow">
            <a:avLst>
              <a:gd name="adj1" fmla="val 50000"/>
              <a:gd name="adj2" fmla="val 4633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56000">
            <a:off x="5076720" y="43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22160" y="198900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sy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9240" y="450864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sy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6520" y="364500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sy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0720" y="157644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2313000" y="2808000"/>
            <a:ext cx="48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消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息类似信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信封内装有领域事件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个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Actor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是一个聚合根，与外界通过消息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JdonFramework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的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Domain Eve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2997360"/>
            <a:ext cx="1800000" cy="1368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 Mod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b2c1"/>
                </a:solidFill>
                <a:latin typeface="Arial"/>
              </a:rPr>
              <a:t>@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2852640"/>
            <a:ext cx="1728720" cy="1079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@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@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2349360"/>
            <a:ext cx="1295280" cy="252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sru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ncur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3284640"/>
            <a:ext cx="1079640" cy="431640"/>
          </a:xfrm>
          <a:prstGeom prst="rightArrow">
            <a:avLst>
              <a:gd name="adj1" fmla="val 50000"/>
              <a:gd name="adj2" fmla="val 62531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3357720"/>
            <a:ext cx="718920" cy="358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4200" y="29242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vent Sourc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436536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记录导致状态变化的一系列领域事件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事件回放可以返回系统到任何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自然实现事务机制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5761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事件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Reactor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模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63248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CQRS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命令查询分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484360" y="2205000"/>
            <a:ext cx="3959280" cy="7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00720" y="3213000"/>
            <a:ext cx="1944360" cy="576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0720" y="4076640"/>
            <a:ext cx="1944360" cy="576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1640" y="5013360"/>
            <a:ext cx="223200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/Messag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84360" y="5013360"/>
            <a:ext cx="15112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71640" y="3284640"/>
            <a:ext cx="1297080" cy="1368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292428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378936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92720" y="465300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35440" y="28735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35440" y="3736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32560" y="4600440"/>
            <a:ext cx="1676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3640" y="2924280"/>
            <a:ext cx="360360" cy="3286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4653000"/>
            <a:ext cx="360360" cy="3286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事件存储目的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EventS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现业务逻辑回放，还原某个时刻内存中聚合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现读写系统的数据同步，将状态更改反映到查询系统中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Event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用户同步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CQRS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的读写系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54943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实现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CQRS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的最终一致性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410520" cy="41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CAP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定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662200" y="2120760"/>
            <a:ext cx="38098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CQRS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成功案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:LMA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LMAX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是一种新型零售金融交易平台，它能够以很低的延迟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(latency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产生大量交易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吞吐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年建成，成功运行到现在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LMAX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贡献了事件左轮手枪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开源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rup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业务逻辑处理器完全是运行在内存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(in-memory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</a:t>
            </a:r>
            <a:r>
              <a:rPr b="0" lang="zh-CN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事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源驱动方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(event sourcing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LMAX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架构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51850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Jdon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分析法集大成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476360" y="2492280"/>
            <a:ext cx="64087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比赛案例 </a:t>
            </a:r>
            <a:r>
              <a:rPr b="0" lang="zh-CN" sz="3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详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源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19920" y="5333760"/>
            <a:ext cx="149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990720" y="1676520"/>
            <a:ext cx="670536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Spring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的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React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一个提供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Java Groov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或其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JVM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语言建立</a:t>
            </a:r>
            <a:r>
              <a:rPr b="0" lang="zh-CN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事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和数据驱动更容易的框架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很快，可以每秒处理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5,000,000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以上</a:t>
            </a:r>
            <a:r>
              <a:rPr b="0" lang="zh-CN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事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无堵塞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non-blocking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分发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patc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长任务运行无堵塞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s://</a:t>
            </a:r>
            <a:r>
              <a:rPr b="0" lang="zh-CN" sz="3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github.com</a:t>
            </a:r>
            <a:r>
              <a:rPr b="0" lang="zh-CN" sz="3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/reactor/reactor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事件驱动编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事件发生不可控，事件响应处理必须及时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事件处理不能采取传统同步模式，容易锁，堵塞，性能差，设计耦合，不能切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事件处理必须采取异步，性能高，设计松耦合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事件处理最好并发，与事件触发机制一致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区别于传统的观察者模式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Actor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模型是事件驱动编程目前最合适模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76360" y="1828440"/>
            <a:ext cx="537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资源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Jdon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框架：</a:t>
            </a:r>
            <a:r>
              <a:rPr b="0" lang="zh-CN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s://</a:t>
            </a:r>
            <a:r>
              <a:rPr b="0" lang="zh-CN" sz="1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github.com/banq/jdonframe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Spring Reac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1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s://github.com/reactor/rea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本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在线视频：</a:t>
            </a:r>
            <a:r>
              <a:rPr b="0" lang="zh-CN" sz="34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事件编程视频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视频下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762120" y="1905120"/>
            <a:ext cx="19144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Vert.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比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Node.j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快好几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6705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Vert.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Java Rub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Groov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版本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Event-based Programming Mod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Event Loo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Message Passing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类似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Ac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hared data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全局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In-memory cach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服务器后端大比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2359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Java Servlet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性能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Netty, Vert.x, and Java servlet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是快，但是惊讶于比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ruby Node.j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等快那么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Vert.x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RoR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有四十倍差距，太惊人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框架比不过原生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ervlet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性能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Tomcat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等原生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ervlet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采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N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1:40:06Z</dcterms:created>
  <dc:creator>Administrator</dc:creator>
  <dc:description/>
  <dc:language>en-US</dc:language>
  <cp:lastModifiedBy>SkyUN.Org</cp:lastModifiedBy>
  <dcterms:modified xsi:type="dcterms:W3CDTF">2013-06-08T10:00:24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