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119813" cy="3240088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514440"/>
            <a:ext cx="485784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3F35-717A-4AFB-A3DE-8B11DD54A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2143080" y="514440"/>
            <a:ext cx="4857840" cy="25718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ntimeDepend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74EC-E57E-4B58-943D-FF79AE044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6360" y="755640"/>
            <a:ext cx="55087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6360" y="1872720"/>
            <a:ext cx="55087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2367-DC39-4F05-ACF5-8E882B3D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6360" y="755640"/>
            <a:ext cx="26881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29120" y="755640"/>
            <a:ext cx="26881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6360" y="1872720"/>
            <a:ext cx="26881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129120" y="1872720"/>
            <a:ext cx="26881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61F9-C764-4875-9671-C1F2411E5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6360" y="755640"/>
            <a:ext cx="17737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69000" y="755640"/>
            <a:ext cx="17737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32000" y="755640"/>
            <a:ext cx="17737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6360" y="1872720"/>
            <a:ext cx="17737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69000" y="1872720"/>
            <a:ext cx="17737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032000" y="1872720"/>
            <a:ext cx="17737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88D4-9C5B-4A49-B0AD-67863F907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6360" y="755640"/>
            <a:ext cx="550872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D959-6D69-492C-875D-5679A2E9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6360" y="755640"/>
            <a:ext cx="5508720" cy="21384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E326-B330-4E3B-96A7-B4C3B8412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6360" y="755640"/>
            <a:ext cx="2688120" cy="21384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129120" y="755640"/>
            <a:ext cx="2688120" cy="21384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74A1-D68D-4659-821F-00E30470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2D8C-53FF-435F-A32C-D6618FC7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6360" y="129960"/>
            <a:ext cx="550872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5453-44AC-42CA-9D0A-4BABE40B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6360" y="755640"/>
            <a:ext cx="26881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29120" y="755640"/>
            <a:ext cx="2688120" cy="21384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6360" y="1872720"/>
            <a:ext cx="26881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AA68-5DCD-493F-8A81-253AE295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6360" y="755640"/>
            <a:ext cx="2688120" cy="21384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29120" y="755640"/>
            <a:ext cx="26881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29120" y="1872720"/>
            <a:ext cx="26881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72E3-DCEA-4335-B10D-20650DBD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6360" y="755640"/>
            <a:ext cx="26881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29120" y="755640"/>
            <a:ext cx="26881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6360" y="1872720"/>
            <a:ext cx="55087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E681-4310-4160-8AD4-1A48224B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6360" y="755640"/>
            <a:ext cx="5508720" cy="21384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 fontScale="78000"/>
          </a:bodyPr>
          <a:p>
            <a:pPr marL="180720" indent="-1807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89880" indent="-1483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601560" indent="-119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842040" indent="-1198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082160" indent="-1198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082160" indent="-1198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082160" indent="-1198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6360" y="2950920"/>
            <a:ext cx="1427040" cy="2235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92320" y="2950920"/>
            <a:ext cx="1936800" cy="2235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87320" y="2950920"/>
            <a:ext cx="1427400" cy="2235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fld id="{D5E90F49-DFE5-4558-9256-4D8D0785FD3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49600" y="565200"/>
            <a:ext cx="3179880" cy="1022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06560" y="622440"/>
            <a:ext cx="3422520" cy="406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33640" y="703440"/>
            <a:ext cx="115560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89360" y="703440"/>
            <a:ext cx="115704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29160" y="1179360"/>
            <a:ext cx="1157400" cy="2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0" idx="3"/>
            <a:endCxn id="51" idx="1"/>
          </p:cNvCxnSpPr>
          <p:nvPr/>
        </p:nvCxnSpPr>
        <p:spPr>
          <a:xfrm>
            <a:off x="2289240" y="822240"/>
            <a:ext cx="600480" cy="3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" name=""/>
          <p:cNvCxnSpPr>
            <a:stCxn id="51" idx="2"/>
            <a:endCxn id="52" idx="1"/>
          </p:cNvCxnSpPr>
          <p:nvPr/>
        </p:nvCxnSpPr>
        <p:spPr>
          <a:xfrm flipH="1" rot="16200000">
            <a:off x="3819960" y="589320"/>
            <a:ext cx="357480" cy="1061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0" idx="2"/>
            <a:endCxn id="52" idx="2"/>
          </p:cNvCxnSpPr>
          <p:nvPr/>
        </p:nvCxnSpPr>
        <p:spPr>
          <a:xfrm flipH="1" rot="16200000">
            <a:off x="3171600" y="-518760"/>
            <a:ext cx="476640" cy="3396600"/>
          </a:xfrm>
          <a:prstGeom prst="bentConnector3">
            <a:avLst>
              <a:gd name="adj1" fmla="val 14860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4795920" y="252360"/>
            <a:ext cx="107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pring B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36360" y="324000"/>
            <a:ext cx="753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56000" y="2522520"/>
            <a:ext cx="1300320" cy="2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52" idx="3"/>
            <a:endCxn id="58" idx="3"/>
          </p:cNvCxnSpPr>
          <p:nvPr/>
        </p:nvCxnSpPr>
        <p:spPr>
          <a:xfrm flipH="1">
            <a:off x="5656320" y="1298520"/>
            <a:ext cx="30600" cy="1343520"/>
          </a:xfrm>
          <a:prstGeom prst="bentConnector3">
            <a:avLst>
              <a:gd name="adj1" fmla="val -7642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1" idx="2"/>
            <a:endCxn id="58" idx="1"/>
          </p:cNvCxnSpPr>
          <p:nvPr/>
        </p:nvCxnSpPr>
        <p:spPr>
          <a:xfrm flipH="1" rot="16200000">
            <a:off x="3061800" y="1347120"/>
            <a:ext cx="1700640" cy="888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2629080" y="2427120"/>
            <a:ext cx="3179520" cy="417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71880" y="2092320"/>
            <a:ext cx="99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pring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51" idx="3"/>
            <a:endCxn id="52" idx="0"/>
          </p:cNvCxnSpPr>
          <p:nvPr/>
        </p:nvCxnSpPr>
        <p:spPr>
          <a:xfrm>
            <a:off x="4046400" y="822240"/>
            <a:ext cx="1061640" cy="357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24000" y="2421000"/>
            <a:ext cx="577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95040" y="2317680"/>
            <a:ext cx="683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2637000"/>
            <a:ext cx="577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93960" y="2533680"/>
            <a:ext cx="786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08:20:48Z</dcterms:created>
  <dc:creator> Dave Syer</dc:creator>
  <dc:description/>
  <dc:language>en-US</dc:language>
  <cp:lastModifiedBy> Dave Syer</cp:lastModifiedBy>
  <dcterms:modified xsi:type="dcterms:W3CDTF">2008-03-13T15:08:21Z</dcterms:modified>
  <cp:revision>49</cp:revision>
  <dc:subject/>
  <dc:title>Slide 1</dc:title>
</cp:coreProperties>
</file>