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287972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D96F-205B-4986-B945-D01776C8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5508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1663920"/>
            <a:ext cx="5508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57D-5560-47B5-A2C1-82FC1A7F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ED92-3E86-4AFC-8AB0-F7B42E18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67104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67104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166392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166392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166392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7DF-59A6-44E5-8FE1-BE73F2DF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671040"/>
            <a:ext cx="55087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E104-E80F-45DB-BDD0-D1CA19B2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55087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4D8-3FA4-42CB-B514-5A74FAF5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705D-E245-4C3A-A8B0-A66BF9EE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B51A-387E-4530-9037-5D5D845C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15920"/>
            <a:ext cx="55087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098-BBCD-48EE-A767-5FAAB48E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0C50-C60E-4411-AF53-D638EDDF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F83-09A6-4D73-AA04-72FD5A95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1663920"/>
            <a:ext cx="5508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8002-3E51-48B6-B11C-2183AC30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15920"/>
            <a:ext cx="5508720" cy="4795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671040"/>
            <a:ext cx="55087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69000"/>
          </a:bodyPr>
          <a:p>
            <a:pPr marL="159840" indent="-159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1314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532080" indent="-106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744840" indent="-106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6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6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6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2622240"/>
            <a:ext cx="1427040" cy="1998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2622240"/>
            <a:ext cx="1936800" cy="1998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2622240"/>
            <a:ext cx="1427400" cy="1998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3DFD105E-84EE-421D-89C7-635A02FFA7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16160" y="517680"/>
            <a:ext cx="1989000" cy="350640"/>
          </a:xfrm>
          <a:prstGeom prst="rect">
            <a:avLst/>
          </a:prstGeom>
          <a:solidFill>
            <a:srgbClr val="00ff00">
              <a:alpha val="90000"/>
            </a:srgbClr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95680" y="1521000"/>
            <a:ext cx="99360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16160" y="2271600"/>
            <a:ext cx="1989000" cy="3510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6200" y="1521000"/>
            <a:ext cx="84132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DA / ES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95840" y="1521000"/>
            <a:ext cx="93492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38760" y="1521000"/>
            <a:ext cx="93348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95520" y="1521000"/>
            <a:ext cx="99360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JB Partit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600" y="1481040"/>
            <a:ext cx="5263920" cy="444600"/>
          </a:xfrm>
          <a:prstGeom prst="rect">
            <a:avLst/>
          </a:prstGeom>
          <a:noFill/>
          <a:ln w="19080">
            <a:solidFill>
              <a:srgbClr val="3555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70280" y="879120"/>
            <a:ext cx="11210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pecialized Execution Environ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071960" y="1170000"/>
            <a:ext cx="588960" cy="3016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19440" y="2049480"/>
            <a:ext cx="1122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ommon Infrastruct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213080" y="2224080"/>
            <a:ext cx="424080" cy="223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00" y="-1440"/>
            <a:ext cx="1122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ame Business 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20720" y="216000"/>
            <a:ext cx="792360" cy="2872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3" idx="1"/>
            <a:endCxn id="41" idx="1"/>
          </p:cNvCxnSpPr>
          <p:nvPr/>
        </p:nvCxnSpPr>
        <p:spPr>
          <a:xfrm rot="10800000">
            <a:off x="2216160" y="693000"/>
            <a:ext cx="360" cy="1754280"/>
          </a:xfrm>
          <a:prstGeom prst="bentConnector3">
            <a:avLst>
              <a:gd name="adj1" fmla="val -64900000"/>
            </a:avLst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6" name=""/>
          <p:cNvCxnSpPr>
            <a:stCxn id="41" idx="2"/>
            <a:endCxn id="48" idx="0"/>
          </p:cNvCxnSpPr>
          <p:nvPr/>
        </p:nvCxnSpPr>
        <p:spPr>
          <a:xfrm flipH="1" rot="16200000">
            <a:off x="2904480" y="1173960"/>
            <a:ext cx="613080" cy="1440"/>
          </a:xfrm>
          <a:prstGeom prst="bentConnector3">
            <a:avLst>
              <a:gd name="adj1" fmla="val 4970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2"/>
            <a:endCxn id="43" idx="0"/>
          </p:cNvCxnSpPr>
          <p:nvPr/>
        </p:nvCxnSpPr>
        <p:spPr>
          <a:xfrm rot="5400000">
            <a:off x="3037680" y="2098080"/>
            <a:ext cx="346320" cy="144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07-08-20T20:59:35Z</dcterms:modified>
  <cp:revision>46</cp:revision>
  <dc:subject/>
  <dc:title>Slide 1</dc:title>
</cp:coreProperties>
</file>