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DE4-1DF8-447E-92BD-009A0ECEE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854-A27D-43C6-9410-F26CD22E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2A73-C476-4470-AF45-6A30B455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F618-B3C3-43B4-BD14-9EB2CE77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1A4-B93A-46E6-9168-A218D735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871D-97D9-46C2-AC5A-521C8C38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397-0CAB-45F7-9797-2A810910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24E-D5C7-4C11-896B-3FD3C49D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D768-6FFC-4D14-BB0C-70132494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44F-9147-400D-A066-14B10779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809-4988-45BD-A2DC-67A6C13F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5D64-AD51-4909-80C4-DC0389BF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6B196-EDEA-4308-8034-D4384EB4E28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ow to OpenGL ES on an iPhon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quick and basic introduction to using OpenGL on an iPho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so touch some differences between OpenGL and OpenGL 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ndering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usual, textures must have dimensions that are powers of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immediate m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Begin and glE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d in beginner tutori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st to learn OpenGL on a desktop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ter move to OpenGL 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resent Buffer (Page Flip)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ver render to scre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der to a memory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 that surface to the screen when d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OS has a different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Ph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386880" indent="-421560">
              <a:lnSpc>
                <a:spcPct val="95000"/>
              </a:lnSpc>
              <a:spcAft>
                <a:spcPts val="575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[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ex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entRenderbuffer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L_RENDERBUFFER_O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n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386880" indent="-421560">
              <a:lnSpc>
                <a:spcPct val="95000"/>
              </a:lnSpc>
              <a:spcAft>
                <a:spcPts val="575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wapBuffers(hDC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In the end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DeleteFramebuffer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DeleteRenderbuffer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High Level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Surfac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the result of your rendering go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 of your OpenGL con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are familiar with Win32 like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ndow, or button, or some other UI e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iPhone it is a UI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s a layer class of CAEAGLLay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tom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hing rectangular within some memo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rface on iPhon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 (Class) layerClass{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[CAEAGLLayer class]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EAGLLayer* eaglLayer =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CAEAGLLayer*) self.layer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CAEAGLLayer properties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penGL Contex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GL is proced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ped at the thread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context to specify multiple surfaces / thr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to get a cont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from the operating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und to a UI region / or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doing a chunk of Open GL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should choose the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ntext on iPhon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Context =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AGLContext alloc]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WithAPI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AGLRenderingAPIOpenGLES1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[EAGLContext setCurrentContext: myContext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uffer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e past this was taken care of by the OS for 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worries with resiz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have to do it in OpenGL ES on your 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amebuffer: work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nderbuffer: scree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thbuffer: your z-buff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the sample for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rojection Matrix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raphics is mostly trig and linear algeb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 a matrix to make the “3D effec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tutorials use glu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't think iPhone has GL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14280"/>
            <a:ext cx="907092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Projection on iPhone or anywhere else reall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GLUT on iPh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only use GLUT for pro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use it at a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a little Google for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Frustum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N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F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9:46:12Z</dcterms:created>
  <dc:creator/>
  <dc:description/>
  <dc:language>en-US</dc:language>
  <cp:lastModifiedBy/>
  <dcterms:modified xsi:type="dcterms:W3CDTF">2009-02-12T22:17:34Z</dcterms:modified>
  <cp:revision>6</cp:revision>
  <dc:subject/>
  <dc:title/>
</cp:coreProperties>
</file>