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16E7-6453-40D2-BDB5-0918CC49C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6E1B-3C28-45EF-A031-1C8EDF4B8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6DF7-7C6F-469D-B3DD-C508A81C1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@Path to define web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ther annotations to map requests to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ethod return value as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R and MBW help us behind the sc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A34A-380C-46F3-B6AD-26D83D293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R and MBW can be user defined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D838-E30F-45C1-BAE8-5B9745BA1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8CB9-BA51-42B4-B5E7-888F0F87D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CD77-F9DB-4AE7-836E-AEA005C03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49DE-976E-4A0B-AFDC-5AB0A3DB3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793AE-A228-4567-8C55-D6CD8DE5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0597-1269-4738-98D1-75ECCC0A2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5090-CDFF-4C00-A6D8-9385B23F5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789A-2DF9-4323-86FF-90E4617BF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AE32-876C-40E9-ACF4-824A07CCB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4E42-E478-488A-BD4F-19478D439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E0F4-1F0A-4CA2-97BB-BCD4A4626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A0B8-F47B-49F2-A7C4-AB5E6E866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4C03-C611-4B86-9BD3-197764D31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646B-57E8-4D0B-82C3-A340CBBA1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5E0C-B0E5-4C45-A9B5-0AB6C0932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04960" y="407196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200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8740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6984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0496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8740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6984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0480" indent="0" algn="ctr">
              <a:spcAft>
                <a:spcPts val="601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04960" y="32868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0480" algn="ctr"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0480" indent="0" algn="ctr">
              <a:spcAft>
                <a:spcPts val="601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2200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04960" y="407196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200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740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6984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0496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740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6984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0480" indent="0" algn="ctr">
              <a:spcAft>
                <a:spcPts val="601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04960" y="32868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0480" algn="ctr"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2200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04960" y="407196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2200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8740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6984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80496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8740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6984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0480" indent="0" algn="ctr">
              <a:spcAft>
                <a:spcPts val="601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804960" y="32868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0480" algn="ctr"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2200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804960" y="407196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2200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8740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6984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0496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8740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6984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0480" indent="0" algn="ctr">
              <a:spcAft>
                <a:spcPts val="601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04960" y="32868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0480" algn="ctr"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2200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04960" y="407196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2200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04960" y="32868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0480" algn="ctr"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40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6984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0496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40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6984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0480" indent="0" algn="ctr">
              <a:spcAft>
                <a:spcPts val="601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804960" y="32868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0480" algn="ctr"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2200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04960" y="407196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2200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8740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69840" y="203184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0496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8740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69840" y="4071960"/>
            <a:ext cx="264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2000" y="407196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496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2000" y="2031840"/>
            <a:ext cx="40158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4960" y="4071960"/>
            <a:ext cx="822960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17460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746280">
              <a:spcAft>
                <a:spcPts val="601"/>
              </a:spcAft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74628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74628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0" descr="Oracle WHITE"/>
          <p:cNvPicPr/>
          <p:nvPr/>
        </p:nvPicPr>
        <p:blipFill>
          <a:blip r:embed="rId2"/>
          <a:stretch/>
        </p:blipFill>
        <p:spPr>
          <a:xfrm>
            <a:off x="8015400" y="6224760"/>
            <a:ext cx="704880" cy="11880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4"/>
          <p:cNvGrpSpPr/>
          <p:nvPr/>
        </p:nvGrpSpPr>
        <p:grpSpPr>
          <a:xfrm>
            <a:off x="0" y="6172200"/>
            <a:ext cx="9144000" cy="223920"/>
            <a:chOff x="0" y="6172200"/>
            <a:chExt cx="9144000" cy="223920"/>
          </a:xfrm>
        </p:grpSpPr>
        <p:pic>
          <p:nvPicPr>
            <p:cNvPr id="4" name="Picture 25" descr="Red Bar"/>
            <p:cNvPicPr/>
            <p:nvPr/>
          </p:nvPicPr>
          <p:blipFill>
            <a:blip r:embed="rId3"/>
            <a:stretch/>
          </p:blipFill>
          <p:spPr>
            <a:xfrm>
              <a:off x="0" y="6172200"/>
              <a:ext cx="91440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0" descr="Oracle WHITE"/>
            <p:cNvPicPr/>
            <p:nvPr/>
          </p:nvPicPr>
          <p:blipFill>
            <a:blip r:embed="rId4"/>
            <a:stretch/>
          </p:blipFill>
          <p:spPr>
            <a:xfrm>
              <a:off x="8015760" y="6225120"/>
              <a:ext cx="703800" cy="11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" name="Group 13"/>
          <p:cNvGrpSpPr/>
          <p:nvPr/>
        </p:nvGrpSpPr>
        <p:grpSpPr>
          <a:xfrm>
            <a:off x="598320" y="6551640"/>
            <a:ext cx="4584960" cy="291960"/>
            <a:chOff x="598320" y="6551640"/>
            <a:chExt cx="4584960" cy="291960"/>
          </a:xfrm>
        </p:grpSpPr>
        <p:sp>
          <p:nvSpPr>
            <p:cNvPr id="7" name="Text Box 14"/>
            <p:cNvSpPr/>
            <p:nvPr/>
          </p:nvSpPr>
          <p:spPr>
            <a:xfrm>
              <a:off x="631440" y="6551640"/>
              <a:ext cx="2505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560" rIns="34560" tIns="17280" bIns="17280" anchor="t">
              <a:noAutofit/>
            </a:bodyPr>
            <a:p>
              <a:pPr>
                <a:tabLst>
                  <a:tab algn="l" pos="0"/>
                  <a:tab algn="l" pos="341280"/>
                  <a:tab algn="l" pos="682560"/>
                  <a:tab algn="l" pos="1023840"/>
                  <a:tab algn="l" pos="1365120"/>
                  <a:tab algn="l" pos="1706400"/>
                  <a:tab algn="l" pos="2048040"/>
                  <a:tab algn="l" pos="2389320"/>
                  <a:tab algn="l" pos="2730600"/>
                  <a:tab algn="l" pos="3071880"/>
                  <a:tab algn="l" pos="3413160"/>
                  <a:tab algn="l" pos="3754440"/>
                  <a:tab algn="l" pos="4095720"/>
                  <a:tab algn="l" pos="4437000"/>
                  <a:tab algn="l" pos="4778280"/>
                  <a:tab algn="l" pos="5119560"/>
                  <a:tab algn="l" pos="5460840"/>
                  <a:tab algn="l" pos="5802480"/>
                  <a:tab algn="l" pos="6143760"/>
                  <a:tab algn="l" pos="6485040"/>
                  <a:tab algn="l" pos="682632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pyright © 2012, Oracle and/or its affiliates. All rights reserve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Straight Connector 15"/>
            <p:cNvSpPr/>
            <p:nvPr/>
          </p:nvSpPr>
          <p:spPr>
            <a:xfrm flipH="1">
              <a:off x="598320" y="6581520"/>
              <a:ext cx="144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Text Box 14"/>
            <p:cNvSpPr/>
            <p:nvPr/>
          </p:nvSpPr>
          <p:spPr>
            <a:xfrm>
              <a:off x="2924280" y="6551640"/>
              <a:ext cx="2259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560" rIns="34560" tIns="17280" bIns="17280" anchor="t">
              <a:noAutofit/>
            </a:bodyPr>
            <a:p>
              <a:pPr>
                <a:tabLst>
                  <a:tab algn="l" pos="0"/>
                  <a:tab algn="l" pos="341280"/>
                  <a:tab algn="l" pos="682560"/>
                  <a:tab algn="l" pos="1023840"/>
                  <a:tab algn="l" pos="1365120"/>
                  <a:tab algn="l" pos="1706400"/>
                  <a:tab algn="l" pos="2048040"/>
                  <a:tab algn="l" pos="2389320"/>
                  <a:tab algn="l" pos="2730600"/>
                  <a:tab algn="l" pos="3071880"/>
                  <a:tab algn="l" pos="3413160"/>
                  <a:tab algn="l" pos="3754440"/>
                  <a:tab algn="l" pos="4095720"/>
                  <a:tab algn="l" pos="4437000"/>
                  <a:tab algn="l" pos="4778280"/>
                  <a:tab algn="l" pos="5119560"/>
                  <a:tab algn="l" pos="5460840"/>
                  <a:tab algn="l" pos="5802480"/>
                  <a:tab algn="l" pos="6143760"/>
                  <a:tab algn="l" pos="6485040"/>
                  <a:tab algn="l" pos="682632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Straight Connector 18"/>
            <p:cNvSpPr/>
            <p:nvPr/>
          </p:nvSpPr>
          <p:spPr>
            <a:xfrm flipH="1">
              <a:off x="2894040" y="6581520"/>
              <a:ext cx="144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ctangle 19"/>
          <p:cNvSpPr/>
          <p:nvPr/>
        </p:nvSpPr>
        <p:spPr>
          <a:xfrm>
            <a:off x="231480" y="6510240"/>
            <a:ext cx="529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3350-E037-44E9-B6E0-73F314FF555E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20"/>
          <p:cNvSpPr/>
          <p:nvPr/>
        </p:nvSpPr>
        <p:spPr>
          <a:xfrm>
            <a:off x="0" y="0"/>
            <a:ext cx="576360" cy="743040"/>
          </a:xfrm>
          <a:prstGeom prst="rect">
            <a:avLst/>
          </a:prstGeom>
          <a:gradFill rotWithShape="0">
            <a:gsLst>
              <a:gs pos="0">
                <a:srgbClr val="aa0000"/>
              </a:gs>
              <a:gs pos="100000">
                <a:srgbClr val="ff141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8"/>
          <p:cNvSpPr/>
          <p:nvPr/>
        </p:nvSpPr>
        <p:spPr>
          <a:xfrm>
            <a:off x="0" y="-33480"/>
            <a:ext cx="9144000" cy="5543640"/>
          </a:xfrm>
          <a:prstGeom prst="rect">
            <a:avLst/>
          </a:prstGeom>
          <a:gradFill rotWithShape="0">
            <a:gsLst>
              <a:gs pos="0">
                <a:srgbClr val="ff1414"/>
              </a:gs>
              <a:gs pos="100000">
                <a:srgbClr val="aa0000"/>
              </a:gs>
            </a:gsLst>
            <a:lin ang="5400000"/>
          </a:gradFill>
          <a:ln w="0">
            <a:noFill/>
          </a:ln>
          <a:effectLst>
            <a:outerShdw dist="63639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O_signature_wht_rgb.png"/>
          <p:cNvPicPr/>
          <p:nvPr/>
        </p:nvPicPr>
        <p:blipFill>
          <a:blip r:embed="rId2"/>
          <a:stretch/>
        </p:blipFill>
        <p:spPr>
          <a:xfrm>
            <a:off x="262080" y="338040"/>
            <a:ext cx="2498760" cy="882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17460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746280">
              <a:spcAft>
                <a:spcPts val="601"/>
              </a:spcAft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74628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74628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0" descr="Oracle WHITE"/>
          <p:cNvPicPr/>
          <p:nvPr/>
        </p:nvPicPr>
        <p:blipFill>
          <a:blip r:embed="rId2"/>
          <a:stretch/>
        </p:blipFill>
        <p:spPr>
          <a:xfrm>
            <a:off x="8015400" y="6224760"/>
            <a:ext cx="704880" cy="1188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4"/>
          <p:cNvGrpSpPr/>
          <p:nvPr/>
        </p:nvGrpSpPr>
        <p:grpSpPr>
          <a:xfrm>
            <a:off x="0" y="6172200"/>
            <a:ext cx="9144000" cy="223920"/>
            <a:chOff x="0" y="6172200"/>
            <a:chExt cx="9144000" cy="223920"/>
          </a:xfrm>
        </p:grpSpPr>
        <p:pic>
          <p:nvPicPr>
            <p:cNvPr id="91" name="Picture 25" descr="Red Bar"/>
            <p:cNvPicPr/>
            <p:nvPr/>
          </p:nvPicPr>
          <p:blipFill>
            <a:blip r:embed="rId3"/>
            <a:stretch/>
          </p:blipFill>
          <p:spPr>
            <a:xfrm>
              <a:off x="0" y="6172200"/>
              <a:ext cx="91440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0" descr="Oracle WHITE"/>
            <p:cNvPicPr/>
            <p:nvPr/>
          </p:nvPicPr>
          <p:blipFill>
            <a:blip r:embed="rId4"/>
            <a:stretch/>
          </p:blipFill>
          <p:spPr>
            <a:xfrm>
              <a:off x="8015760" y="6225120"/>
              <a:ext cx="703800" cy="11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13"/>
          <p:cNvGrpSpPr/>
          <p:nvPr/>
        </p:nvGrpSpPr>
        <p:grpSpPr>
          <a:xfrm>
            <a:off x="598320" y="6551640"/>
            <a:ext cx="4584960" cy="291960"/>
            <a:chOff x="598320" y="6551640"/>
            <a:chExt cx="4584960" cy="291960"/>
          </a:xfrm>
        </p:grpSpPr>
        <p:sp>
          <p:nvSpPr>
            <p:cNvPr id="94" name="Text Box 14"/>
            <p:cNvSpPr/>
            <p:nvPr/>
          </p:nvSpPr>
          <p:spPr>
            <a:xfrm>
              <a:off x="631440" y="6551640"/>
              <a:ext cx="2505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560" rIns="34560" tIns="17280" bIns="17280" anchor="t">
              <a:noAutofit/>
            </a:bodyPr>
            <a:p>
              <a:pPr>
                <a:tabLst>
                  <a:tab algn="l" pos="0"/>
                  <a:tab algn="l" pos="341280"/>
                  <a:tab algn="l" pos="682560"/>
                  <a:tab algn="l" pos="1023840"/>
                  <a:tab algn="l" pos="1365120"/>
                  <a:tab algn="l" pos="1706400"/>
                  <a:tab algn="l" pos="2048040"/>
                  <a:tab algn="l" pos="2389320"/>
                  <a:tab algn="l" pos="2730600"/>
                  <a:tab algn="l" pos="3071880"/>
                  <a:tab algn="l" pos="3413160"/>
                  <a:tab algn="l" pos="3754440"/>
                  <a:tab algn="l" pos="4095720"/>
                  <a:tab algn="l" pos="4437000"/>
                  <a:tab algn="l" pos="4778280"/>
                  <a:tab algn="l" pos="5119560"/>
                  <a:tab algn="l" pos="5460840"/>
                  <a:tab algn="l" pos="5802480"/>
                  <a:tab algn="l" pos="6143760"/>
                  <a:tab algn="l" pos="6485040"/>
                  <a:tab algn="l" pos="682632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pyright © 2012, Oracle and/or its affiliates. All rights reserve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5"/>
            <p:cNvSpPr/>
            <p:nvPr/>
          </p:nvSpPr>
          <p:spPr>
            <a:xfrm flipH="1">
              <a:off x="598320" y="6581520"/>
              <a:ext cx="144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4"/>
            <p:cNvSpPr/>
            <p:nvPr/>
          </p:nvSpPr>
          <p:spPr>
            <a:xfrm>
              <a:off x="2924280" y="6551640"/>
              <a:ext cx="2259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560" rIns="34560" tIns="17280" bIns="17280" anchor="t">
              <a:noAutofit/>
            </a:bodyPr>
            <a:p>
              <a:pPr>
                <a:tabLst>
                  <a:tab algn="l" pos="0"/>
                  <a:tab algn="l" pos="341280"/>
                  <a:tab algn="l" pos="682560"/>
                  <a:tab algn="l" pos="1023840"/>
                  <a:tab algn="l" pos="1365120"/>
                  <a:tab algn="l" pos="1706400"/>
                  <a:tab algn="l" pos="2048040"/>
                  <a:tab algn="l" pos="2389320"/>
                  <a:tab algn="l" pos="2730600"/>
                  <a:tab algn="l" pos="3071880"/>
                  <a:tab algn="l" pos="3413160"/>
                  <a:tab algn="l" pos="3754440"/>
                  <a:tab algn="l" pos="4095720"/>
                  <a:tab algn="l" pos="4437000"/>
                  <a:tab algn="l" pos="4778280"/>
                  <a:tab algn="l" pos="5119560"/>
                  <a:tab algn="l" pos="5460840"/>
                  <a:tab algn="l" pos="5802480"/>
                  <a:tab algn="l" pos="6143760"/>
                  <a:tab algn="l" pos="6485040"/>
                  <a:tab algn="l" pos="682632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18"/>
            <p:cNvSpPr/>
            <p:nvPr/>
          </p:nvSpPr>
          <p:spPr>
            <a:xfrm flipH="1">
              <a:off x="2894040" y="6581520"/>
              <a:ext cx="144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9"/>
          <p:cNvSpPr/>
          <p:nvPr/>
        </p:nvSpPr>
        <p:spPr>
          <a:xfrm>
            <a:off x="231480" y="6510240"/>
            <a:ext cx="529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650C-D2F7-4A65-A817-DD5AC19EA65F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0" y="0"/>
            <a:ext cx="576360" cy="743040"/>
          </a:xfrm>
          <a:prstGeom prst="rect">
            <a:avLst/>
          </a:prstGeom>
          <a:gradFill rotWithShape="0">
            <a:gsLst>
              <a:gs pos="0">
                <a:srgbClr val="aa0000"/>
              </a:gs>
              <a:gs pos="100000">
                <a:srgbClr val="ff141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1547640"/>
            <a:ext cx="9144000" cy="39722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b3b3b3"/>
              </a:gs>
            </a:gsLst>
            <a:lin ang="5400000"/>
          </a:gradFill>
          <a:ln w="0">
            <a:noFill/>
          </a:ln>
          <a:effectLst>
            <a:outerShdw dist="63378" dir="7795834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9"/>
          <p:cNvGrpSpPr/>
          <p:nvPr/>
        </p:nvGrpSpPr>
        <p:grpSpPr>
          <a:xfrm>
            <a:off x="0" y="6172200"/>
            <a:ext cx="9144000" cy="223920"/>
            <a:chOff x="0" y="6172200"/>
            <a:chExt cx="9144000" cy="223920"/>
          </a:xfrm>
        </p:grpSpPr>
        <p:pic>
          <p:nvPicPr>
            <p:cNvPr id="102" name="Picture 25" descr="Red Bar"/>
            <p:cNvPicPr/>
            <p:nvPr/>
          </p:nvPicPr>
          <p:blipFill>
            <a:blip r:embed="rId5"/>
            <a:stretch/>
          </p:blipFill>
          <p:spPr>
            <a:xfrm>
              <a:off x="0" y="6172200"/>
              <a:ext cx="91440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0" descr="Oracle WHITE"/>
            <p:cNvPicPr/>
            <p:nvPr/>
          </p:nvPicPr>
          <p:blipFill>
            <a:blip r:embed="rId6"/>
            <a:stretch/>
          </p:blipFill>
          <p:spPr>
            <a:xfrm>
              <a:off x="8015760" y="6225120"/>
              <a:ext cx="703800" cy="11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17460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746280">
              <a:spcAft>
                <a:spcPts val="601"/>
              </a:spcAft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74628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74628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0" descr="Oracle WHITE"/>
          <p:cNvPicPr/>
          <p:nvPr/>
        </p:nvPicPr>
        <p:blipFill>
          <a:blip r:embed="rId2"/>
          <a:stretch/>
        </p:blipFill>
        <p:spPr>
          <a:xfrm>
            <a:off x="8015400" y="6224760"/>
            <a:ext cx="704880" cy="1188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4"/>
          <p:cNvGrpSpPr/>
          <p:nvPr/>
        </p:nvGrpSpPr>
        <p:grpSpPr>
          <a:xfrm>
            <a:off x="0" y="6172200"/>
            <a:ext cx="9144000" cy="223920"/>
            <a:chOff x="0" y="6172200"/>
            <a:chExt cx="9144000" cy="223920"/>
          </a:xfrm>
        </p:grpSpPr>
        <p:pic>
          <p:nvPicPr>
            <p:cNvPr id="144" name="Picture 25" descr="Red Bar"/>
            <p:cNvPicPr/>
            <p:nvPr/>
          </p:nvPicPr>
          <p:blipFill>
            <a:blip r:embed="rId3"/>
            <a:stretch/>
          </p:blipFill>
          <p:spPr>
            <a:xfrm>
              <a:off x="0" y="6172200"/>
              <a:ext cx="91440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0" descr="Oracle WHITE"/>
            <p:cNvPicPr/>
            <p:nvPr/>
          </p:nvPicPr>
          <p:blipFill>
            <a:blip r:embed="rId4"/>
            <a:stretch/>
          </p:blipFill>
          <p:spPr>
            <a:xfrm>
              <a:off x="8015760" y="6225120"/>
              <a:ext cx="703800" cy="11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13"/>
          <p:cNvGrpSpPr/>
          <p:nvPr/>
        </p:nvGrpSpPr>
        <p:grpSpPr>
          <a:xfrm>
            <a:off x="598320" y="6551640"/>
            <a:ext cx="4584960" cy="291960"/>
            <a:chOff x="598320" y="6551640"/>
            <a:chExt cx="4584960" cy="291960"/>
          </a:xfrm>
        </p:grpSpPr>
        <p:sp>
          <p:nvSpPr>
            <p:cNvPr id="147" name="Text Box 14"/>
            <p:cNvSpPr/>
            <p:nvPr/>
          </p:nvSpPr>
          <p:spPr>
            <a:xfrm>
              <a:off x="631440" y="6551640"/>
              <a:ext cx="2505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560" rIns="34560" tIns="17280" bIns="17280" anchor="t">
              <a:noAutofit/>
            </a:bodyPr>
            <a:p>
              <a:pPr>
                <a:tabLst>
                  <a:tab algn="l" pos="0"/>
                  <a:tab algn="l" pos="341280"/>
                  <a:tab algn="l" pos="682560"/>
                  <a:tab algn="l" pos="1023840"/>
                  <a:tab algn="l" pos="1365120"/>
                  <a:tab algn="l" pos="1706400"/>
                  <a:tab algn="l" pos="2048040"/>
                  <a:tab algn="l" pos="2389320"/>
                  <a:tab algn="l" pos="2730600"/>
                  <a:tab algn="l" pos="3071880"/>
                  <a:tab algn="l" pos="3413160"/>
                  <a:tab algn="l" pos="3754440"/>
                  <a:tab algn="l" pos="4095720"/>
                  <a:tab algn="l" pos="4437000"/>
                  <a:tab algn="l" pos="4778280"/>
                  <a:tab algn="l" pos="5119560"/>
                  <a:tab algn="l" pos="5460840"/>
                  <a:tab algn="l" pos="5802480"/>
                  <a:tab algn="l" pos="6143760"/>
                  <a:tab algn="l" pos="6485040"/>
                  <a:tab algn="l" pos="682632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pyright © 2012, Oracle and/or its affiliates. All rights reserve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15"/>
            <p:cNvSpPr/>
            <p:nvPr/>
          </p:nvSpPr>
          <p:spPr>
            <a:xfrm flipH="1">
              <a:off x="598320" y="6581520"/>
              <a:ext cx="144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4"/>
            <p:cNvSpPr/>
            <p:nvPr/>
          </p:nvSpPr>
          <p:spPr>
            <a:xfrm>
              <a:off x="2924280" y="6551640"/>
              <a:ext cx="2259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560" rIns="34560" tIns="17280" bIns="17280" anchor="t">
              <a:noAutofit/>
            </a:bodyPr>
            <a:p>
              <a:pPr>
                <a:tabLst>
                  <a:tab algn="l" pos="0"/>
                  <a:tab algn="l" pos="341280"/>
                  <a:tab algn="l" pos="682560"/>
                  <a:tab algn="l" pos="1023840"/>
                  <a:tab algn="l" pos="1365120"/>
                  <a:tab algn="l" pos="1706400"/>
                  <a:tab algn="l" pos="2048040"/>
                  <a:tab algn="l" pos="2389320"/>
                  <a:tab algn="l" pos="2730600"/>
                  <a:tab algn="l" pos="3071880"/>
                  <a:tab algn="l" pos="3413160"/>
                  <a:tab algn="l" pos="3754440"/>
                  <a:tab algn="l" pos="4095720"/>
                  <a:tab algn="l" pos="4437000"/>
                  <a:tab algn="l" pos="4778280"/>
                  <a:tab algn="l" pos="5119560"/>
                  <a:tab algn="l" pos="5460840"/>
                  <a:tab algn="l" pos="5802480"/>
                  <a:tab algn="l" pos="6143760"/>
                  <a:tab algn="l" pos="6485040"/>
                  <a:tab algn="l" pos="682632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18"/>
            <p:cNvSpPr/>
            <p:nvPr/>
          </p:nvSpPr>
          <p:spPr>
            <a:xfrm flipH="1">
              <a:off x="2894040" y="6581520"/>
              <a:ext cx="144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9"/>
          <p:cNvSpPr/>
          <p:nvPr/>
        </p:nvSpPr>
        <p:spPr>
          <a:xfrm>
            <a:off x="231480" y="6510240"/>
            <a:ext cx="529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1A72-E50E-4205-9C68-9EC9A74939C8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0" y="0"/>
            <a:ext cx="576360" cy="743040"/>
          </a:xfrm>
          <a:prstGeom prst="rect">
            <a:avLst/>
          </a:prstGeom>
          <a:gradFill rotWithShape="0">
            <a:gsLst>
              <a:gs pos="0">
                <a:srgbClr val="aa0000"/>
              </a:gs>
              <a:gs pos="100000">
                <a:srgbClr val="ff141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4"/>
          <p:cNvGrpSpPr/>
          <p:nvPr/>
        </p:nvGrpSpPr>
        <p:grpSpPr>
          <a:xfrm>
            <a:off x="1585800" y="2367000"/>
            <a:ext cx="5926320" cy="2124000"/>
            <a:chOff x="1585800" y="2367000"/>
            <a:chExt cx="5926320" cy="2124000"/>
          </a:xfrm>
        </p:grpSpPr>
        <p:pic>
          <p:nvPicPr>
            <p:cNvPr id="155" name="Picture 10" descr=""/>
            <p:cNvPicPr/>
            <p:nvPr/>
          </p:nvPicPr>
          <p:blipFill>
            <a:blip r:embed="rId6"/>
            <a:stretch/>
          </p:blipFill>
          <p:spPr>
            <a:xfrm>
              <a:off x="1585800" y="2367000"/>
              <a:ext cx="5926320" cy="21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034" descr="HSET_clr_rgb"/>
            <p:cNvPicPr/>
            <p:nvPr/>
          </p:nvPicPr>
          <p:blipFill>
            <a:blip r:embed="rId7"/>
            <a:stretch/>
          </p:blipFill>
          <p:spPr>
            <a:xfrm>
              <a:off x="2027520" y="2680920"/>
              <a:ext cx="5018400" cy="159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17460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746280">
              <a:spcAft>
                <a:spcPts val="601"/>
              </a:spcAft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74628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74628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0" descr="Oracle WHITE"/>
          <p:cNvPicPr/>
          <p:nvPr/>
        </p:nvPicPr>
        <p:blipFill>
          <a:blip r:embed="rId2"/>
          <a:stretch/>
        </p:blipFill>
        <p:spPr>
          <a:xfrm>
            <a:off x="8015400" y="6224760"/>
            <a:ext cx="704880" cy="1188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4"/>
          <p:cNvGrpSpPr/>
          <p:nvPr/>
        </p:nvGrpSpPr>
        <p:grpSpPr>
          <a:xfrm>
            <a:off x="0" y="6172200"/>
            <a:ext cx="9144000" cy="223920"/>
            <a:chOff x="0" y="6172200"/>
            <a:chExt cx="9144000" cy="223920"/>
          </a:xfrm>
        </p:grpSpPr>
        <p:pic>
          <p:nvPicPr>
            <p:cNvPr id="197" name="Picture 25" descr="Red Bar"/>
            <p:cNvPicPr/>
            <p:nvPr/>
          </p:nvPicPr>
          <p:blipFill>
            <a:blip r:embed="rId3"/>
            <a:stretch/>
          </p:blipFill>
          <p:spPr>
            <a:xfrm>
              <a:off x="0" y="6172200"/>
              <a:ext cx="91440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0" descr="Oracle WHITE"/>
            <p:cNvPicPr/>
            <p:nvPr/>
          </p:nvPicPr>
          <p:blipFill>
            <a:blip r:embed="rId4"/>
            <a:stretch/>
          </p:blipFill>
          <p:spPr>
            <a:xfrm>
              <a:off x="8015760" y="6225120"/>
              <a:ext cx="703800" cy="11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13"/>
          <p:cNvGrpSpPr/>
          <p:nvPr/>
        </p:nvGrpSpPr>
        <p:grpSpPr>
          <a:xfrm>
            <a:off x="598320" y="6551640"/>
            <a:ext cx="4584960" cy="291960"/>
            <a:chOff x="598320" y="6551640"/>
            <a:chExt cx="4584960" cy="291960"/>
          </a:xfrm>
        </p:grpSpPr>
        <p:sp>
          <p:nvSpPr>
            <p:cNvPr id="200" name="Text Box 14"/>
            <p:cNvSpPr/>
            <p:nvPr/>
          </p:nvSpPr>
          <p:spPr>
            <a:xfrm>
              <a:off x="631440" y="6551640"/>
              <a:ext cx="2505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560" rIns="34560" tIns="17280" bIns="17280" anchor="t">
              <a:noAutofit/>
            </a:bodyPr>
            <a:p>
              <a:pPr>
                <a:tabLst>
                  <a:tab algn="l" pos="0"/>
                  <a:tab algn="l" pos="341280"/>
                  <a:tab algn="l" pos="682560"/>
                  <a:tab algn="l" pos="1023840"/>
                  <a:tab algn="l" pos="1365120"/>
                  <a:tab algn="l" pos="1706400"/>
                  <a:tab algn="l" pos="2048040"/>
                  <a:tab algn="l" pos="2389320"/>
                  <a:tab algn="l" pos="2730600"/>
                  <a:tab algn="l" pos="3071880"/>
                  <a:tab algn="l" pos="3413160"/>
                  <a:tab algn="l" pos="3754440"/>
                  <a:tab algn="l" pos="4095720"/>
                  <a:tab algn="l" pos="4437000"/>
                  <a:tab algn="l" pos="4778280"/>
                  <a:tab algn="l" pos="5119560"/>
                  <a:tab algn="l" pos="5460840"/>
                  <a:tab algn="l" pos="5802480"/>
                  <a:tab algn="l" pos="6143760"/>
                  <a:tab algn="l" pos="6485040"/>
                  <a:tab algn="l" pos="682632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pyright © 2012, Oracle and/or its affiliates. All rights reserve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15"/>
            <p:cNvSpPr/>
            <p:nvPr/>
          </p:nvSpPr>
          <p:spPr>
            <a:xfrm flipH="1">
              <a:off x="598320" y="6581520"/>
              <a:ext cx="144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2924280" y="6551640"/>
              <a:ext cx="2259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560" rIns="34560" tIns="17280" bIns="17280" anchor="t">
              <a:noAutofit/>
            </a:bodyPr>
            <a:p>
              <a:pPr>
                <a:tabLst>
                  <a:tab algn="l" pos="0"/>
                  <a:tab algn="l" pos="341280"/>
                  <a:tab algn="l" pos="682560"/>
                  <a:tab algn="l" pos="1023840"/>
                  <a:tab algn="l" pos="1365120"/>
                  <a:tab algn="l" pos="1706400"/>
                  <a:tab algn="l" pos="2048040"/>
                  <a:tab algn="l" pos="2389320"/>
                  <a:tab algn="l" pos="2730600"/>
                  <a:tab algn="l" pos="3071880"/>
                  <a:tab algn="l" pos="3413160"/>
                  <a:tab algn="l" pos="3754440"/>
                  <a:tab algn="l" pos="4095720"/>
                  <a:tab algn="l" pos="4437000"/>
                  <a:tab algn="l" pos="4778280"/>
                  <a:tab algn="l" pos="5119560"/>
                  <a:tab algn="l" pos="5460840"/>
                  <a:tab algn="l" pos="5802480"/>
                  <a:tab algn="l" pos="6143760"/>
                  <a:tab algn="l" pos="6485040"/>
                  <a:tab algn="l" pos="682632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18"/>
            <p:cNvSpPr/>
            <p:nvPr/>
          </p:nvSpPr>
          <p:spPr>
            <a:xfrm flipH="1">
              <a:off x="2894040" y="6581520"/>
              <a:ext cx="144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19"/>
          <p:cNvSpPr/>
          <p:nvPr/>
        </p:nvSpPr>
        <p:spPr>
          <a:xfrm>
            <a:off x="231480" y="6510240"/>
            <a:ext cx="529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6E29-2189-4348-A15B-4C4C0364A8EA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0" y="0"/>
            <a:ext cx="576360" cy="743040"/>
          </a:xfrm>
          <a:prstGeom prst="rect">
            <a:avLst/>
          </a:prstGeom>
          <a:gradFill rotWithShape="0">
            <a:gsLst>
              <a:gs pos="0">
                <a:srgbClr val="aa0000"/>
              </a:gs>
              <a:gs pos="100000">
                <a:srgbClr val="ff141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1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O_signature_clr_rgb.jpg"/>
          <p:cNvPicPr/>
          <p:nvPr/>
        </p:nvPicPr>
        <p:blipFill>
          <a:blip r:embed="rId6"/>
          <a:stretch/>
        </p:blipFill>
        <p:spPr>
          <a:xfrm>
            <a:off x="855720" y="1771560"/>
            <a:ext cx="7315200" cy="2998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17460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746280">
              <a:spcAft>
                <a:spcPts val="601"/>
              </a:spcAft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74628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74628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0" descr="Oracle WHITE"/>
          <p:cNvPicPr/>
          <p:nvPr/>
        </p:nvPicPr>
        <p:blipFill>
          <a:blip r:embed="rId2"/>
          <a:stretch/>
        </p:blipFill>
        <p:spPr>
          <a:xfrm>
            <a:off x="8015400" y="6224760"/>
            <a:ext cx="704880" cy="1188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4"/>
          <p:cNvGrpSpPr/>
          <p:nvPr/>
        </p:nvGrpSpPr>
        <p:grpSpPr>
          <a:xfrm>
            <a:off x="0" y="6172200"/>
            <a:ext cx="9144000" cy="223920"/>
            <a:chOff x="0" y="6172200"/>
            <a:chExt cx="9144000" cy="223920"/>
          </a:xfrm>
        </p:grpSpPr>
        <p:pic>
          <p:nvPicPr>
            <p:cNvPr id="248" name="Picture 25" descr="Red Bar"/>
            <p:cNvPicPr/>
            <p:nvPr/>
          </p:nvPicPr>
          <p:blipFill>
            <a:blip r:embed="rId3"/>
            <a:stretch/>
          </p:blipFill>
          <p:spPr>
            <a:xfrm>
              <a:off x="0" y="6172200"/>
              <a:ext cx="91440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20" descr="Oracle WHITE"/>
            <p:cNvPicPr/>
            <p:nvPr/>
          </p:nvPicPr>
          <p:blipFill>
            <a:blip r:embed="rId4"/>
            <a:stretch/>
          </p:blipFill>
          <p:spPr>
            <a:xfrm>
              <a:off x="8015760" y="6225120"/>
              <a:ext cx="703800" cy="11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Group 13"/>
          <p:cNvGrpSpPr/>
          <p:nvPr/>
        </p:nvGrpSpPr>
        <p:grpSpPr>
          <a:xfrm>
            <a:off x="598320" y="6551640"/>
            <a:ext cx="4584960" cy="291960"/>
            <a:chOff x="598320" y="6551640"/>
            <a:chExt cx="4584960" cy="291960"/>
          </a:xfrm>
        </p:grpSpPr>
        <p:sp>
          <p:nvSpPr>
            <p:cNvPr id="251" name="Text Box 14"/>
            <p:cNvSpPr/>
            <p:nvPr/>
          </p:nvSpPr>
          <p:spPr>
            <a:xfrm>
              <a:off x="631440" y="6551640"/>
              <a:ext cx="2505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560" rIns="34560" tIns="17280" bIns="17280" anchor="t">
              <a:noAutofit/>
            </a:bodyPr>
            <a:p>
              <a:pPr>
                <a:tabLst>
                  <a:tab algn="l" pos="0"/>
                  <a:tab algn="l" pos="341280"/>
                  <a:tab algn="l" pos="682560"/>
                  <a:tab algn="l" pos="1023840"/>
                  <a:tab algn="l" pos="1365120"/>
                  <a:tab algn="l" pos="1706400"/>
                  <a:tab algn="l" pos="2048040"/>
                  <a:tab algn="l" pos="2389320"/>
                  <a:tab algn="l" pos="2730600"/>
                  <a:tab algn="l" pos="3071880"/>
                  <a:tab algn="l" pos="3413160"/>
                  <a:tab algn="l" pos="3754440"/>
                  <a:tab algn="l" pos="4095720"/>
                  <a:tab algn="l" pos="4437000"/>
                  <a:tab algn="l" pos="4778280"/>
                  <a:tab algn="l" pos="5119560"/>
                  <a:tab algn="l" pos="5460840"/>
                  <a:tab algn="l" pos="5802480"/>
                  <a:tab algn="l" pos="6143760"/>
                  <a:tab algn="l" pos="6485040"/>
                  <a:tab algn="l" pos="682632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pyright © 2012, Oracle and/or its affiliates. All rights reserve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Straight Connector 15"/>
            <p:cNvSpPr/>
            <p:nvPr/>
          </p:nvSpPr>
          <p:spPr>
            <a:xfrm flipH="1">
              <a:off x="598320" y="6581520"/>
              <a:ext cx="144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2924280" y="6551640"/>
              <a:ext cx="2259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560" rIns="34560" tIns="17280" bIns="17280" anchor="t">
              <a:noAutofit/>
            </a:bodyPr>
            <a:p>
              <a:pPr>
                <a:tabLst>
                  <a:tab algn="l" pos="0"/>
                  <a:tab algn="l" pos="341280"/>
                  <a:tab algn="l" pos="682560"/>
                  <a:tab algn="l" pos="1023840"/>
                  <a:tab algn="l" pos="1365120"/>
                  <a:tab algn="l" pos="1706400"/>
                  <a:tab algn="l" pos="2048040"/>
                  <a:tab algn="l" pos="2389320"/>
                  <a:tab algn="l" pos="2730600"/>
                  <a:tab algn="l" pos="3071880"/>
                  <a:tab algn="l" pos="3413160"/>
                  <a:tab algn="l" pos="3754440"/>
                  <a:tab algn="l" pos="4095720"/>
                  <a:tab algn="l" pos="4437000"/>
                  <a:tab algn="l" pos="4778280"/>
                  <a:tab algn="l" pos="5119560"/>
                  <a:tab algn="l" pos="5460840"/>
                  <a:tab algn="l" pos="5802480"/>
                  <a:tab algn="l" pos="6143760"/>
                  <a:tab algn="l" pos="6485040"/>
                  <a:tab algn="l" pos="682632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traight Connector 18"/>
            <p:cNvSpPr/>
            <p:nvPr/>
          </p:nvSpPr>
          <p:spPr>
            <a:xfrm flipH="1">
              <a:off x="2894040" y="6581520"/>
              <a:ext cx="144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19"/>
          <p:cNvSpPr/>
          <p:nvPr/>
        </p:nvSpPr>
        <p:spPr>
          <a:xfrm>
            <a:off x="231480" y="6510240"/>
            <a:ext cx="529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934C-00A1-4209-AE3D-C54F6CCF19AD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0"/>
          <p:cNvSpPr/>
          <p:nvPr/>
        </p:nvSpPr>
        <p:spPr>
          <a:xfrm>
            <a:off x="0" y="0"/>
            <a:ext cx="576360" cy="743040"/>
          </a:xfrm>
          <a:prstGeom prst="rect">
            <a:avLst/>
          </a:prstGeom>
          <a:gradFill rotWithShape="0">
            <a:gsLst>
              <a:gs pos="0">
                <a:srgbClr val="aa0000"/>
              </a:gs>
              <a:gs pos="100000">
                <a:srgbClr val="ff141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4184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04960" y="20318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17460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746280">
              <a:spcAft>
                <a:spcPts val="601"/>
              </a:spcAft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74628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74628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estkit.org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s://github.com/m-reza-rahman/javaee-mobil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X-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04600" y="1154160"/>
            <a:ext cx="797076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 development API for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and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ion based, decla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@Path, @GET, @POST, @PUT, @DELETE, @PathParam, @QueryParam, @Produces, @Consu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gable and ext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s, filters, interce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0040" y="30312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X-RS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"/>
          <p:cNvSpPr/>
          <p:nvPr/>
        </p:nvSpPr>
        <p:spPr>
          <a:xfrm>
            <a:off x="847800" y="1320840"/>
            <a:ext cx="2162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598320" y="1074600"/>
            <a:ext cx="81061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@Path("/atm/{cardId}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AtmSer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@G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@Path("/balance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</a:rPr>
              <a:t>@Produces("text/plain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lance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@PathParam("cardId"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car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@QueryParam("pin"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pi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Double.toString(getBalance(card, pin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82640" y="29052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X-RS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6"/>
          <p:cNvSpPr/>
          <p:nvPr/>
        </p:nvSpPr>
        <p:spPr>
          <a:xfrm>
            <a:off x="847800" y="1320840"/>
            <a:ext cx="2162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657360" y="1006560"/>
            <a:ext cx="81057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@P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@Path("/withdrawal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</a:rPr>
              <a:t>@Consumes("text/plain"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d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</a:rPr>
              <a:t>@Produces("application/json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</a:rPr>
              <a:t>Mone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ithdraw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@PathParam("card"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car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@QueryParam("pin"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pi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d1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</a:rPr>
              <a:t>Str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mou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getMoney(card, pin, amou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API for WebSoc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04960" y="1154160"/>
            <a:ext cx="78883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evel declarative API for Web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client and server-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powerful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@ServerEndpoint, @OnOpen, @OnClose, @OnMessage, @OnError, Session, 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gable and ext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s, decoders, sub-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Socket S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04600" y="1115640"/>
            <a:ext cx="778644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@ServerEndpoint("/chat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ChatBe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ession&gt; peers = Collections.synchronizedSet(…)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@OnOp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public void onOpen(Session peer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peers.add(peer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@OnClo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public void onClose(Session peer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peers.remove(peer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Socket Sampl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04960" y="1230120"/>
            <a:ext cx="7905600" cy="35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@On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message(String message, Session clie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ession peer : peers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peer.getRemote().sendObject(message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04960" y="1174320"/>
            <a:ext cx="8229600" cy="30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S provides built-in support for REST and J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ality can be augmented with external libraries like RestK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S has no built-in WebSocket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rnal library required such as SocketR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 supported for both REST and WebSoc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4960" y="64728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1414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S and R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04960" y="15224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Kit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restki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Data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Map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gable Par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IME types, multi-part sub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04960" y="64728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1414"/>
                </a:solidFill>
                <a:latin typeface="Arial"/>
              </a:rPr>
              <a:t>Res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4873680" y="1163520"/>
            <a:ext cx="3568680" cy="914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S and R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04960" y="64728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1414"/>
                </a:solidFill>
                <a:latin typeface="Arial"/>
              </a:rPr>
              <a:t>RestKit –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76320" y="1150920"/>
            <a:ext cx="9067680" cy="208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S and R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04960" y="64728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1414"/>
                </a:solidFill>
                <a:latin typeface="Arial"/>
              </a:rPr>
              <a:t>RestKit – Object Mapping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"/>
          <p:cNvPicPr/>
          <p:nvPr/>
        </p:nvPicPr>
        <p:blipFill>
          <a:blip r:embed="rId1"/>
          <a:stretch/>
        </p:blipFill>
        <p:spPr>
          <a:xfrm>
            <a:off x="328680" y="1208160"/>
            <a:ext cx="839628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0720" y="2109960"/>
            <a:ext cx="502776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roid and iOS Development with JAX-RS, WebSocket and Java EE 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0720" y="3885840"/>
            <a:ext cx="502776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za Rahman, 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laji Muthuvarathan, Cap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yan Cuprak, Dassault System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S and R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04960" y="64728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1414"/>
                </a:solidFill>
                <a:latin typeface="Arial"/>
              </a:rPr>
              <a:t>RestKit – Invoking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98360" y="1166760"/>
            <a:ext cx="8647200" cy="449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S and R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04960" y="64728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1414"/>
                </a:solidFill>
                <a:latin typeface="Arial"/>
              </a:rPr>
              <a:t>NSURL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820800" y="1030320"/>
            <a:ext cx="6657840" cy="506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S and WebSoc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04960" y="1174320"/>
            <a:ext cx="8229600" cy="30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 library WebSocket library for 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github.com/square/SocketR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 2.0 Lice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regression su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secure WebSoc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proxy SRWebSocketDeleg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project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04960" y="64728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1414"/>
                </a:solidFill>
                <a:latin typeface="Arial"/>
              </a:rPr>
              <a:t>SocketR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S and WebSoc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04960" y="11617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Message Call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(void)webSocket:(SRWebSocket*)webSoc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dReceiveMessage:(id)mess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Socket Open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85000"/>
              <a:buFont typeface="Courier New"/>
              <a:buChar char="-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void)webSocketDidOpen:(SRWebSocket*)webSock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Socket Connection F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85000"/>
              <a:buFont typeface="Courier New"/>
              <a:buChar char="-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void)webSocket:(SRWebSocket*)webSoc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dFailWithError:(NSError*)err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Socket F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85000"/>
              <a:buFont typeface="Courier New"/>
              <a:buChar char="-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void)webSocket:(SRWebSocket*)webSoc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dCloseWithCode:(NSInteger)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son:(NSString*)reason wasClean:(BOOL)wasC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85000"/>
              <a:buFont typeface="Times New Roman"/>
              <a:buChar char="-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04960" y="64728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1414"/>
                </a:solidFill>
                <a:latin typeface="Arial"/>
              </a:rPr>
              <a:t>Delegate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S and WebSoc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04960" y="64728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1414"/>
                </a:solidFill>
                <a:latin typeface="Arial"/>
              </a:rPr>
              <a:t>Open WebSocket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1419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"/>
          <p:cNvPicPr/>
          <p:nvPr/>
        </p:nvPicPr>
        <p:blipFill>
          <a:blip r:embed="rId2"/>
          <a:stretch/>
        </p:blipFill>
        <p:spPr>
          <a:xfrm>
            <a:off x="166680" y="3814920"/>
            <a:ext cx="5918040" cy="1968480"/>
          </a:xfrm>
          <a:prstGeom prst="rect">
            <a:avLst/>
          </a:prstGeom>
          <a:ln w="0">
            <a:noFill/>
          </a:ln>
        </p:spPr>
      </p:pic>
      <p:sp>
        <p:nvSpPr>
          <p:cNvPr id="374" name="TextBox 7"/>
          <p:cNvSpPr/>
          <p:nvPr/>
        </p:nvSpPr>
        <p:spPr>
          <a:xfrm>
            <a:off x="403200" y="11685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545"/>
                </a:solidFill>
                <a:latin typeface="Arial"/>
              </a:rPr>
              <a:t>Open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8"/>
          <p:cNvSpPr/>
          <p:nvPr/>
        </p:nvSpPr>
        <p:spPr>
          <a:xfrm>
            <a:off x="495360" y="32097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545"/>
                </a:solidFill>
                <a:latin typeface="Arial"/>
              </a:rPr>
              <a:t>Close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roi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04960" y="1252440"/>
            <a:ext cx="8229600" cy="43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bundled with Apache HTTP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bundled with a rudimentary JSON library from jso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ck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ut-of-box RES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ing Android Rest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Dr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X-RS/Jersey Client APIs on Androi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ut-of-box WebSocket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bahn Andr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roid WebSockets from CodeBu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Socket/Tyrus Client APIs on Androi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04960" y="64728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1414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ing Android Rest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69520" y="1014480"/>
            <a:ext cx="81075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636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Template restTemplate = new RestTemplat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Template.getMessageConverters().add(n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ppingJacksonHttpMessageConverter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Template.getMessageConverters().add(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HttpMessageConverter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Entity&lt;ToDoResponse&gt; respons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EntityrestTemplate.exchange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rlSt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Method.POS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HttpEntity&lt;ToDoItem&gt;(todoItem, httpHeader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DoResponse.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roid – HTTP Basic Authent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44440" y="1049400"/>
            <a:ext cx="869472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org.springframework.http.HttpAuthentic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org.springframework.http.HttpBasicAuthentic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org.springframework.http.HttpHeader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Authentication authHeader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HttpBasicAuthentication(username, passwor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Headers = new HttpHeader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Headers.setAuthorization(authHea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4960" y="26352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bahn Android WebSockets Cl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04960" y="804600"/>
            <a:ext cx="79056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9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final WebSocketConnection mConnection = new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ebSocketConnectio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Connection.connect(wsuri, new WebSocketHandler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4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Over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4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onOpe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4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Connection.sendTextMessage("Hello, world!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4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4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Over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4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onTextMessage(String payload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4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.d(TAG, "Got echo: " + payloa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4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4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Over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4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onClose(int code, String reaso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4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.d(TAG, "Connection lost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4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4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roid – SSL certs and Self-signed ce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04960" y="1088640"/>
            <a:ext cx="79056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SL certificates from established CAs requires no additiona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elf-signed SSL certs (during development or otherwise) requires some tedious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 the cert from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cert as an asset in the Androi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the cert into a CertificateFactory with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rust Manager with the self-signed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n SSL Context that uses the Trus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SSLContext as the default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RestTemplate will automatically use this new default SSLContext when communicating with HTTP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4960" y="1817280"/>
            <a:ext cx="7772400" cy="34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120000"/>
              </a:lnSpc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EE + Mobile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ractices/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Aft>
                <a:spcPts val="6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EE + Android/iOS Demo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Fire_dancer"/>
          <p:cNvPicPr/>
          <p:nvPr/>
        </p:nvPicPr>
        <p:blipFill>
          <a:blip r:embed="rId1"/>
          <a:stretch/>
        </p:blipFill>
        <p:spPr>
          <a:xfrm>
            <a:off x="1031760" y="1025640"/>
            <a:ext cx="6534360" cy="43830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1"/>
          <p:cNvSpPr/>
          <p:nvPr/>
        </p:nvSpPr>
        <p:spPr>
          <a:xfrm>
            <a:off x="1346040" y="5599080"/>
            <a:ext cx="59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github.com/m-reza-rahman/javaee-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Best Pract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4960" y="1154160"/>
            <a:ext cx="788832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 vs. Web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 for the most part, WebSocket only for full-duplex, bi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ON vs. 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SON hand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o stor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on the client, synchronize/persist on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rse grained, stateless, general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S, federated (OAuth), avoid sensitive data on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-&gt; Hybrid -&gt; HTML  5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Best Pract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04960" y="993240"/>
            <a:ext cx="8229600" cy="30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-aware of data conversion issues: encoding, data precision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unit tests for all target platfo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Java for baseline unit t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4960" y="86148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ff1414"/>
                </a:solidFill>
                <a:latin typeface="Arial"/>
              </a:rPr>
              <a:t>Tcpmon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1319040" y="1494000"/>
            <a:ext cx="684864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04960" y="1154160"/>
            <a:ext cx="788832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space dominated by Android, iOS nativ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bile client development model is still evolving, perhaps towards HTM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to server side happens via REST and Web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EE well positioned as a mobile backend, especially with JAX-RS and the Java API for Web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our demo code as a start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ome best practices to be awar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mportantly, have fu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04960" y="1154160"/>
            <a:ext cx="82296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1663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Developmen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26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aptechconsulting.com/sites/default/files/MobileWebinar_CageMatch_V7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-1663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26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etworkworld.com/news/2013/070813-iphone6-ios-marketshare-apple-android-27158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-1663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26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oracle.com/java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1663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EE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26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ocs.oracle.com/javaee/7/tutorial/doc/hom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1663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26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lassfish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26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java.net/projects/t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26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jersey.java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26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804960" y="1154160"/>
            <a:ext cx="82296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estkit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etR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orner.squareup.com/2012/02/socketrocket-websocke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bahn Andr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utobahn.ws/andr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Android Rest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rojects.spring.io/spring-androi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ech Mobil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aptechconsulting.com/services/systems-integration/mobile-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bile Platform 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804600" y="1154160"/>
            <a:ext cx="797076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ated by Google’s Android and Apple’s iOS plat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oid’s US market share is about 52% against iOS’s 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Phone is at a distanc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ce with about 4%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, Android’s market share is even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bile Development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04600" y="1023480"/>
            <a:ext cx="7970760" cy="50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 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t for a specific plat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able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-C/xCode, Java/Eclips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Web 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side apps that run in the device’s 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5, CSS3, 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Query Mobile, Sencha T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 and Adaptive Web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mostly using Mobile Web App technologies, but are executed like a native app in a native (wrapper) 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2860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Gap, ADF Mobile, IBM Worklight, AeroGear, Appcel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04960" y="328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bile Development Model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04600" y="736200"/>
            <a:ext cx="797076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 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31896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user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31896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all device/hardware capa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31896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development/maintenance will have to be done for every target mobile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Web 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31896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ultiple platforms from a singe cod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31896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barrier to entry – low learning curve, nothing to download fo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31896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evolving HTML 5 standards and inconsistent adoption/support could impact user experience and tim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31896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device capabilities (such as accelerometer) is limited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rb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31896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o target multiple platforms with a single code base, while maintaining access to device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31896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native development may still be needed and performance may also suffer sligh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601"/>
              </a:spcAft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318960">
              <a:spcAft>
                <a:spcPts val="601"/>
              </a:spcAft>
              <a:tabLst>
                <a:tab algn="l" pos="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/Server Conne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04600" y="942840"/>
            <a:ext cx="7926120" cy="48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in types – RESTful services and WebS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fu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/server communication from mobile applications commonly happens over HTTP, more often using REST styl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less, lightweight, sca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JSON  over HTTP/HTTPS. XML could be used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initiates th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supported HTTP verbs include GET, POST, PUT, and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xisting web technologies and security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supported by Java EE and GlassFish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04960" y="246240"/>
            <a:ext cx="82296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/Server Connectiv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04960" y="1161720"/>
            <a:ext cx="7759440" cy="48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s true bi-directional (full-duplex) communication over a single TCP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hand-shake over HTTP, but subsequent conversations over Web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asynchronous, extremely low-lag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ect for applications like chat and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xisting web technologies and security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by Java EE and Glass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3427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3427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34272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43080"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04960" y="3283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EE/Mob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ounded Rectangle 4"/>
          <p:cNvSpPr/>
          <p:nvPr/>
        </p:nvSpPr>
        <p:spPr>
          <a:xfrm>
            <a:off x="417600" y="4011480"/>
            <a:ext cx="3854520" cy="911520"/>
          </a:xfrm>
          <a:prstGeom prst="roundRect">
            <a:avLst>
              <a:gd name="adj" fmla="val 16667"/>
            </a:avLst>
          </a:prstGeom>
          <a:solidFill>
            <a:srgbClr val="8c9191"/>
          </a:solidFill>
          <a:ln w="9360">
            <a:solidFill>
              <a:srgbClr val="e0e0e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JB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5"/>
          <p:cNvSpPr/>
          <p:nvPr/>
        </p:nvSpPr>
        <p:spPr>
          <a:xfrm>
            <a:off x="406440" y="2970360"/>
            <a:ext cx="7086600" cy="895320"/>
          </a:xfrm>
          <a:prstGeom prst="roundRect">
            <a:avLst>
              <a:gd name="adj" fmla="val 16667"/>
            </a:avLst>
          </a:prstGeom>
          <a:solidFill>
            <a:srgbClr val="8c9191"/>
          </a:solidFill>
          <a:ln w="9360">
            <a:solidFill>
              <a:srgbClr val="e0e0e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ounded Rectangle 23"/>
          <p:cNvSpPr/>
          <p:nvPr/>
        </p:nvSpPr>
        <p:spPr>
          <a:xfrm>
            <a:off x="4311720" y="4011480"/>
            <a:ext cx="3181320" cy="911520"/>
          </a:xfrm>
          <a:prstGeom prst="roundRect">
            <a:avLst>
              <a:gd name="adj" fmla="val 16667"/>
            </a:avLst>
          </a:prstGeom>
          <a:solidFill>
            <a:srgbClr val="8c9191"/>
          </a:solidFill>
          <a:ln w="9360">
            <a:solidFill>
              <a:srgbClr val="e0e0e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ounded Rectangle 24"/>
          <p:cNvSpPr/>
          <p:nvPr/>
        </p:nvSpPr>
        <p:spPr>
          <a:xfrm>
            <a:off x="406440" y="4995720"/>
            <a:ext cx="1908000" cy="890640"/>
          </a:xfrm>
          <a:prstGeom prst="roundRect">
            <a:avLst>
              <a:gd name="adj" fmla="val 16667"/>
            </a:avLst>
          </a:prstGeom>
          <a:solidFill>
            <a:srgbClr val="8c9191"/>
          </a:solidFill>
          <a:ln w="9360">
            <a:solidFill>
              <a:srgbClr val="e0e0e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ounded Rectangle 7"/>
          <p:cNvSpPr/>
          <p:nvPr/>
        </p:nvSpPr>
        <p:spPr>
          <a:xfrm>
            <a:off x="417600" y="1955880"/>
            <a:ext cx="1896840" cy="895320"/>
          </a:xfrm>
          <a:prstGeom prst="roundRect">
            <a:avLst>
              <a:gd name="adj" fmla="val 16667"/>
            </a:avLst>
          </a:prstGeom>
          <a:solidFill>
            <a:srgbClr val="ffb500"/>
          </a:solidFill>
          <a:ln w="9360">
            <a:solidFill>
              <a:srgbClr val="e0e0e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AX-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7577280" y="1911240"/>
            <a:ext cx="1052280" cy="3990960"/>
          </a:xfrm>
          <a:custGeom>
            <a:avLst/>
            <a:gdLst>
              <a:gd name="textAreaLeft" fmla="*/ 51120 w 1052280"/>
              <a:gd name="textAreaRight" fmla="*/ 1001160 w 1052280"/>
              <a:gd name="textAreaTop" fmla="*/ 51120 h 3990960"/>
              <a:gd name="textAreaBottom" fmla="*/ 3939840 h 3990960"/>
            </a:gdLst>
            <a:ahLst/>
            <a:rect l="textAreaLeft" t="textAreaTop" r="textAreaRight" b="textAreaBottom"/>
            <a:pathLst>
              <a:path w="21600" h="81901">
                <a:moveTo>
                  <a:pt x="3600" y="0"/>
                </a:moveTo>
                <a:arcTo wR="3600" hR="3600" stAng="16200000" swAng="-5400000"/>
                <a:lnTo>
                  <a:pt x="0" y="78301"/>
                </a:lnTo>
                <a:arcTo wR="3600" hR="3600" stAng="10800000" swAng="-5400000"/>
                <a:lnTo>
                  <a:pt x="18000" y="81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c9191"/>
          </a:solidFill>
          <a:ln w="9360">
            <a:solidFill>
              <a:srgbClr val="e0e0e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an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7"/>
          <p:cNvSpPr/>
          <p:nvPr/>
        </p:nvSpPr>
        <p:spPr>
          <a:xfrm>
            <a:off x="2379600" y="1955880"/>
            <a:ext cx="1892520" cy="904680"/>
          </a:xfrm>
          <a:prstGeom prst="roundRect">
            <a:avLst>
              <a:gd name="adj" fmla="val 16667"/>
            </a:avLst>
          </a:prstGeom>
          <a:solidFill>
            <a:srgbClr val="ffb500"/>
          </a:solidFill>
          <a:ln w="9360">
            <a:solidFill>
              <a:srgbClr val="e0e0e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ava API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So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ounded Rectangle 7"/>
          <p:cNvSpPr/>
          <p:nvPr/>
        </p:nvSpPr>
        <p:spPr>
          <a:xfrm>
            <a:off x="4311720" y="1955880"/>
            <a:ext cx="1563480" cy="904680"/>
          </a:xfrm>
          <a:prstGeom prst="roundRect">
            <a:avLst>
              <a:gd name="adj" fmla="val 16667"/>
            </a:avLst>
          </a:prstGeom>
          <a:solidFill>
            <a:srgbClr val="8c9191"/>
          </a:solidFill>
          <a:ln w="9360">
            <a:solidFill>
              <a:srgbClr val="e0e0e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ava API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unded Rectangle 41"/>
          <p:cNvSpPr/>
          <p:nvPr/>
        </p:nvSpPr>
        <p:spPr>
          <a:xfrm>
            <a:off x="2379600" y="5016600"/>
            <a:ext cx="1892520" cy="885600"/>
          </a:xfrm>
          <a:prstGeom prst="roundRect">
            <a:avLst>
              <a:gd name="adj" fmla="val 16667"/>
            </a:avLst>
          </a:prstGeom>
          <a:solidFill>
            <a:srgbClr val="8c9191"/>
          </a:solidFill>
          <a:ln w="9360">
            <a:solidFill>
              <a:srgbClr val="e0e0e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43"/>
          <p:cNvSpPr/>
          <p:nvPr/>
        </p:nvSpPr>
        <p:spPr>
          <a:xfrm>
            <a:off x="4311720" y="5002200"/>
            <a:ext cx="1550880" cy="884160"/>
          </a:xfrm>
          <a:prstGeom prst="roundRect">
            <a:avLst>
              <a:gd name="adj" fmla="val 16667"/>
            </a:avLst>
          </a:prstGeom>
          <a:solidFill>
            <a:srgbClr val="8c9191"/>
          </a:solidFill>
          <a:ln w="9360">
            <a:solidFill>
              <a:srgbClr val="e0e0e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"/>
          <p:cNvSpPr/>
          <p:nvPr/>
        </p:nvSpPr>
        <p:spPr>
          <a:xfrm>
            <a:off x="468360" y="955800"/>
            <a:ext cx="8161200" cy="895320"/>
          </a:xfrm>
          <a:prstGeom prst="roundRect">
            <a:avLst>
              <a:gd name="adj" fmla="val 16667"/>
            </a:avLst>
          </a:prstGeom>
          <a:solidFill>
            <a:srgbClr val="e5e5e5"/>
          </a:solidFill>
          <a:ln w="9360">
            <a:solidFill>
              <a:srgbClr val="e0e0e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bil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ounded Rectangle 7"/>
          <p:cNvSpPr/>
          <p:nvPr/>
        </p:nvSpPr>
        <p:spPr>
          <a:xfrm>
            <a:off x="5929200" y="1957320"/>
            <a:ext cx="1563840" cy="905040"/>
          </a:xfrm>
          <a:prstGeom prst="roundRect">
            <a:avLst>
              <a:gd name="adj" fmla="val 16667"/>
            </a:avLst>
          </a:prstGeom>
          <a:solidFill>
            <a:srgbClr val="8c9191"/>
          </a:solidFill>
          <a:ln w="9360">
            <a:solidFill>
              <a:srgbClr val="e0e0e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AX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ounded Rectangle 46"/>
          <p:cNvSpPr/>
          <p:nvPr/>
        </p:nvSpPr>
        <p:spPr>
          <a:xfrm>
            <a:off x="5929200" y="5016600"/>
            <a:ext cx="1551240" cy="885600"/>
          </a:xfrm>
          <a:prstGeom prst="roundRect">
            <a:avLst>
              <a:gd name="adj" fmla="val 16667"/>
            </a:avLst>
          </a:prstGeom>
          <a:solidFill>
            <a:srgbClr val="8c9191"/>
          </a:solidFill>
          <a:ln w="9360">
            <a:solidFill>
              <a:srgbClr val="e0e0e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20:53:14Z</dcterms:created>
  <dc:creator>Duarte, Inc.</dc:creator>
  <dc:description/>
  <dc:language>en-US</dc:language>
  <cp:lastModifiedBy>Reza Rahman</cp:lastModifiedBy>
  <cp:lastPrinted>2012-08-21T21:28:08Z</cp:lastPrinted>
  <dcterms:modified xsi:type="dcterms:W3CDTF">2013-09-27T01:03:00Z</dcterms:modified>
  <cp:revision>1688</cp:revision>
  <dc:subject/>
  <dc:title>PowerPoint Presentation</dc:title>
</cp:coreProperties>
</file>