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4"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9"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3"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5"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6"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3"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4"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5"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38"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6"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151"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2"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0"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Notification</a:t>
            </a:r>
            <a:r>
              <a:rPr b="0" lang="zh-CN" sz="7200" spc="-1" strike="noStrike">
                <a:solidFill>
                  <a:srgbClr val="ffffff"/>
                </a:solidFill>
                <a:latin typeface="Chalkboard"/>
                <a:ea typeface="Heiti SC Light"/>
              </a:rPr>
              <a:t>与多线程</a:t>
            </a:r>
            <a:endParaRPr b="0" lang="en-US" sz="7200" spc="-1" strike="noStrike">
              <a:solidFill>
                <a:srgbClr val="ffffff"/>
              </a:solidFill>
              <a:latin typeface="Chalkboard"/>
            </a:endParaRPr>
          </a:p>
        </p:txBody>
      </p:sp>
      <p:sp>
        <p:nvSpPr>
          <p:cNvPr id="451" name="PlaceHolder 2"/>
          <p:cNvSpPr>
            <a:spLocks noGrp="1"/>
          </p:cNvSpPr>
          <p:nvPr>
            <p:ph/>
          </p:nvPr>
        </p:nvSpPr>
        <p:spPr>
          <a:xfrm>
            <a:off x="1269720" y="5206680"/>
            <a:ext cx="10464840" cy="146052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ea typeface="Heiti SC Light"/>
              </a:rPr>
              <a:t>Notification</a:t>
            </a:r>
            <a:r>
              <a:rPr b="0" lang="zh-CN" sz="7200" spc="-1" strike="noStrike">
                <a:solidFill>
                  <a:srgbClr val="ffffff"/>
                </a:solidFill>
                <a:latin typeface="Chalkboard"/>
                <a:ea typeface="Heiti SC Light"/>
              </a:rPr>
              <a:t>简介</a:t>
            </a:r>
            <a:endParaRPr b="0" lang="en-US" sz="7200" spc="-1" strike="noStrike">
              <a:solidFill>
                <a:srgbClr val="ffffff"/>
              </a:solidFill>
              <a:latin typeface="Chalkboard"/>
            </a:endParaRPr>
          </a:p>
        </p:txBody>
      </p:sp>
      <p:sp>
        <p:nvSpPr>
          <p:cNvPr id="45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halkboard"/>
                <a:ea typeface="Heiti SC Light"/>
              </a:rPr>
              <a:t>不同对象之间相互传递对象有以下几种方法</a:t>
            </a:r>
            <a:r>
              <a:rPr b="0" lang="en-US" sz="1800" spc="-1" strike="noStrike">
                <a:solidFill>
                  <a:srgbClr val="ffffff"/>
                </a:solidFill>
                <a:latin typeface="Chalkboard"/>
                <a:ea typeface="Heiti SC Light"/>
              </a:rPr>
              <a:t>:</a:t>
            </a:r>
            <a:endParaRPr b="0" lang="en-US" sz="18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halkboard"/>
                <a:ea typeface="Heiti SC Light"/>
              </a:rPr>
              <a:t>直接调用改对象的方法，缺点是必须有改对象实例，必须知道方法名称，只能一对一。</a:t>
            </a:r>
            <a:endParaRPr b="0" lang="en-US" sz="18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Heiti SC Light"/>
              </a:rPr>
              <a:t>delegate</a:t>
            </a:r>
            <a:r>
              <a:rPr b="0" lang="zh-CN" sz="1800" spc="-1" strike="noStrike">
                <a:solidFill>
                  <a:srgbClr val="ffffff"/>
                </a:solidFill>
                <a:latin typeface="Chalkboard"/>
                <a:ea typeface="Heiti SC Light"/>
              </a:rPr>
              <a:t>方式，必须声明协议，必须有</a:t>
            </a:r>
            <a:r>
              <a:rPr b="0" lang="en-US" sz="1800" spc="-1" strike="noStrike">
                <a:solidFill>
                  <a:srgbClr val="ffffff"/>
                </a:solidFill>
                <a:latin typeface="Chalkboard"/>
                <a:ea typeface="Heiti SC Light"/>
              </a:rPr>
              <a:t>delegate</a:t>
            </a:r>
            <a:r>
              <a:rPr b="0" lang="zh-CN" sz="1800" spc="-1" strike="noStrike">
                <a:solidFill>
                  <a:srgbClr val="ffffff"/>
                </a:solidFill>
                <a:latin typeface="Chalkboard"/>
                <a:ea typeface="Heiti SC Light"/>
              </a:rPr>
              <a:t>对象，本质上同直接调用方法是一样的。</a:t>
            </a:r>
            <a:endParaRPr b="0" lang="en-US" sz="1800" spc="-1" strike="noStrike">
              <a:solidFill>
                <a:srgbClr val="ffffff"/>
              </a:solidFill>
              <a:latin typeface="Chalkboard"/>
            </a:endParaRPr>
          </a:p>
          <a:p>
            <a:pPr marL="892080" indent="-434880">
              <a:lnSpc>
                <a:spcPct val="10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Heiti SC Light"/>
              </a:rPr>
              <a:t>block</a:t>
            </a:r>
            <a:r>
              <a:rPr b="0" lang="zh-CN" sz="1800" spc="-1" strike="noStrike">
                <a:solidFill>
                  <a:srgbClr val="ffffff"/>
                </a:solidFill>
                <a:latin typeface="Chalkboard"/>
                <a:ea typeface="Heiti SC Light"/>
              </a:rPr>
              <a:t>方式，使用较为方便，不用新建方法，不用有被调用的对象的实例，但是也只能一对一。</a:t>
            </a:r>
            <a:endParaRPr b="0" lang="en-US" sz="1800" spc="-1" strike="noStrike">
              <a:solidFill>
                <a:srgbClr val="ffffff"/>
              </a:solidFill>
              <a:latin typeface="Chalkboard"/>
            </a:endParaRPr>
          </a:p>
          <a:p>
            <a:pPr marL="892080" indent="-434880">
              <a:lnSpc>
                <a:spcPct val="10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Heiti SC Light"/>
              </a:rPr>
              <a:t>Notification</a:t>
            </a:r>
            <a:r>
              <a:rPr b="0" lang="zh-CN" sz="1800" spc="-1" strike="noStrike">
                <a:solidFill>
                  <a:srgbClr val="ffffff"/>
                </a:solidFill>
                <a:latin typeface="Chalkboard"/>
                <a:ea typeface="Heiti SC Light"/>
              </a:rPr>
              <a:t>方式，</a:t>
            </a:r>
            <a:r>
              <a:rPr b="0" lang="en-US" sz="1800" spc="-1" strike="noStrike">
                <a:solidFill>
                  <a:srgbClr val="ffffff"/>
                </a:solidFill>
                <a:latin typeface="Chalkboard"/>
                <a:ea typeface="Heiti SC Light"/>
              </a:rPr>
              <a:t>notification</a:t>
            </a:r>
            <a:r>
              <a:rPr b="0" lang="zh-CN" sz="1800" spc="-1" strike="noStrike">
                <a:solidFill>
                  <a:srgbClr val="ffffff"/>
                </a:solidFill>
                <a:latin typeface="Chalkboard"/>
                <a:ea typeface="Heiti SC Light"/>
              </a:rPr>
              <a:t>采用广播形式，一个消息发送者可以有多个消息接受者。消息接受者通过</a:t>
            </a:r>
            <a:r>
              <a:rPr b="0" lang="en-US" sz="1800" spc="-1" strike="noStrike">
                <a:solidFill>
                  <a:srgbClr val="ffffff"/>
                </a:solidFill>
                <a:latin typeface="Chalkboard"/>
                <a:ea typeface="Heiti SC Light"/>
              </a:rPr>
              <a:t>keyPath</a:t>
            </a:r>
            <a:r>
              <a:rPr b="0" lang="zh-CN" sz="1800" spc="-1" strike="noStrike">
                <a:solidFill>
                  <a:srgbClr val="ffffff"/>
                </a:solidFill>
                <a:latin typeface="Chalkboard"/>
                <a:ea typeface="Heiti SC Light"/>
              </a:rPr>
              <a:t>的方式指定需要接受的消息类型，通常在对象初始化完成以后声明开始接受消息，在对象被销毁前注销接受消息。</a:t>
            </a:r>
            <a:endParaRPr b="0" lang="en-US" sz="18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NotificationCenter</a:t>
            </a:r>
            <a:endParaRPr b="0" lang="en-US" sz="7200" spc="-1" strike="noStrike">
              <a:solidFill>
                <a:srgbClr val="ffffff"/>
              </a:solidFill>
              <a:latin typeface="Chalkboard"/>
            </a:endParaRPr>
          </a:p>
        </p:txBody>
      </p:sp>
      <p:sp>
        <p:nvSpPr>
          <p:cNvPr id="45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halkboard"/>
                <a:ea typeface="Heiti SC Light"/>
              </a:rPr>
              <a:t>消息都是通过消息中心来管理的，消息发送者把消息传递给消息中心，消息中心再传递给所有的消息接受者。</a:t>
            </a:r>
            <a:endParaRPr b="0" lang="en-US" sz="1800" spc="-1" strike="noStrike">
              <a:solidFill>
                <a:srgbClr val="ffffff"/>
              </a:solidFill>
              <a:latin typeface="Chalkboard"/>
            </a:endParaRPr>
          </a:p>
          <a:p>
            <a:pPr marL="892080" indent="-434880">
              <a:lnSpc>
                <a:spcPct val="10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Heiti SC Light"/>
              </a:rPr>
              <a:t>ios</a:t>
            </a:r>
            <a:r>
              <a:rPr b="0" lang="zh-CN" sz="1800" spc="-1" strike="noStrike">
                <a:solidFill>
                  <a:srgbClr val="ffffff"/>
                </a:solidFill>
                <a:latin typeface="Chalkboard"/>
                <a:ea typeface="Heiti SC Light"/>
              </a:rPr>
              <a:t>的系统框架定义了很多的消息类型，例如键盘弹出与隐藏，视频播放器播放完毕等等。</a:t>
            </a:r>
            <a:endParaRPr b="0" lang="en-US" sz="1800" spc="-1" strike="noStrike">
              <a:solidFill>
                <a:srgbClr val="ffffff"/>
              </a:solidFill>
              <a:latin typeface="Chalkboard"/>
            </a:endParaRPr>
          </a:p>
          <a:p>
            <a:pPr marL="892080" indent="-434880">
              <a:lnSpc>
                <a:spcPct val="10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halkboard"/>
                <a:ea typeface="Heiti SC Light"/>
              </a:rPr>
              <a:t>我们也可以自定义消息类型，使用一个字符串表示消息的名称，消息发送者和消息接受者都需要知道这个消息名称才能够发送和接受消息。正因为使用了这种模式，消息发送才能做到广播。</a:t>
            </a:r>
            <a:endParaRPr b="0" lang="en-US" sz="1800" spc="-1" strike="noStrike">
              <a:solidFill>
                <a:srgbClr val="ffffff"/>
              </a:solidFill>
              <a:latin typeface="Chalkboar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