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多线程编程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多线程使用场景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一个应用程序默认只有一个线程，图像界面交互和数据处理都会使用这个线程，所以当数据处理耗时较长时，就占有长时间占用主线程，导致用户点击页面控件无法响应，这时就需要用到多线程。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多线程长用使用场景有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Chalkboard"/>
                <a:ea typeface="Heiti SC Light"/>
              </a:rPr>
              <a:t>解析复杂数据，同时下载多个图片。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Thread</a:t>
            </a:r>
            <a:r>
              <a:rPr b="0" lang="zh-CN" sz="7200" spc="-1" strike="noStrike">
                <a:solidFill>
                  <a:srgbClr val="ffffff"/>
                </a:solidFill>
                <a:latin typeface="Chalkboard"/>
                <a:ea typeface="Heiti SC Light"/>
              </a:rPr>
              <a:t>简介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NSThread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的创建方法有三种，都需要指定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@selector,target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object,</a:t>
            </a: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即把一个方法放到线程里面调用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halkboard"/>
                <a:ea typeface="Heiti SC Light"/>
              </a:rPr>
              <a:t>第二个一个方法是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[NSThread detachNewThreadSelector:@selector(consume) toTarget:self withObject:nil];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这个方法会直接创建线程并运行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第二个方法是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NSThread *tread = [[NSThread alloc]initWithTarget:self selector:@selector(consume) object:nil];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这样可以获取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NSThread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的实例，可以再对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NSThread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设置优先级等操作，需要手动调用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start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方法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第三种就是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[self performSelectorInBackground:@selector(consume) withObject:nil];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方法中并没有提到</a:t>
            </a:r>
            <a:r>
              <a:rPr b="0" lang="en-US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NSThread</a:t>
            </a:r>
            <a:r>
              <a:rPr b="0" lang="zh-CN" sz="1800" spc="-1" strike="noStrike">
                <a:solidFill>
                  <a:srgbClr val="ffffff"/>
                </a:solidFill>
                <a:latin typeface="Menlo Regular"/>
                <a:ea typeface="Heiti SC Light"/>
              </a:rPr>
              <a:t>，但是实际上同第一个的效果一致。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