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qlit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简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是移动平台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(iphone,android)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公认的本地数据存储方法，使用一个文件来保存所有数据，可以使用基本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来操纵数据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不自带图形界面编辑工具，可以使用命令行来创建和修改表，或者使用第三方的图形界面工具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CoreData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也是把数据保存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，然后封装了一套读取数据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api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提供图形界面创建和修改表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直接使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需要引入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3.dylib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库，推荐使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FMDB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源框架来操纵数据库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直接使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易用性比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CoreData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差非常多，不自带图形界面，没有自动从表生成类的工具，查询结束后需要使用代码把数据装载进类等等，但是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某些情况下也有优势，例如需要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android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同一个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是有国际标准的，所以不同的数据库的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都很相似，只有在高级功能有不同实现，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同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oracl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等主流服务器端数据库基本一致。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打开数据库，使用命令行进入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所在文件夹，输入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3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加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名称打开数据库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3 CompanyStructure.rdb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当数据库文件不存在时，会自动创建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表和数据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create table Dept(deptid integer primary key,deptName text,desc text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带外键的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create table Person(personId integer primary key,personName text,deptid integer,foreign key(deptid) references Dept(deptid)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删除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drop table Person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新增群组数据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sert into dept values(1001,'ios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发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发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ad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应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);insert into dept values(1002,'android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发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紧跟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ios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组开发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android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应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);insert into dept values(1003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美术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美化图片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);insert into dept values(1004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运营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程序开发完成后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到论坛和微博发帖宣传应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);insert into dept values(1005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游戏开发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跨平台开发游戏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新增联系人数据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sert into Person values(100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张三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1);insert into Person values(101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李四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2);insert into Person values(102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王五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2); insert into Person values(103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赵六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3);insert into Person values(104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燕七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4);insert into Person values(105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周八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4);insert into Person values(106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王九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5);insert into Person values(107,'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刘十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',1005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查询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查询所有的部门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elect * from dept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查询所有的雇员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elect * from person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查询某一部门所有的雇员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elect * from person where deptid=(select deptid from dept where deptName like '%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美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%'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表查询，查询所有开发部门的雇员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elect p.personId,p.personName,d.deptName from person p,dept d where p.deptid=d.deptid and d.deptName like '%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发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%'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FMDB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使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需要导入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libsqlite3.0.dylib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，百分之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80%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项目都使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FMDB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来操作数据库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一般放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Document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目录下面，因为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sourc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目录是只读的，但是应用安装好以后所有资源文件都在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sourc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目录下，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Document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目录是空的，通常把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sourc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目录下的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sqlite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拷贝到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Document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目录下面使用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初始化数据库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[FMDatabase alloc]initWithPath:currentFilePath]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读取数据数据之间需要打开数据库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[appDelegate.datebase open],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读取完毕需要关闭数据库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[appDelegate.datebase open]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使用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sql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语句查询数据库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FMREsultSet *result = [appDelegate.datebase executeQuery:sqlStr]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FMResultSet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循环过程中，使用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[results stringForColumn:@”deptName”]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取出查询的字段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